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media/image3.wmf" ContentType="image/x-wmf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778625" cy="93091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4A1F7-1A04-467E-890A-BFBA4AE949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55F81-891A-4D5B-BE08-F3FDB1561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D230E-4042-4E4F-AC07-B0624F0383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64F19-A98F-4F2E-BF8F-616CE6BDEA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624BF-D46F-476F-9CAB-5684CD14CB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A5D7D-569C-4C4D-9D8F-0B24BFDB1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1E05DE-1E72-40EF-B98E-995ED3EBC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748BBD-762F-47CF-8D01-BCE6AB45A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C6DCEF-5AD3-4C79-B6B0-0272A827B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933DB-C236-4121-A02F-26AF9CD4D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347B9F-44E7-406D-9B94-9F52F71B1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2B129-C503-4412-9968-FDC38F275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3DF5B-4F0A-4BF0-950F-0F0DF692B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85740-FD23-45DC-8935-D1AD5B05C4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59F5C-76A7-457C-B801-1B228773D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75562-7021-4386-8264-F595C4C55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0B1B1-1C35-47C9-B7EC-9F9902432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6A85A-F140-49E0-AC5B-A0ABC4A72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6A526-CA15-4487-8088-81864016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905EF-D9EB-4423-A64E-9AD4B79E1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A415-D73B-4F24-8A2B-004F7A091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4DB00-B883-4466-AFFD-E729DAF00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30FB-95D7-4B4C-8C82-BBFF80AA3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4E05-383C-494A-B363-597C0F917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3DA4BF-FF9B-45F3-A1C6-1084125EE0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165800" y="76320"/>
            <a:ext cx="1913040" cy="990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43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44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ff0606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45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46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6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7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9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060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733B6E-E899-4634-8CF0-06B46AEE66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image" Target="../media/image11.png"/><Relationship Id="rId11" Type="http://schemas.openxmlformats.org/officeDocument/2006/relationships/image" Target="../media/image12.png"/><Relationship Id="rId1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 rot="8123400">
            <a:off x="3809880" y="4114440"/>
            <a:ext cx="3081600" cy="774720"/>
          </a:xfrm>
          <a:custGeom>
            <a:avLst/>
            <a:gdLst>
              <a:gd name="textAreaLeft" fmla="*/ 539280 w 3081600"/>
              <a:gd name="textAreaRight" fmla="*/ 2234160 w 3081600"/>
              <a:gd name="textAreaTop" fmla="*/ 103680 h 774720"/>
              <a:gd name="textAreaBottom" fmla="*/ 671040 h 7747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 rot="19551000">
            <a:off x="2717280" y="1793880"/>
            <a:ext cx="2268720" cy="682560"/>
          </a:xfrm>
          <a:custGeom>
            <a:avLst/>
            <a:gdLst>
              <a:gd name="textAreaLeft" fmla="*/ 397080 w 2268720"/>
              <a:gd name="textAreaRight" fmla="*/ 1644840 w 2268720"/>
              <a:gd name="textAreaTop" fmla="*/ 91440 h 682560"/>
              <a:gd name="textAreaBottom" fmla="*/ 591120 h 68256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420840" y="2378160"/>
            <a:ext cx="3084480" cy="13716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410760" y="2436840"/>
            <a:ext cx="30092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Up-to-date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ustomer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New product introd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stat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62280" y="2152800"/>
            <a:ext cx="1249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ec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ransport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4751280" y="1400040"/>
            <a:ext cx="1650960" cy="1266840"/>
          </a:xfrm>
          <a:prstGeom prst="rect">
            <a:avLst/>
          </a:prstGeom>
          <a:ln w="0">
            <a:noFill/>
          </a:ln>
        </p:spPr>
      </p:pic>
      <p:sp>
        <p:nvSpPr>
          <p:cNvPr id="106" name=""/>
          <p:cNvSpPr/>
          <p:nvPr/>
        </p:nvSpPr>
        <p:spPr>
          <a:xfrm>
            <a:off x="4724280" y="2666880"/>
            <a:ext cx="2662200" cy="1143000"/>
          </a:xfrm>
          <a:prstGeom prst="rect">
            <a:avLst/>
          </a:prstGeom>
          <a:solidFill>
            <a:srgbClr val="cbcbcb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4800600" y="2743200"/>
            <a:ext cx="2743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rket informa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oice of the customer”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rder en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600200" y="3657600"/>
            <a:ext cx="2514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990720" y="1600200"/>
            <a:ext cx="938160" cy="1295280"/>
          </a:xfrm>
          <a:prstGeom prst="rect">
            <a:avLst/>
          </a:prstGeom>
          <a:ln w="0">
            <a:noFill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2228760" y="1523880"/>
            <a:ext cx="1019160" cy="1371600"/>
          </a:xfrm>
          <a:prstGeom prst="rect">
            <a:avLst/>
          </a:prstGeom>
          <a:ln w="0">
            <a:noFill/>
          </a:ln>
        </p:spPr>
      </p:pic>
      <p:grpSp>
        <p:nvGrpSpPr>
          <p:cNvPr id="111" name=""/>
          <p:cNvGrpSpPr/>
          <p:nvPr/>
        </p:nvGrpSpPr>
        <p:grpSpPr>
          <a:xfrm>
            <a:off x="3429000" y="1523880"/>
            <a:ext cx="1015920" cy="1371600"/>
            <a:chOff x="3429000" y="1523880"/>
            <a:chExt cx="1015920" cy="1371600"/>
          </a:xfrm>
        </p:grpSpPr>
        <p:pic>
          <p:nvPicPr>
            <p:cNvPr id="112" name="" descr=""/>
            <p:cNvPicPr/>
            <p:nvPr/>
          </p:nvPicPr>
          <p:blipFill>
            <a:blip r:embed="rId3"/>
            <a:stretch/>
          </p:blipFill>
          <p:spPr>
            <a:xfrm>
              <a:off x="3429000" y="1523880"/>
              <a:ext cx="1015920" cy="13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HPY1" descr=""/>
            <p:cNvPicPr/>
            <p:nvPr/>
          </p:nvPicPr>
          <p:blipFill>
            <a:blip r:embed="rId4"/>
            <a:stretch/>
          </p:blipFill>
          <p:spPr>
            <a:xfrm>
              <a:off x="3429000" y="1579320"/>
              <a:ext cx="9784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4" name="Hpylor" descr=""/>
            <p:cNvPicPr/>
            <p:nvPr/>
          </p:nvPicPr>
          <p:blipFill>
            <a:blip r:embed="rId5"/>
            <a:stretch/>
          </p:blipFill>
          <p:spPr>
            <a:xfrm>
              <a:off x="3429000" y="1636560"/>
              <a:ext cx="940320" cy="1138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5" name=""/>
            <p:cNvSpPr/>
            <p:nvPr/>
          </p:nvSpPr>
          <p:spPr>
            <a:xfrm flipV="1">
              <a:off x="3429000" y="1528200"/>
              <a:ext cx="0" cy="1308600"/>
            </a:xfrm>
            <a:prstGeom prst="line">
              <a:avLst/>
            </a:prstGeom>
            <a:ln w="1260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6" name="" descr=""/>
          <p:cNvPicPr/>
          <p:nvPr/>
        </p:nvPicPr>
        <p:blipFill>
          <a:blip r:embed="rId6"/>
          <a:stretch/>
        </p:blipFill>
        <p:spPr>
          <a:xfrm>
            <a:off x="3657600" y="2057400"/>
            <a:ext cx="674640" cy="76212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3429000" y="3048120"/>
            <a:ext cx="1371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Sales Coa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2133720" y="3048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Product Introduc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38080" y="304812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Customer Profile Infor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0" name=""/>
          <p:cNvGrpSpPr/>
          <p:nvPr/>
        </p:nvGrpSpPr>
        <p:grpSpPr>
          <a:xfrm>
            <a:off x="4876920" y="1523880"/>
            <a:ext cx="1087200" cy="1447920"/>
            <a:chOff x="4876920" y="1523880"/>
            <a:chExt cx="1087200" cy="1447920"/>
          </a:xfrm>
        </p:grpSpPr>
        <p:graphicFrame>
          <p:nvGraphicFramePr>
            <p:cNvPr id="121" name=""/>
            <p:cNvGraphicFramePr/>
            <p:nvPr/>
          </p:nvGraphicFramePr>
          <p:xfrm>
            <a:off x="4876920" y="1523880"/>
            <a:ext cx="1087200" cy="144792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122" name="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4876920" y="1523880"/>
                      <a:ext cx="1087200" cy="14479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pic>
          <p:nvPicPr>
            <p:cNvPr id="123" name="LOAN" descr=""/>
            <p:cNvPicPr/>
            <p:nvPr/>
          </p:nvPicPr>
          <p:blipFill>
            <a:blip r:embed="rId9"/>
            <a:stretch/>
          </p:blipFill>
          <p:spPr>
            <a:xfrm>
              <a:off x="4880880" y="1584000"/>
              <a:ext cx="1041480" cy="1327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4" name=""/>
          <p:cNvSpPr/>
          <p:nvPr/>
        </p:nvSpPr>
        <p:spPr>
          <a:xfrm>
            <a:off x="4876920" y="30481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Interactive Smart For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0"/>
          <a:stretch/>
        </p:blipFill>
        <p:spPr>
          <a:xfrm>
            <a:off x="6477120" y="1600200"/>
            <a:ext cx="1828800" cy="857160"/>
          </a:xfrm>
          <a:prstGeom prst="rect">
            <a:avLst/>
          </a:prstGeom>
          <a:ln w="0">
            <a:noFill/>
          </a:ln>
        </p:spPr>
      </p:pic>
      <p:sp>
        <p:nvSpPr>
          <p:cNvPr id="126" name=""/>
          <p:cNvSpPr/>
          <p:nvPr/>
        </p:nvSpPr>
        <p:spPr>
          <a:xfrm>
            <a:off x="6553080" y="2971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Market Intelligen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1"/>
          <a:stretch/>
        </p:blipFill>
        <p:spPr>
          <a:xfrm>
            <a:off x="2057400" y="4267080"/>
            <a:ext cx="976320" cy="13716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3276720" y="449568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Arial"/>
              </a:rPr>
              <a:t>Fast &amp; Easy Customiz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1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8:48Z</dcterms:created>
  <dc:creator>Rebecca Gramstrup</dc:creator>
  <dc:description/>
  <dc:language>en-US</dc:language>
  <cp:lastModifiedBy>Tanya Candia</cp:lastModifiedBy>
  <cp:lastPrinted>1997-11-24T01:03:36Z</cp:lastPrinted>
  <dcterms:modified xsi:type="dcterms:W3CDTF">1998-01-28T19:39:34Z</dcterms:modified>
  <cp:revision>149</cp:revision>
  <dc:subject/>
  <dc:title>No Slide Title</dc:title>
</cp:coreProperties>
</file>