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0604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732280" y="209088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128016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0604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732280" y="3614400"/>
            <a:ext cx="211968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658332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1280160" y="1114920"/>
            <a:ext cx="6583320" cy="389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291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53720" y="361440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80160" y="1114920"/>
            <a:ext cx="6583320" cy="83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8016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3720" y="2090880"/>
            <a:ext cx="321264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80160" y="3614400"/>
            <a:ext cx="6583320" cy="139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" descr=""/>
          <p:cNvPicPr/>
          <p:nvPr/>
        </p:nvPicPr>
        <p:blipFill>
          <a:blip r:embed="rId1"/>
          <a:stretch/>
        </p:blipFill>
        <p:spPr>
          <a:xfrm>
            <a:off x="457200" y="380880"/>
            <a:ext cx="80773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lay Weimer</dc:creator>
  <dc:description/>
  <dc:language>en-US</dc:language>
  <cp:lastModifiedBy>Clay Weimer</cp:lastModifiedBy>
  <cp:revision>0</cp:revision>
  <dc:subject/>
  <dc:title>No Slide Title</dc:title>
</cp:coreProperties>
</file>