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6095880"/>
            <a:ext cx="9166680" cy="776880"/>
            <a:chOff x="0" y="6095880"/>
            <a:chExt cx="9166680" cy="776880"/>
          </a:xfrm>
        </p:grpSpPr>
        <p:sp>
          <p:nvSpPr>
            <p:cNvPr id="2" name=""/>
            <p:cNvSpPr/>
            <p:nvPr/>
          </p:nvSpPr>
          <p:spPr>
            <a:xfrm>
              <a:off x="0" y="6122880"/>
              <a:ext cx="9166320" cy="738360"/>
            </a:xfrm>
            <a:prstGeom prst="rect">
              <a:avLst/>
            </a:prstGeom>
            <a:gradFill rotWithShape="0">
              <a:gsLst>
                <a:gs pos="0">
                  <a:srgbClr val="ff0606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095880"/>
              <a:ext cx="9166680" cy="776880"/>
              <a:chOff x="0" y="6095880"/>
              <a:chExt cx="9166680" cy="77688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6095880"/>
                <a:ext cx="918000" cy="776520"/>
              </a:xfrm>
              <a:custGeom>
                <a:avLst/>
                <a:gdLst/>
                <a:ahLst/>
                <a:rect l="0" t="0" r="r" b="b"/>
                <a:pathLst>
                  <a:path w="2550" h="2157">
                    <a:moveTo>
                      <a:pt x="0" y="2157"/>
                    </a:moveTo>
                    <a:lnTo>
                      <a:pt x="2126" y="0"/>
                    </a:lnTo>
                    <a:lnTo>
                      <a:pt x="2550" y="0"/>
                    </a:lnTo>
                    <a:lnTo>
                      <a:pt x="424" y="2157"/>
                    </a:lnTo>
                    <a:lnTo>
                      <a:pt x="0" y="2157"/>
                    </a:lnTo>
                    <a:close/>
                  </a:path>
                </a:pathLst>
              </a:custGeom>
              <a:solidFill>
                <a:srgbClr val="ff060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89040" y="6095880"/>
                <a:ext cx="918000" cy="776520"/>
              </a:xfrm>
              <a:custGeom>
                <a:avLst/>
                <a:gdLst/>
                <a:ahLst/>
                <a:rect l="0" t="0" r="r" b="b"/>
                <a:pathLst>
                  <a:path w="2550" h="2157">
                    <a:moveTo>
                      <a:pt x="0" y="2157"/>
                    </a:moveTo>
                    <a:lnTo>
                      <a:pt x="2126" y="0"/>
                    </a:lnTo>
                    <a:lnTo>
                      <a:pt x="2550" y="0"/>
                    </a:lnTo>
                    <a:lnTo>
                      <a:pt x="424" y="2157"/>
                    </a:lnTo>
                    <a:lnTo>
                      <a:pt x="0" y="2157"/>
                    </a:lnTo>
                    <a:close/>
                  </a:path>
                </a:pathLst>
              </a:custGeom>
              <a:solidFill>
                <a:srgbClr val="ff060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395360" y="6095880"/>
                <a:ext cx="919440" cy="776520"/>
              </a:xfrm>
              <a:custGeom>
                <a:avLst/>
                <a:gdLst/>
                <a:ahLst/>
                <a:rect l="0" t="0" r="r" b="b"/>
                <a:pathLst>
                  <a:path w="2554" h="2157">
                    <a:moveTo>
                      <a:pt x="0" y="2157"/>
                    </a:moveTo>
                    <a:lnTo>
                      <a:pt x="2128" y="0"/>
                    </a:lnTo>
                    <a:lnTo>
                      <a:pt x="2554" y="0"/>
                    </a:lnTo>
                    <a:lnTo>
                      <a:pt x="425" y="2157"/>
                    </a:lnTo>
                    <a:lnTo>
                      <a:pt x="0" y="2157"/>
                    </a:lnTo>
                    <a:close/>
                  </a:path>
                </a:pathLst>
              </a:custGeom>
              <a:solidFill>
                <a:srgbClr val="ff060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103480" y="6095880"/>
                <a:ext cx="918000" cy="776520"/>
              </a:xfrm>
              <a:custGeom>
                <a:avLst/>
                <a:gdLst/>
                <a:ahLst/>
                <a:rect l="0" t="0" r="r" b="b"/>
                <a:pathLst>
                  <a:path w="2550" h="2157">
                    <a:moveTo>
                      <a:pt x="0" y="2157"/>
                    </a:moveTo>
                    <a:lnTo>
                      <a:pt x="2126" y="0"/>
                    </a:lnTo>
                    <a:lnTo>
                      <a:pt x="2550" y="0"/>
                    </a:lnTo>
                    <a:lnTo>
                      <a:pt x="424" y="2157"/>
                    </a:lnTo>
                    <a:lnTo>
                      <a:pt x="0" y="2157"/>
                    </a:lnTo>
                    <a:close/>
                  </a:path>
                </a:pathLst>
              </a:custGeom>
              <a:solidFill>
                <a:srgbClr val="ff060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2811600" y="6095880"/>
                <a:ext cx="918000" cy="776520"/>
              </a:xfrm>
              <a:custGeom>
                <a:avLst/>
                <a:gdLst/>
                <a:ahLst/>
                <a:rect l="0" t="0" r="r" b="b"/>
                <a:pathLst>
                  <a:path w="2550" h="2157">
                    <a:moveTo>
                      <a:pt x="0" y="2157"/>
                    </a:moveTo>
                    <a:lnTo>
                      <a:pt x="2126" y="0"/>
                    </a:lnTo>
                    <a:lnTo>
                      <a:pt x="2550" y="0"/>
                    </a:lnTo>
                    <a:lnTo>
                      <a:pt x="424" y="2157"/>
                    </a:lnTo>
                    <a:lnTo>
                      <a:pt x="0" y="2157"/>
                    </a:lnTo>
                    <a:close/>
                  </a:path>
                </a:pathLst>
              </a:custGeom>
              <a:solidFill>
                <a:srgbClr val="ff060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517920" y="6095880"/>
                <a:ext cx="919440" cy="776520"/>
              </a:xfrm>
              <a:custGeom>
                <a:avLst/>
                <a:gdLst/>
                <a:ahLst/>
                <a:rect l="0" t="0" r="r" b="b"/>
                <a:pathLst>
                  <a:path w="2554" h="2157">
                    <a:moveTo>
                      <a:pt x="0" y="2157"/>
                    </a:moveTo>
                    <a:lnTo>
                      <a:pt x="2128" y="0"/>
                    </a:lnTo>
                    <a:lnTo>
                      <a:pt x="2554" y="0"/>
                    </a:lnTo>
                    <a:lnTo>
                      <a:pt x="425" y="2157"/>
                    </a:lnTo>
                    <a:lnTo>
                      <a:pt x="0" y="2157"/>
                    </a:lnTo>
                    <a:close/>
                  </a:path>
                </a:pathLst>
              </a:custGeom>
              <a:solidFill>
                <a:srgbClr val="ff060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206960" y="6095880"/>
                <a:ext cx="918000" cy="776520"/>
              </a:xfrm>
              <a:custGeom>
                <a:avLst/>
                <a:gdLst/>
                <a:ahLst/>
                <a:rect l="0" t="0" r="r" b="b"/>
                <a:pathLst>
                  <a:path w="2550" h="2157">
                    <a:moveTo>
                      <a:pt x="0" y="2157"/>
                    </a:moveTo>
                    <a:lnTo>
                      <a:pt x="2126" y="0"/>
                    </a:lnTo>
                    <a:lnTo>
                      <a:pt x="2550" y="0"/>
                    </a:lnTo>
                    <a:lnTo>
                      <a:pt x="424" y="2157"/>
                    </a:lnTo>
                    <a:lnTo>
                      <a:pt x="0" y="2157"/>
                    </a:lnTo>
                    <a:close/>
                  </a:path>
                </a:pathLst>
              </a:custGeom>
              <a:solidFill>
                <a:srgbClr val="ff060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915080" y="6095880"/>
                <a:ext cx="918000" cy="776520"/>
              </a:xfrm>
              <a:custGeom>
                <a:avLst/>
                <a:gdLst/>
                <a:ahLst/>
                <a:rect l="0" t="0" r="r" b="b"/>
                <a:pathLst>
                  <a:path w="2550" h="2157">
                    <a:moveTo>
                      <a:pt x="0" y="2157"/>
                    </a:moveTo>
                    <a:lnTo>
                      <a:pt x="2126" y="0"/>
                    </a:lnTo>
                    <a:lnTo>
                      <a:pt x="2550" y="0"/>
                    </a:lnTo>
                    <a:lnTo>
                      <a:pt x="424" y="2157"/>
                    </a:lnTo>
                    <a:lnTo>
                      <a:pt x="0" y="2157"/>
                    </a:lnTo>
                    <a:close/>
                  </a:path>
                </a:pathLst>
              </a:custGeom>
              <a:solidFill>
                <a:srgbClr val="ff060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41920" y="6095880"/>
                <a:ext cx="918000" cy="776520"/>
              </a:xfrm>
              <a:custGeom>
                <a:avLst/>
                <a:gdLst/>
                <a:ahLst/>
                <a:rect l="0" t="0" r="r" b="b"/>
                <a:pathLst>
                  <a:path w="2550" h="2157">
                    <a:moveTo>
                      <a:pt x="0" y="2157"/>
                    </a:moveTo>
                    <a:lnTo>
                      <a:pt x="2126" y="0"/>
                    </a:lnTo>
                    <a:lnTo>
                      <a:pt x="2550" y="0"/>
                    </a:lnTo>
                    <a:lnTo>
                      <a:pt x="424" y="2157"/>
                    </a:lnTo>
                    <a:lnTo>
                      <a:pt x="0" y="2157"/>
                    </a:lnTo>
                    <a:close/>
                  </a:path>
                </a:pathLst>
              </a:custGeom>
              <a:solidFill>
                <a:srgbClr val="ff060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367320" y="6095880"/>
                <a:ext cx="918000" cy="776520"/>
              </a:xfrm>
              <a:custGeom>
                <a:avLst/>
                <a:gdLst/>
                <a:ahLst/>
                <a:rect l="0" t="0" r="r" b="b"/>
                <a:pathLst>
                  <a:path w="2550" h="2157">
                    <a:moveTo>
                      <a:pt x="0" y="2157"/>
                    </a:moveTo>
                    <a:lnTo>
                      <a:pt x="2126" y="0"/>
                    </a:lnTo>
                    <a:lnTo>
                      <a:pt x="2550" y="0"/>
                    </a:lnTo>
                    <a:lnTo>
                      <a:pt x="424" y="2157"/>
                    </a:lnTo>
                    <a:lnTo>
                      <a:pt x="0" y="2157"/>
                    </a:lnTo>
                    <a:close/>
                  </a:path>
                </a:pathLst>
              </a:custGeom>
              <a:solidFill>
                <a:srgbClr val="ff060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113600" y="6095880"/>
                <a:ext cx="918000" cy="776520"/>
              </a:xfrm>
              <a:custGeom>
                <a:avLst/>
                <a:gdLst/>
                <a:ahLst/>
                <a:rect l="0" t="0" r="r" b="b"/>
                <a:pathLst>
                  <a:path w="2550" h="2157">
                    <a:moveTo>
                      <a:pt x="0" y="2157"/>
                    </a:moveTo>
                    <a:lnTo>
                      <a:pt x="2126" y="0"/>
                    </a:lnTo>
                    <a:lnTo>
                      <a:pt x="2550" y="0"/>
                    </a:lnTo>
                    <a:lnTo>
                      <a:pt x="424" y="2157"/>
                    </a:lnTo>
                    <a:lnTo>
                      <a:pt x="0" y="2157"/>
                    </a:lnTo>
                    <a:close/>
                  </a:path>
                </a:pathLst>
              </a:custGeom>
              <a:solidFill>
                <a:srgbClr val="ff060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840800" y="6095880"/>
                <a:ext cx="918000" cy="776520"/>
              </a:xfrm>
              <a:custGeom>
                <a:avLst/>
                <a:gdLst/>
                <a:ahLst/>
                <a:rect l="0" t="0" r="r" b="b"/>
                <a:pathLst>
                  <a:path w="2550" h="2157">
                    <a:moveTo>
                      <a:pt x="0" y="2157"/>
                    </a:moveTo>
                    <a:lnTo>
                      <a:pt x="2126" y="0"/>
                    </a:lnTo>
                    <a:lnTo>
                      <a:pt x="2550" y="0"/>
                    </a:lnTo>
                    <a:lnTo>
                      <a:pt x="424" y="2157"/>
                    </a:lnTo>
                    <a:lnTo>
                      <a:pt x="0" y="2157"/>
                    </a:lnTo>
                    <a:close/>
                  </a:path>
                </a:pathLst>
              </a:custGeom>
              <a:solidFill>
                <a:srgbClr val="ff060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8593200" y="6294600"/>
                <a:ext cx="573480" cy="578160"/>
              </a:xfrm>
              <a:custGeom>
                <a:avLst/>
                <a:gdLst/>
                <a:ahLst/>
                <a:rect l="0" t="0" r="r" b="b"/>
                <a:pathLst>
                  <a:path w="1593" h="1606">
                    <a:moveTo>
                      <a:pt x="0" y="1606"/>
                    </a:moveTo>
                    <a:lnTo>
                      <a:pt x="1593" y="0"/>
                    </a:lnTo>
                    <a:lnTo>
                      <a:pt x="1593" y="391"/>
                    </a:lnTo>
                    <a:lnTo>
                      <a:pt x="425" y="1606"/>
                    </a:lnTo>
                    <a:lnTo>
                      <a:pt x="0" y="1606"/>
                    </a:lnTo>
                    <a:close/>
                  </a:path>
                </a:pathLst>
              </a:custGeom>
              <a:solidFill>
                <a:srgbClr val="ff0606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7" name="" descr=""/>
          <p:cNvPicPr/>
          <p:nvPr/>
        </p:nvPicPr>
        <p:blipFill>
          <a:blip r:embed="rId2"/>
          <a:stretch/>
        </p:blipFill>
        <p:spPr>
          <a:xfrm>
            <a:off x="7165800" y="76320"/>
            <a:ext cx="1900080" cy="1065240"/>
          </a:xfrm>
          <a:prstGeom prst="rect">
            <a:avLst/>
          </a:prstGeom>
          <a:ln w="0">
            <a:noFill/>
          </a:ln>
        </p:spPr>
      </p:pic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0" y="2760840"/>
            <a:ext cx="9150840" cy="4111920"/>
            <a:chOff x="0" y="2760840"/>
            <a:chExt cx="9150840" cy="4111920"/>
          </a:xfrm>
        </p:grpSpPr>
        <p:grpSp>
          <p:nvGrpSpPr>
            <p:cNvPr id="58" name=""/>
            <p:cNvGrpSpPr/>
            <p:nvPr/>
          </p:nvGrpSpPr>
          <p:grpSpPr>
            <a:xfrm>
              <a:off x="0" y="5797440"/>
              <a:ext cx="9150840" cy="1075320"/>
              <a:chOff x="0" y="5797440"/>
              <a:chExt cx="9150840" cy="1075320"/>
            </a:xfrm>
          </p:grpSpPr>
          <p:sp>
            <p:nvSpPr>
              <p:cNvPr id="59" name=""/>
              <p:cNvSpPr/>
              <p:nvPr/>
            </p:nvSpPr>
            <p:spPr>
              <a:xfrm>
                <a:off x="0" y="5835600"/>
                <a:ext cx="9150480" cy="1020600"/>
              </a:xfrm>
              <a:prstGeom prst="rect">
                <a:avLst/>
              </a:prstGeom>
              <a:gradFill rotWithShape="0">
                <a:gsLst>
                  <a:gs pos="0">
                    <a:srgbClr val="ff0606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0" y="5797440"/>
                <a:ext cx="9150840" cy="1075320"/>
                <a:chOff x="0" y="5797440"/>
                <a:chExt cx="9150840" cy="10753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0" y="5797440"/>
                  <a:ext cx="916200" cy="1074960"/>
                </a:xfrm>
                <a:custGeom>
                  <a:avLst/>
                  <a:gdLst/>
                  <a:ahLst/>
                  <a:rect l="0" t="0" r="r" b="b"/>
                  <a:pathLst>
                    <a:path w="2545" h="2986">
                      <a:moveTo>
                        <a:pt x="0" y="2986"/>
                      </a:moveTo>
                      <a:lnTo>
                        <a:pt x="2121" y="0"/>
                      </a:lnTo>
                      <a:lnTo>
                        <a:pt x="2545" y="0"/>
                      </a:lnTo>
                      <a:lnTo>
                        <a:pt x="424" y="2986"/>
                      </a:lnTo>
                      <a:lnTo>
                        <a:pt x="0" y="2986"/>
                      </a:lnTo>
                      <a:close/>
                    </a:path>
                  </a:pathLst>
                </a:custGeom>
                <a:solidFill>
                  <a:srgbClr val="ff0606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687240" y="5797440"/>
                  <a:ext cx="916200" cy="1074960"/>
                </a:xfrm>
                <a:custGeom>
                  <a:avLst/>
                  <a:gdLst/>
                  <a:ahLst/>
                  <a:rect l="0" t="0" r="r" b="b"/>
                  <a:pathLst>
                    <a:path w="2545" h="2986">
                      <a:moveTo>
                        <a:pt x="0" y="2986"/>
                      </a:moveTo>
                      <a:lnTo>
                        <a:pt x="2121" y="0"/>
                      </a:lnTo>
                      <a:lnTo>
                        <a:pt x="2545" y="0"/>
                      </a:lnTo>
                      <a:lnTo>
                        <a:pt x="424" y="2986"/>
                      </a:lnTo>
                      <a:lnTo>
                        <a:pt x="0" y="2986"/>
                      </a:lnTo>
                      <a:close/>
                    </a:path>
                  </a:pathLst>
                </a:custGeom>
                <a:solidFill>
                  <a:srgbClr val="ff0606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1393920" y="5797440"/>
                  <a:ext cx="916200" cy="1074960"/>
                </a:xfrm>
                <a:custGeom>
                  <a:avLst/>
                  <a:gdLst/>
                  <a:ahLst/>
                  <a:rect l="0" t="0" r="r" b="b"/>
                  <a:pathLst>
                    <a:path w="2545" h="2986">
                      <a:moveTo>
                        <a:pt x="0" y="2986"/>
                      </a:moveTo>
                      <a:lnTo>
                        <a:pt x="2121" y="0"/>
                      </a:lnTo>
                      <a:lnTo>
                        <a:pt x="2545" y="0"/>
                      </a:lnTo>
                      <a:lnTo>
                        <a:pt x="424" y="2986"/>
                      </a:lnTo>
                      <a:lnTo>
                        <a:pt x="0" y="2986"/>
                      </a:lnTo>
                      <a:close/>
                    </a:path>
                  </a:pathLst>
                </a:custGeom>
                <a:solidFill>
                  <a:srgbClr val="ff0606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2100240" y="5797440"/>
                  <a:ext cx="916200" cy="1074960"/>
                </a:xfrm>
                <a:custGeom>
                  <a:avLst/>
                  <a:gdLst/>
                  <a:ahLst/>
                  <a:rect l="0" t="0" r="r" b="b"/>
                  <a:pathLst>
                    <a:path w="2545" h="2986">
                      <a:moveTo>
                        <a:pt x="0" y="2986"/>
                      </a:moveTo>
                      <a:lnTo>
                        <a:pt x="2121" y="0"/>
                      </a:lnTo>
                      <a:lnTo>
                        <a:pt x="2545" y="0"/>
                      </a:lnTo>
                      <a:lnTo>
                        <a:pt x="424" y="2986"/>
                      </a:lnTo>
                      <a:lnTo>
                        <a:pt x="0" y="2986"/>
                      </a:lnTo>
                      <a:close/>
                    </a:path>
                  </a:pathLst>
                </a:custGeom>
                <a:solidFill>
                  <a:srgbClr val="ff0606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806560" y="5797440"/>
                  <a:ext cx="916200" cy="1074960"/>
                </a:xfrm>
                <a:custGeom>
                  <a:avLst/>
                  <a:gdLst/>
                  <a:ahLst/>
                  <a:rect l="0" t="0" r="r" b="b"/>
                  <a:pathLst>
                    <a:path w="2545" h="2986">
                      <a:moveTo>
                        <a:pt x="0" y="2986"/>
                      </a:moveTo>
                      <a:lnTo>
                        <a:pt x="2121" y="0"/>
                      </a:lnTo>
                      <a:lnTo>
                        <a:pt x="2545" y="0"/>
                      </a:lnTo>
                      <a:lnTo>
                        <a:pt x="424" y="2986"/>
                      </a:lnTo>
                      <a:lnTo>
                        <a:pt x="0" y="2986"/>
                      </a:lnTo>
                      <a:close/>
                    </a:path>
                  </a:pathLst>
                </a:custGeom>
                <a:solidFill>
                  <a:srgbClr val="ff0606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3513240" y="5797440"/>
                  <a:ext cx="916200" cy="1074960"/>
                </a:xfrm>
                <a:custGeom>
                  <a:avLst/>
                  <a:gdLst/>
                  <a:ahLst/>
                  <a:rect l="0" t="0" r="r" b="b"/>
                  <a:pathLst>
                    <a:path w="2545" h="2986">
                      <a:moveTo>
                        <a:pt x="0" y="2986"/>
                      </a:moveTo>
                      <a:lnTo>
                        <a:pt x="2121" y="0"/>
                      </a:lnTo>
                      <a:lnTo>
                        <a:pt x="2545" y="0"/>
                      </a:lnTo>
                      <a:lnTo>
                        <a:pt x="424" y="2986"/>
                      </a:lnTo>
                      <a:lnTo>
                        <a:pt x="0" y="2986"/>
                      </a:lnTo>
                      <a:close/>
                    </a:path>
                  </a:pathLst>
                </a:custGeom>
                <a:solidFill>
                  <a:srgbClr val="ff0606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4200480" y="5797440"/>
                  <a:ext cx="916200" cy="1074960"/>
                </a:xfrm>
                <a:custGeom>
                  <a:avLst/>
                  <a:gdLst/>
                  <a:ahLst/>
                  <a:rect l="0" t="0" r="r" b="b"/>
                  <a:pathLst>
                    <a:path w="2545" h="2986">
                      <a:moveTo>
                        <a:pt x="0" y="2986"/>
                      </a:moveTo>
                      <a:lnTo>
                        <a:pt x="2121" y="0"/>
                      </a:lnTo>
                      <a:lnTo>
                        <a:pt x="2545" y="0"/>
                      </a:lnTo>
                      <a:lnTo>
                        <a:pt x="424" y="2986"/>
                      </a:lnTo>
                      <a:lnTo>
                        <a:pt x="0" y="2986"/>
                      </a:lnTo>
                      <a:close/>
                    </a:path>
                  </a:pathLst>
                </a:custGeom>
                <a:solidFill>
                  <a:srgbClr val="ff0606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4905360" y="5797440"/>
                  <a:ext cx="918000" cy="1074960"/>
                </a:xfrm>
                <a:custGeom>
                  <a:avLst/>
                  <a:gdLst/>
                  <a:ahLst/>
                  <a:rect l="0" t="0" r="r" b="b"/>
                  <a:pathLst>
                    <a:path w="2550" h="2986">
                      <a:moveTo>
                        <a:pt x="0" y="2986"/>
                      </a:moveTo>
                      <a:lnTo>
                        <a:pt x="2126" y="0"/>
                      </a:lnTo>
                      <a:lnTo>
                        <a:pt x="2550" y="0"/>
                      </a:lnTo>
                      <a:lnTo>
                        <a:pt x="424" y="2986"/>
                      </a:lnTo>
                      <a:lnTo>
                        <a:pt x="0" y="2986"/>
                      </a:lnTo>
                      <a:close/>
                    </a:path>
                  </a:pathLst>
                </a:custGeom>
                <a:solidFill>
                  <a:srgbClr val="ff0606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5630760" y="5797440"/>
                  <a:ext cx="918000" cy="1074960"/>
                </a:xfrm>
                <a:custGeom>
                  <a:avLst/>
                  <a:gdLst/>
                  <a:ahLst/>
                  <a:rect l="0" t="0" r="r" b="b"/>
                  <a:pathLst>
                    <a:path w="2550" h="2986">
                      <a:moveTo>
                        <a:pt x="0" y="2986"/>
                      </a:moveTo>
                      <a:lnTo>
                        <a:pt x="2126" y="0"/>
                      </a:lnTo>
                      <a:lnTo>
                        <a:pt x="2550" y="0"/>
                      </a:lnTo>
                      <a:lnTo>
                        <a:pt x="424" y="2986"/>
                      </a:lnTo>
                      <a:lnTo>
                        <a:pt x="0" y="2986"/>
                      </a:lnTo>
                      <a:close/>
                    </a:path>
                  </a:pathLst>
                </a:custGeom>
                <a:solidFill>
                  <a:srgbClr val="ff0606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6356520" y="5797440"/>
                  <a:ext cx="918000" cy="1074960"/>
                </a:xfrm>
                <a:custGeom>
                  <a:avLst/>
                  <a:gdLst/>
                  <a:ahLst/>
                  <a:rect l="0" t="0" r="r" b="b"/>
                  <a:pathLst>
                    <a:path w="2550" h="2986">
                      <a:moveTo>
                        <a:pt x="0" y="2986"/>
                      </a:moveTo>
                      <a:lnTo>
                        <a:pt x="2126" y="0"/>
                      </a:lnTo>
                      <a:lnTo>
                        <a:pt x="2550" y="0"/>
                      </a:lnTo>
                      <a:lnTo>
                        <a:pt x="424" y="2986"/>
                      </a:lnTo>
                      <a:lnTo>
                        <a:pt x="0" y="2986"/>
                      </a:lnTo>
                      <a:close/>
                    </a:path>
                  </a:pathLst>
                </a:custGeom>
                <a:solidFill>
                  <a:srgbClr val="ff0606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7101000" y="5797440"/>
                  <a:ext cx="918000" cy="1074960"/>
                </a:xfrm>
                <a:custGeom>
                  <a:avLst/>
                  <a:gdLst/>
                  <a:ahLst/>
                  <a:rect l="0" t="0" r="r" b="b"/>
                  <a:pathLst>
                    <a:path w="2550" h="2986">
                      <a:moveTo>
                        <a:pt x="0" y="2986"/>
                      </a:moveTo>
                      <a:lnTo>
                        <a:pt x="2126" y="0"/>
                      </a:lnTo>
                      <a:lnTo>
                        <a:pt x="2550" y="0"/>
                      </a:lnTo>
                      <a:lnTo>
                        <a:pt x="424" y="2986"/>
                      </a:lnTo>
                      <a:lnTo>
                        <a:pt x="0" y="2986"/>
                      </a:lnTo>
                      <a:close/>
                    </a:path>
                  </a:pathLst>
                </a:custGeom>
                <a:solidFill>
                  <a:srgbClr val="ff0606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826400" y="5797440"/>
                  <a:ext cx="916200" cy="1074960"/>
                </a:xfrm>
                <a:custGeom>
                  <a:avLst/>
                  <a:gdLst/>
                  <a:ahLst/>
                  <a:rect l="0" t="0" r="r" b="b"/>
                  <a:pathLst>
                    <a:path w="2545" h="2986">
                      <a:moveTo>
                        <a:pt x="0" y="2986"/>
                      </a:moveTo>
                      <a:lnTo>
                        <a:pt x="2121" y="0"/>
                      </a:lnTo>
                      <a:lnTo>
                        <a:pt x="2545" y="0"/>
                      </a:lnTo>
                      <a:lnTo>
                        <a:pt x="424" y="2986"/>
                      </a:lnTo>
                      <a:lnTo>
                        <a:pt x="0" y="2986"/>
                      </a:lnTo>
                      <a:close/>
                    </a:path>
                  </a:pathLst>
                </a:custGeom>
                <a:solidFill>
                  <a:srgbClr val="ff0606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8577360" y="6072120"/>
                  <a:ext cx="573480" cy="800640"/>
                </a:xfrm>
                <a:custGeom>
                  <a:avLst/>
                  <a:gdLst/>
                  <a:ahLst/>
                  <a:rect l="0" t="0" r="r" b="b"/>
                  <a:pathLst>
                    <a:path w="1593" h="2224">
                      <a:moveTo>
                        <a:pt x="0" y="2224"/>
                      </a:moveTo>
                      <a:lnTo>
                        <a:pt x="1593" y="0"/>
                      </a:lnTo>
                      <a:lnTo>
                        <a:pt x="1593" y="542"/>
                      </a:lnTo>
                      <a:lnTo>
                        <a:pt x="425" y="2224"/>
                      </a:lnTo>
                      <a:lnTo>
                        <a:pt x="0" y="2224"/>
                      </a:lnTo>
                      <a:close/>
                    </a:path>
                  </a:pathLst>
                </a:custGeom>
                <a:solidFill>
                  <a:srgbClr val="ff0606"/>
                </a:solidFill>
                <a:ln w="0">
                  <a:noFill/>
                </a:ln>
              </p:spPr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74" name=""/>
            <p:cNvSpPr/>
            <p:nvPr/>
          </p:nvSpPr>
          <p:spPr>
            <a:xfrm>
              <a:off x="0" y="2760840"/>
              <a:ext cx="817920" cy="1448280"/>
            </a:xfrm>
            <a:custGeom>
              <a:avLst/>
              <a:gdLst/>
              <a:ahLst/>
              <a:rect l="0" t="0" r="r" b="b"/>
              <a:pathLst>
                <a:path w="2272" h="4023">
                  <a:moveTo>
                    <a:pt x="0" y="0"/>
                  </a:moveTo>
                  <a:lnTo>
                    <a:pt x="2272" y="0"/>
                  </a:lnTo>
                  <a:lnTo>
                    <a:pt x="0" y="4023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0606"/>
                </a:gs>
                <a:gs pos="100000">
                  <a:srgbClr val="969696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6080" y="58680"/>
            <a:ext cx="698328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4" name=""/>
          <p:cNvGrpSpPr/>
          <p:nvPr/>
        </p:nvGrpSpPr>
        <p:grpSpPr>
          <a:xfrm>
            <a:off x="1797120" y="609480"/>
            <a:ext cx="5747040" cy="4756680"/>
            <a:chOff x="1797120" y="609480"/>
            <a:chExt cx="5747040" cy="4756680"/>
          </a:xfrm>
        </p:grpSpPr>
        <p:sp>
          <p:nvSpPr>
            <p:cNvPr id="485" name=""/>
            <p:cNvSpPr/>
            <p:nvPr/>
          </p:nvSpPr>
          <p:spPr>
            <a:xfrm>
              <a:off x="6411960" y="3827520"/>
              <a:ext cx="1132200" cy="1538640"/>
            </a:xfrm>
            <a:custGeom>
              <a:avLst/>
              <a:gdLst/>
              <a:ahLst/>
              <a:rect l="0" t="0" r="r" b="b"/>
              <a:pathLst>
                <a:path w="3145" h="4274">
                  <a:moveTo>
                    <a:pt x="1604" y="4274"/>
                  </a:moveTo>
                  <a:lnTo>
                    <a:pt x="0" y="1498"/>
                  </a:lnTo>
                  <a:lnTo>
                    <a:pt x="1177" y="0"/>
                  </a:lnTo>
                  <a:lnTo>
                    <a:pt x="3145" y="2358"/>
                  </a:lnTo>
                  <a:lnTo>
                    <a:pt x="1604" y="4274"/>
                  </a:lnTo>
                  <a:close/>
                </a:path>
              </a:pathLst>
            </a:custGeom>
            <a:gradFill rotWithShape="0">
              <a:gsLst>
                <a:gs pos="0">
                  <a:srgbClr val="ff5f7f"/>
                </a:gs>
                <a:gs pos="100000">
                  <a:srgbClr val="ff0606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367000" y="3827520"/>
              <a:ext cx="4469040" cy="545040"/>
            </a:xfrm>
            <a:custGeom>
              <a:avLst/>
              <a:gdLst/>
              <a:ahLst/>
              <a:rect l="0" t="0" r="r" b="b"/>
              <a:pathLst>
                <a:path w="12414" h="1514">
                  <a:moveTo>
                    <a:pt x="0" y="1514"/>
                  </a:moveTo>
                  <a:lnTo>
                    <a:pt x="11247" y="1514"/>
                  </a:lnTo>
                  <a:lnTo>
                    <a:pt x="12414" y="0"/>
                  </a:lnTo>
                  <a:lnTo>
                    <a:pt x="2219" y="8"/>
                  </a:lnTo>
                  <a:lnTo>
                    <a:pt x="0" y="1514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1797120" y="4365720"/>
              <a:ext cx="5191560" cy="1000440"/>
            </a:xfrm>
            <a:custGeom>
              <a:avLst/>
              <a:gdLst/>
              <a:ahLst/>
              <a:rect l="0" t="0" r="r" b="b"/>
              <a:pathLst>
                <a:path w="14421" h="2779">
                  <a:moveTo>
                    <a:pt x="0" y="2779"/>
                  </a:moveTo>
                  <a:lnTo>
                    <a:pt x="14421" y="2779"/>
                  </a:lnTo>
                  <a:lnTo>
                    <a:pt x="12821" y="0"/>
                  </a:lnTo>
                  <a:lnTo>
                    <a:pt x="1582" y="0"/>
                  </a:lnTo>
                  <a:lnTo>
                    <a:pt x="0" y="2779"/>
                  </a:lnTo>
                  <a:close/>
                </a:path>
              </a:pathLst>
            </a:custGeom>
            <a:gradFill rotWithShape="0">
              <a:gsLst>
                <a:gs pos="0">
                  <a:srgbClr val="ff001f"/>
                </a:gs>
                <a:gs pos="100000">
                  <a:srgbClr val="ff0606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743440" y="2881440"/>
              <a:ext cx="986040" cy="1329120"/>
            </a:xfrm>
            <a:custGeom>
              <a:avLst/>
              <a:gdLst/>
              <a:ahLst/>
              <a:rect l="0" t="0" r="r" b="b"/>
              <a:pathLst>
                <a:path w="2739" h="3692">
                  <a:moveTo>
                    <a:pt x="0" y="1004"/>
                  </a:moveTo>
                  <a:lnTo>
                    <a:pt x="1622" y="3692"/>
                  </a:lnTo>
                  <a:lnTo>
                    <a:pt x="2739" y="2314"/>
                  </a:lnTo>
                  <a:lnTo>
                    <a:pt x="788" y="0"/>
                  </a:lnTo>
                  <a:lnTo>
                    <a:pt x="0" y="1004"/>
                  </a:lnTo>
                  <a:close/>
                </a:path>
              </a:pathLst>
            </a:custGeom>
            <a:solidFill>
              <a:srgbClr val="bf5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040200" y="2881440"/>
              <a:ext cx="2984760" cy="352800"/>
            </a:xfrm>
            <a:custGeom>
              <a:avLst/>
              <a:gdLst/>
              <a:ahLst/>
              <a:rect l="0" t="0" r="r" b="b"/>
              <a:pathLst>
                <a:path w="8291" h="980">
                  <a:moveTo>
                    <a:pt x="0" y="980"/>
                  </a:moveTo>
                  <a:lnTo>
                    <a:pt x="7504" y="980"/>
                  </a:lnTo>
                  <a:lnTo>
                    <a:pt x="8291" y="0"/>
                  </a:lnTo>
                  <a:lnTo>
                    <a:pt x="2094" y="0"/>
                  </a:lnTo>
                  <a:lnTo>
                    <a:pt x="0" y="980"/>
                  </a:lnTo>
                  <a:close/>
                </a:path>
              </a:pathLst>
            </a:custGeom>
            <a:solidFill>
              <a:srgbClr val="5f009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2460600" y="3233880"/>
              <a:ext cx="3872160" cy="978120"/>
            </a:xfrm>
            <a:custGeom>
              <a:avLst/>
              <a:gdLst/>
              <a:ahLst/>
              <a:rect l="0" t="0" r="r" b="b"/>
              <a:pathLst>
                <a:path w="10756" h="2717">
                  <a:moveTo>
                    <a:pt x="0" y="2717"/>
                  </a:moveTo>
                  <a:lnTo>
                    <a:pt x="10756" y="2717"/>
                  </a:lnTo>
                  <a:lnTo>
                    <a:pt x="9126" y="0"/>
                  </a:lnTo>
                  <a:lnTo>
                    <a:pt x="1603" y="0"/>
                  </a:lnTo>
                  <a:lnTo>
                    <a:pt x="0" y="2717"/>
                  </a:lnTo>
                  <a:close/>
                </a:path>
              </a:pathLst>
            </a:custGeom>
            <a:gradFill rotWithShape="0">
              <a:gsLst>
                <a:gs pos="0">
                  <a:srgbClr val="9f3fdf"/>
                </a:gs>
                <a:gs pos="100000">
                  <a:srgbClr val="ff0606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1" name=""/>
            <p:cNvGrpSpPr/>
            <p:nvPr/>
          </p:nvGrpSpPr>
          <p:grpSpPr>
            <a:xfrm>
              <a:off x="3137040" y="1908000"/>
              <a:ext cx="2781720" cy="1172160"/>
              <a:chOff x="3137040" y="1908000"/>
              <a:chExt cx="2781720" cy="1172160"/>
            </a:xfrm>
          </p:grpSpPr>
          <p:sp>
            <p:nvSpPr>
              <p:cNvPr id="492" name=""/>
              <p:cNvSpPr/>
              <p:nvPr/>
            </p:nvSpPr>
            <p:spPr>
              <a:xfrm>
                <a:off x="5070600" y="1913040"/>
                <a:ext cx="848160" cy="1167120"/>
              </a:xfrm>
              <a:custGeom>
                <a:avLst/>
                <a:gdLst/>
                <a:ahLst/>
                <a:rect l="0" t="0" r="r" b="b"/>
                <a:pathLst>
                  <a:path w="2356" h="3242">
                    <a:moveTo>
                      <a:pt x="1612" y="3242"/>
                    </a:moveTo>
                    <a:lnTo>
                      <a:pt x="2356" y="2312"/>
                    </a:lnTo>
                    <a:lnTo>
                      <a:pt x="407" y="0"/>
                    </a:lnTo>
                    <a:lnTo>
                      <a:pt x="0" y="486"/>
                    </a:lnTo>
                    <a:lnTo>
                      <a:pt x="1612" y="3242"/>
                    </a:lnTo>
                    <a:close/>
                  </a:path>
                </a:pathLst>
              </a:custGeom>
              <a:solidFill>
                <a:srgbClr val="ff9f7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724200" y="1908000"/>
                <a:ext cx="1486440" cy="174960"/>
              </a:xfrm>
              <a:custGeom>
                <a:avLst/>
                <a:gdLst/>
                <a:ahLst/>
                <a:rect l="0" t="0" r="r" b="b"/>
                <a:pathLst>
                  <a:path w="4129" h="486">
                    <a:moveTo>
                      <a:pt x="0" y="486"/>
                    </a:moveTo>
                    <a:lnTo>
                      <a:pt x="3723" y="486"/>
                    </a:lnTo>
                    <a:lnTo>
                      <a:pt x="4129" y="0"/>
                    </a:lnTo>
                    <a:lnTo>
                      <a:pt x="1288" y="0"/>
                    </a:lnTo>
                    <a:lnTo>
                      <a:pt x="0" y="486"/>
                    </a:lnTo>
                    <a:close/>
                  </a:path>
                </a:pathLst>
              </a:custGeom>
              <a:solidFill>
                <a:srgbClr val="bf3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137040" y="2082960"/>
                <a:ext cx="2511720" cy="997200"/>
              </a:xfrm>
              <a:custGeom>
                <a:avLst/>
                <a:gdLst/>
                <a:ahLst/>
                <a:rect l="0" t="0" r="r" b="b"/>
                <a:pathLst>
                  <a:path w="6977" h="2770">
                    <a:moveTo>
                      <a:pt x="0" y="2770"/>
                    </a:moveTo>
                    <a:lnTo>
                      <a:pt x="6977" y="2770"/>
                    </a:lnTo>
                    <a:lnTo>
                      <a:pt x="5359" y="0"/>
                    </a:lnTo>
                    <a:lnTo>
                      <a:pt x="1618" y="0"/>
                    </a:lnTo>
                    <a:lnTo>
                      <a:pt x="0" y="2770"/>
                    </a:lnTo>
                    <a:close/>
                  </a:path>
                </a:pathLst>
              </a:custGeom>
              <a:solidFill>
                <a:srgbClr val="ff5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3811680" y="946080"/>
              <a:ext cx="1293840" cy="989280"/>
              <a:chOff x="3811680" y="946080"/>
              <a:chExt cx="1293840" cy="989280"/>
            </a:xfrm>
          </p:grpSpPr>
          <p:sp>
            <p:nvSpPr>
              <p:cNvPr id="496" name=""/>
              <p:cNvSpPr/>
              <p:nvPr/>
            </p:nvSpPr>
            <p:spPr>
              <a:xfrm>
                <a:off x="4390920" y="946080"/>
                <a:ext cx="714600" cy="989280"/>
              </a:xfrm>
              <a:custGeom>
                <a:avLst/>
                <a:gdLst/>
                <a:ahLst/>
                <a:rect l="0" t="0" r="r" b="b"/>
                <a:pathLst>
                  <a:path w="1985" h="2748">
                    <a:moveTo>
                      <a:pt x="1614" y="2748"/>
                    </a:moveTo>
                    <a:lnTo>
                      <a:pt x="1985" y="2321"/>
                    </a:lnTo>
                    <a:lnTo>
                      <a:pt x="0" y="0"/>
                    </a:lnTo>
                    <a:lnTo>
                      <a:pt x="1614" y="2748"/>
                    </a:lnTo>
                    <a:close/>
                  </a:path>
                </a:pathLst>
              </a:custGeom>
              <a:solidFill>
                <a:srgbClr val="ffbf1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811680" y="946080"/>
                <a:ext cx="1161000" cy="989280"/>
              </a:xfrm>
              <a:custGeom>
                <a:avLst/>
                <a:gdLst/>
                <a:ahLst/>
                <a:rect l="0" t="0" r="r" b="b"/>
                <a:pathLst>
                  <a:path w="3225" h="2748">
                    <a:moveTo>
                      <a:pt x="0" y="2748"/>
                    </a:moveTo>
                    <a:lnTo>
                      <a:pt x="3225" y="2748"/>
                    </a:lnTo>
                    <a:lnTo>
                      <a:pt x="1612" y="0"/>
                    </a:lnTo>
                    <a:lnTo>
                      <a:pt x="0" y="2748"/>
                    </a:lnTo>
                    <a:close/>
                  </a:path>
                </a:pathLst>
              </a:custGeom>
              <a:solidFill>
                <a:srgbClr val="ff9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8" name=""/>
            <p:cNvSpPr txBox="1"/>
            <p:nvPr/>
          </p:nvSpPr>
          <p:spPr>
            <a:xfrm>
              <a:off x="3260880" y="3274920"/>
              <a:ext cx="2381400" cy="853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0000cc"/>
                  </a:solidFill>
                  <a:latin typeface="Mistral"/>
                  <a:ea typeface="Mistral"/>
                </a:rPr>
                <a:t>e-cas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Frame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 txBox="1"/>
            <p:nvPr/>
          </p:nvSpPr>
          <p:spPr>
            <a:xfrm>
              <a:off x="3395520" y="2279520"/>
              <a:ext cx="200196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cc"/>
                  </a:solidFill>
                  <a:latin typeface="Mistral"/>
                  <a:ea typeface="Mistral"/>
                </a:rPr>
                <a:t>Face-To-Fa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Solu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 txBox="1"/>
            <p:nvPr/>
          </p:nvSpPr>
          <p:spPr>
            <a:xfrm>
              <a:off x="3970440" y="1415880"/>
              <a:ext cx="89532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st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l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 txBox="1"/>
            <p:nvPr/>
          </p:nvSpPr>
          <p:spPr>
            <a:xfrm>
              <a:off x="2759040" y="4605480"/>
              <a:ext cx="3187800" cy="61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blet PC running DOS or Win9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2" name=""/>
            <p:cNvGrpSpPr/>
            <p:nvPr/>
          </p:nvGrpSpPr>
          <p:grpSpPr>
            <a:xfrm>
              <a:off x="3789360" y="609480"/>
              <a:ext cx="1248120" cy="635400"/>
              <a:chOff x="3789360" y="609480"/>
              <a:chExt cx="1248120" cy="635400"/>
            </a:xfrm>
          </p:grpSpPr>
          <p:sp>
            <p:nvSpPr>
              <p:cNvPr id="503" name=""/>
              <p:cNvSpPr/>
              <p:nvPr/>
            </p:nvSpPr>
            <p:spPr>
              <a:xfrm>
                <a:off x="3789360" y="1146240"/>
                <a:ext cx="209880" cy="98640"/>
              </a:xfrm>
              <a:custGeom>
                <a:avLst/>
                <a:gdLst/>
                <a:ahLst/>
                <a:rect l="0" t="0" r="r" b="b"/>
                <a:pathLst>
                  <a:path w="583" h="274">
                    <a:moveTo>
                      <a:pt x="490" y="74"/>
                    </a:moveTo>
                    <a:lnTo>
                      <a:pt x="568" y="113"/>
                    </a:lnTo>
                    <a:lnTo>
                      <a:pt x="583" y="192"/>
                    </a:lnTo>
                    <a:lnTo>
                      <a:pt x="540" y="258"/>
                    </a:lnTo>
                    <a:lnTo>
                      <a:pt x="440" y="274"/>
                    </a:lnTo>
                    <a:lnTo>
                      <a:pt x="82" y="200"/>
                    </a:lnTo>
                    <a:lnTo>
                      <a:pt x="14" y="153"/>
                    </a:lnTo>
                    <a:lnTo>
                      <a:pt x="0" y="82"/>
                    </a:lnTo>
                    <a:lnTo>
                      <a:pt x="35" y="19"/>
                    </a:lnTo>
                    <a:lnTo>
                      <a:pt x="117" y="0"/>
                    </a:lnTo>
                    <a:lnTo>
                      <a:pt x="490" y="74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4513320" y="669960"/>
                <a:ext cx="132120" cy="200520"/>
              </a:xfrm>
              <a:custGeom>
                <a:avLst/>
                <a:gdLst/>
                <a:ahLst/>
                <a:rect l="0" t="0" r="r" b="b"/>
                <a:pathLst>
                  <a:path w="367" h="557">
                    <a:moveTo>
                      <a:pt x="7" y="427"/>
                    </a:moveTo>
                    <a:lnTo>
                      <a:pt x="0" y="466"/>
                    </a:lnTo>
                    <a:lnTo>
                      <a:pt x="14" y="506"/>
                    </a:lnTo>
                    <a:lnTo>
                      <a:pt x="44" y="526"/>
                    </a:lnTo>
                    <a:lnTo>
                      <a:pt x="82" y="549"/>
                    </a:lnTo>
                    <a:lnTo>
                      <a:pt x="119" y="557"/>
                    </a:lnTo>
                    <a:lnTo>
                      <a:pt x="160" y="549"/>
                    </a:lnTo>
                    <a:lnTo>
                      <a:pt x="191" y="533"/>
                    </a:lnTo>
                    <a:lnTo>
                      <a:pt x="213" y="498"/>
                    </a:lnTo>
                    <a:lnTo>
                      <a:pt x="367" y="122"/>
                    </a:lnTo>
                    <a:lnTo>
                      <a:pt x="367" y="86"/>
                    </a:lnTo>
                    <a:lnTo>
                      <a:pt x="344" y="47"/>
                    </a:lnTo>
                    <a:lnTo>
                      <a:pt x="318" y="23"/>
                    </a:lnTo>
                    <a:lnTo>
                      <a:pt x="288" y="7"/>
                    </a:lnTo>
                    <a:lnTo>
                      <a:pt x="243" y="0"/>
                    </a:lnTo>
                    <a:lnTo>
                      <a:pt x="206" y="7"/>
                    </a:lnTo>
                    <a:lnTo>
                      <a:pt x="175" y="31"/>
                    </a:lnTo>
                    <a:lnTo>
                      <a:pt x="153" y="70"/>
                    </a:lnTo>
                    <a:lnTo>
                      <a:pt x="7" y="427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4181400" y="617400"/>
                <a:ext cx="105120" cy="236880"/>
              </a:xfrm>
              <a:custGeom>
                <a:avLst/>
                <a:gdLst/>
                <a:ahLst/>
                <a:rect l="0" t="0" r="r" b="b"/>
                <a:pathLst>
                  <a:path w="292" h="658">
                    <a:moveTo>
                      <a:pt x="90" y="591"/>
                    </a:moveTo>
                    <a:lnTo>
                      <a:pt x="102" y="630"/>
                    </a:lnTo>
                    <a:lnTo>
                      <a:pt x="132" y="654"/>
                    </a:lnTo>
                    <a:lnTo>
                      <a:pt x="171" y="658"/>
                    </a:lnTo>
                    <a:lnTo>
                      <a:pt x="208" y="654"/>
                    </a:lnTo>
                    <a:lnTo>
                      <a:pt x="246" y="630"/>
                    </a:lnTo>
                    <a:lnTo>
                      <a:pt x="276" y="599"/>
                    </a:lnTo>
                    <a:lnTo>
                      <a:pt x="292" y="552"/>
                    </a:lnTo>
                    <a:lnTo>
                      <a:pt x="292" y="505"/>
                    </a:lnTo>
                    <a:lnTo>
                      <a:pt x="208" y="58"/>
                    </a:lnTo>
                    <a:lnTo>
                      <a:pt x="193" y="23"/>
                    </a:lnTo>
                    <a:lnTo>
                      <a:pt x="163" y="7"/>
                    </a:lnTo>
                    <a:lnTo>
                      <a:pt x="124" y="0"/>
                    </a:lnTo>
                    <a:lnTo>
                      <a:pt x="90" y="7"/>
                    </a:lnTo>
                    <a:lnTo>
                      <a:pt x="52" y="23"/>
                    </a:lnTo>
                    <a:lnTo>
                      <a:pt x="22" y="50"/>
                    </a:lnTo>
                    <a:lnTo>
                      <a:pt x="0" y="89"/>
                    </a:lnTo>
                    <a:lnTo>
                      <a:pt x="0" y="136"/>
                    </a:lnTo>
                    <a:lnTo>
                      <a:pt x="90" y="591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849840" y="922320"/>
                <a:ext cx="217800" cy="179640"/>
              </a:xfrm>
              <a:custGeom>
                <a:avLst/>
                <a:gdLst/>
                <a:ahLst/>
                <a:rect l="0" t="0" r="r" b="b"/>
                <a:pathLst>
                  <a:path w="605" h="499">
                    <a:moveTo>
                      <a:pt x="36" y="207"/>
                    </a:moveTo>
                    <a:lnTo>
                      <a:pt x="0" y="137"/>
                    </a:lnTo>
                    <a:lnTo>
                      <a:pt x="14" y="51"/>
                    </a:lnTo>
                    <a:lnTo>
                      <a:pt x="61" y="0"/>
                    </a:lnTo>
                    <a:lnTo>
                      <a:pt x="133" y="7"/>
                    </a:lnTo>
                    <a:lnTo>
                      <a:pt x="561" y="275"/>
                    </a:lnTo>
                    <a:lnTo>
                      <a:pt x="605" y="354"/>
                    </a:lnTo>
                    <a:lnTo>
                      <a:pt x="597" y="444"/>
                    </a:lnTo>
                    <a:lnTo>
                      <a:pt x="540" y="499"/>
                    </a:lnTo>
                    <a:lnTo>
                      <a:pt x="474" y="483"/>
                    </a:lnTo>
                    <a:lnTo>
                      <a:pt x="36" y="207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992400" y="755640"/>
                <a:ext cx="162360" cy="194040"/>
              </a:xfrm>
              <a:custGeom>
                <a:avLst/>
                <a:gdLst/>
                <a:ahLst/>
                <a:rect l="0" t="0" r="r" b="b"/>
                <a:pathLst>
                  <a:path w="451" h="539">
                    <a:moveTo>
                      <a:pt x="291" y="492"/>
                    </a:moveTo>
                    <a:lnTo>
                      <a:pt x="326" y="524"/>
                    </a:lnTo>
                    <a:lnTo>
                      <a:pt x="363" y="539"/>
                    </a:lnTo>
                    <a:lnTo>
                      <a:pt x="398" y="532"/>
                    </a:lnTo>
                    <a:lnTo>
                      <a:pt x="426" y="508"/>
                    </a:lnTo>
                    <a:lnTo>
                      <a:pt x="444" y="480"/>
                    </a:lnTo>
                    <a:lnTo>
                      <a:pt x="451" y="440"/>
                    </a:lnTo>
                    <a:lnTo>
                      <a:pt x="444" y="391"/>
                    </a:lnTo>
                    <a:lnTo>
                      <a:pt x="419" y="343"/>
                    </a:lnTo>
                    <a:lnTo>
                      <a:pt x="167" y="39"/>
                    </a:lnTo>
                    <a:lnTo>
                      <a:pt x="132" y="7"/>
                    </a:lnTo>
                    <a:lnTo>
                      <a:pt x="88" y="0"/>
                    </a:lnTo>
                    <a:lnTo>
                      <a:pt x="53" y="0"/>
                    </a:lnTo>
                    <a:lnTo>
                      <a:pt x="28" y="23"/>
                    </a:lnTo>
                    <a:lnTo>
                      <a:pt x="7" y="55"/>
                    </a:lnTo>
                    <a:lnTo>
                      <a:pt x="0" y="83"/>
                    </a:lnTo>
                    <a:lnTo>
                      <a:pt x="7" y="131"/>
                    </a:lnTo>
                    <a:lnTo>
                      <a:pt x="28" y="180"/>
                    </a:lnTo>
                    <a:lnTo>
                      <a:pt x="291" y="49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4657680" y="750960"/>
                <a:ext cx="167040" cy="189360"/>
              </a:xfrm>
              <a:custGeom>
                <a:avLst/>
                <a:gdLst/>
                <a:ahLst/>
                <a:rect l="0" t="0" r="r" b="b"/>
                <a:pathLst>
                  <a:path w="464" h="526">
                    <a:moveTo>
                      <a:pt x="29" y="348"/>
                    </a:moveTo>
                    <a:lnTo>
                      <a:pt x="7" y="396"/>
                    </a:lnTo>
                    <a:lnTo>
                      <a:pt x="0" y="443"/>
                    </a:lnTo>
                    <a:lnTo>
                      <a:pt x="7" y="483"/>
                    </a:lnTo>
                    <a:lnTo>
                      <a:pt x="29" y="510"/>
                    </a:lnTo>
                    <a:lnTo>
                      <a:pt x="66" y="526"/>
                    </a:lnTo>
                    <a:lnTo>
                      <a:pt x="102" y="526"/>
                    </a:lnTo>
                    <a:lnTo>
                      <a:pt x="135" y="518"/>
                    </a:lnTo>
                    <a:lnTo>
                      <a:pt x="172" y="491"/>
                    </a:lnTo>
                    <a:lnTo>
                      <a:pt x="427" y="202"/>
                    </a:lnTo>
                    <a:lnTo>
                      <a:pt x="456" y="154"/>
                    </a:lnTo>
                    <a:lnTo>
                      <a:pt x="464" y="98"/>
                    </a:lnTo>
                    <a:lnTo>
                      <a:pt x="456" y="63"/>
                    </a:lnTo>
                    <a:lnTo>
                      <a:pt x="434" y="31"/>
                    </a:lnTo>
                    <a:lnTo>
                      <a:pt x="405" y="7"/>
                    </a:lnTo>
                    <a:lnTo>
                      <a:pt x="368" y="0"/>
                    </a:lnTo>
                    <a:lnTo>
                      <a:pt x="324" y="15"/>
                    </a:lnTo>
                    <a:lnTo>
                      <a:pt x="291" y="47"/>
                    </a:lnTo>
                    <a:lnTo>
                      <a:pt x="29" y="348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4741920" y="874800"/>
                <a:ext cx="228960" cy="178200"/>
              </a:xfrm>
              <a:custGeom>
                <a:avLst/>
                <a:gdLst/>
                <a:ahLst/>
                <a:rect l="0" t="0" r="r" b="b"/>
                <a:pathLst>
                  <a:path w="636" h="495">
                    <a:moveTo>
                      <a:pt x="469" y="7"/>
                    </a:moveTo>
                    <a:lnTo>
                      <a:pt x="512" y="0"/>
                    </a:lnTo>
                    <a:lnTo>
                      <a:pt x="548" y="7"/>
                    </a:lnTo>
                    <a:lnTo>
                      <a:pt x="585" y="23"/>
                    </a:lnTo>
                    <a:lnTo>
                      <a:pt x="614" y="54"/>
                    </a:lnTo>
                    <a:lnTo>
                      <a:pt x="628" y="94"/>
                    </a:lnTo>
                    <a:lnTo>
                      <a:pt x="636" y="134"/>
                    </a:lnTo>
                    <a:lnTo>
                      <a:pt x="621" y="161"/>
                    </a:lnTo>
                    <a:lnTo>
                      <a:pt x="592" y="193"/>
                    </a:lnTo>
                    <a:lnTo>
                      <a:pt x="177" y="480"/>
                    </a:lnTo>
                    <a:lnTo>
                      <a:pt x="134" y="495"/>
                    </a:lnTo>
                    <a:lnTo>
                      <a:pt x="90" y="488"/>
                    </a:lnTo>
                    <a:lnTo>
                      <a:pt x="58" y="472"/>
                    </a:lnTo>
                    <a:lnTo>
                      <a:pt x="29" y="433"/>
                    </a:lnTo>
                    <a:lnTo>
                      <a:pt x="7" y="401"/>
                    </a:lnTo>
                    <a:lnTo>
                      <a:pt x="0" y="365"/>
                    </a:lnTo>
                    <a:lnTo>
                      <a:pt x="14" y="326"/>
                    </a:lnTo>
                    <a:lnTo>
                      <a:pt x="43" y="302"/>
                    </a:lnTo>
                    <a:lnTo>
                      <a:pt x="469" y="7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4832280" y="1087560"/>
                <a:ext cx="205200" cy="111600"/>
              </a:xfrm>
              <a:custGeom>
                <a:avLst/>
                <a:gdLst/>
                <a:ahLst/>
                <a:rect l="0" t="0" r="r" b="b"/>
                <a:pathLst>
                  <a:path w="570" h="310">
                    <a:moveTo>
                      <a:pt x="74" y="118"/>
                    </a:moveTo>
                    <a:lnTo>
                      <a:pt x="7" y="165"/>
                    </a:lnTo>
                    <a:lnTo>
                      <a:pt x="0" y="240"/>
                    </a:lnTo>
                    <a:lnTo>
                      <a:pt x="45" y="302"/>
                    </a:lnTo>
                    <a:lnTo>
                      <a:pt x="137" y="310"/>
                    </a:lnTo>
                    <a:lnTo>
                      <a:pt x="493" y="200"/>
                    </a:lnTo>
                    <a:lnTo>
                      <a:pt x="563" y="149"/>
                    </a:lnTo>
                    <a:lnTo>
                      <a:pt x="570" y="70"/>
                    </a:lnTo>
                    <a:lnTo>
                      <a:pt x="528" y="15"/>
                    </a:lnTo>
                    <a:lnTo>
                      <a:pt x="443" y="0"/>
                    </a:lnTo>
                    <a:lnTo>
                      <a:pt x="74" y="118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370400" y="609480"/>
                <a:ext cx="78120" cy="205200"/>
              </a:xfrm>
              <a:custGeom>
                <a:avLst/>
                <a:gdLst/>
                <a:ahLst/>
                <a:rect l="0" t="0" r="r" b="b"/>
                <a:pathLst>
                  <a:path w="217" h="570">
                    <a:moveTo>
                      <a:pt x="209" y="73"/>
                    </a:moveTo>
                    <a:lnTo>
                      <a:pt x="202" y="38"/>
                    </a:lnTo>
                    <a:lnTo>
                      <a:pt x="173" y="15"/>
                    </a:lnTo>
                    <a:lnTo>
                      <a:pt x="143" y="0"/>
                    </a:lnTo>
                    <a:lnTo>
                      <a:pt x="102" y="0"/>
                    </a:lnTo>
                    <a:lnTo>
                      <a:pt x="65" y="7"/>
                    </a:lnTo>
                    <a:lnTo>
                      <a:pt x="29" y="30"/>
                    </a:lnTo>
                    <a:lnTo>
                      <a:pt x="7" y="58"/>
                    </a:lnTo>
                    <a:lnTo>
                      <a:pt x="0" y="96"/>
                    </a:lnTo>
                    <a:lnTo>
                      <a:pt x="7" y="501"/>
                    </a:lnTo>
                    <a:lnTo>
                      <a:pt x="21" y="539"/>
                    </a:lnTo>
                    <a:lnTo>
                      <a:pt x="58" y="563"/>
                    </a:lnTo>
                    <a:lnTo>
                      <a:pt x="87" y="570"/>
                    </a:lnTo>
                    <a:lnTo>
                      <a:pt x="132" y="570"/>
                    </a:lnTo>
                    <a:lnTo>
                      <a:pt x="165" y="555"/>
                    </a:lnTo>
                    <a:lnTo>
                      <a:pt x="195" y="532"/>
                    </a:lnTo>
                    <a:lnTo>
                      <a:pt x="209" y="501"/>
                    </a:lnTo>
                    <a:lnTo>
                      <a:pt x="217" y="458"/>
                    </a:lnTo>
                    <a:lnTo>
                      <a:pt x="209" y="73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2" name=""/>
          <p:cNvGrpSpPr/>
          <p:nvPr/>
        </p:nvGrpSpPr>
        <p:grpSpPr>
          <a:xfrm>
            <a:off x="212760" y="0"/>
            <a:ext cx="8930160" cy="6856920"/>
            <a:chOff x="212760" y="0"/>
            <a:chExt cx="8930160" cy="6856920"/>
          </a:xfrm>
        </p:grpSpPr>
        <p:sp>
          <p:nvSpPr>
            <p:cNvPr id="513" name=""/>
            <p:cNvSpPr/>
            <p:nvPr/>
          </p:nvSpPr>
          <p:spPr>
            <a:xfrm>
              <a:off x="5653080" y="2295360"/>
              <a:ext cx="3489840" cy="4413600"/>
            </a:xfrm>
            <a:custGeom>
              <a:avLst/>
              <a:gdLst/>
              <a:ahLst/>
              <a:rect l="0" t="0" r="r" b="b"/>
              <a:pathLst>
                <a:path w="9694" h="12260">
                  <a:moveTo>
                    <a:pt x="246" y="1337"/>
                  </a:moveTo>
                  <a:lnTo>
                    <a:pt x="1677" y="2103"/>
                  </a:lnTo>
                  <a:lnTo>
                    <a:pt x="3403" y="2192"/>
                  </a:lnTo>
                  <a:lnTo>
                    <a:pt x="5273" y="1372"/>
                  </a:lnTo>
                  <a:lnTo>
                    <a:pt x="6184" y="1372"/>
                  </a:lnTo>
                  <a:lnTo>
                    <a:pt x="6291" y="1949"/>
                  </a:lnTo>
                  <a:lnTo>
                    <a:pt x="8874" y="0"/>
                  </a:lnTo>
                  <a:lnTo>
                    <a:pt x="9228" y="641"/>
                  </a:lnTo>
                  <a:lnTo>
                    <a:pt x="9694" y="4302"/>
                  </a:lnTo>
                  <a:lnTo>
                    <a:pt x="9035" y="5247"/>
                  </a:lnTo>
                  <a:lnTo>
                    <a:pt x="8681" y="7321"/>
                  </a:lnTo>
                  <a:lnTo>
                    <a:pt x="8049" y="8599"/>
                  </a:lnTo>
                  <a:lnTo>
                    <a:pt x="7717" y="11434"/>
                  </a:lnTo>
                  <a:lnTo>
                    <a:pt x="7471" y="11558"/>
                  </a:lnTo>
                  <a:lnTo>
                    <a:pt x="7116" y="10429"/>
                  </a:lnTo>
                  <a:lnTo>
                    <a:pt x="6318" y="11921"/>
                  </a:lnTo>
                  <a:lnTo>
                    <a:pt x="5766" y="12260"/>
                  </a:lnTo>
                  <a:lnTo>
                    <a:pt x="6184" y="10186"/>
                  </a:lnTo>
                  <a:lnTo>
                    <a:pt x="5412" y="11130"/>
                  </a:lnTo>
                  <a:lnTo>
                    <a:pt x="5139" y="10614"/>
                  </a:lnTo>
                  <a:lnTo>
                    <a:pt x="6098" y="8504"/>
                  </a:lnTo>
                  <a:lnTo>
                    <a:pt x="5685" y="8569"/>
                  </a:lnTo>
                  <a:lnTo>
                    <a:pt x="4265" y="9859"/>
                  </a:lnTo>
                  <a:lnTo>
                    <a:pt x="2642" y="11130"/>
                  </a:lnTo>
                  <a:lnTo>
                    <a:pt x="2169" y="10982"/>
                  </a:lnTo>
                  <a:lnTo>
                    <a:pt x="712" y="7012"/>
                  </a:lnTo>
                  <a:lnTo>
                    <a:pt x="2309" y="5550"/>
                  </a:lnTo>
                  <a:lnTo>
                    <a:pt x="1044" y="4789"/>
                  </a:lnTo>
                  <a:lnTo>
                    <a:pt x="985" y="3779"/>
                  </a:lnTo>
                  <a:lnTo>
                    <a:pt x="0" y="2769"/>
                  </a:lnTo>
                  <a:lnTo>
                    <a:pt x="326" y="2650"/>
                  </a:lnTo>
                  <a:lnTo>
                    <a:pt x="246" y="13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63520" y="55440"/>
              <a:ext cx="6961680" cy="6564600"/>
            </a:xfrm>
            <a:custGeom>
              <a:avLst/>
              <a:gdLst/>
              <a:ahLst/>
              <a:rect l="0" t="0" r="r" b="b"/>
              <a:pathLst>
                <a:path w="19338" h="18235">
                  <a:moveTo>
                    <a:pt x="3385" y="0"/>
                  </a:moveTo>
                  <a:lnTo>
                    <a:pt x="3291" y="0"/>
                  </a:lnTo>
                  <a:lnTo>
                    <a:pt x="3220" y="0"/>
                  </a:lnTo>
                  <a:lnTo>
                    <a:pt x="3138" y="12"/>
                  </a:lnTo>
                  <a:lnTo>
                    <a:pt x="3079" y="51"/>
                  </a:lnTo>
                  <a:lnTo>
                    <a:pt x="3032" y="103"/>
                  </a:lnTo>
                  <a:lnTo>
                    <a:pt x="2985" y="193"/>
                  </a:lnTo>
                  <a:lnTo>
                    <a:pt x="2973" y="309"/>
                  </a:lnTo>
                  <a:lnTo>
                    <a:pt x="2962" y="476"/>
                  </a:lnTo>
                  <a:lnTo>
                    <a:pt x="2962" y="2203"/>
                  </a:lnTo>
                  <a:lnTo>
                    <a:pt x="2962" y="5579"/>
                  </a:lnTo>
                  <a:lnTo>
                    <a:pt x="2962" y="8878"/>
                  </a:lnTo>
                  <a:lnTo>
                    <a:pt x="2962" y="10464"/>
                  </a:lnTo>
                  <a:lnTo>
                    <a:pt x="2973" y="10606"/>
                  </a:lnTo>
                  <a:lnTo>
                    <a:pt x="2997" y="10709"/>
                  </a:lnTo>
                  <a:lnTo>
                    <a:pt x="3091" y="10761"/>
                  </a:lnTo>
                  <a:lnTo>
                    <a:pt x="3232" y="10773"/>
                  </a:lnTo>
                  <a:lnTo>
                    <a:pt x="3232" y="10889"/>
                  </a:lnTo>
                  <a:lnTo>
                    <a:pt x="3220" y="10889"/>
                  </a:lnTo>
                  <a:lnTo>
                    <a:pt x="3197" y="10889"/>
                  </a:lnTo>
                  <a:lnTo>
                    <a:pt x="3138" y="10889"/>
                  </a:lnTo>
                  <a:lnTo>
                    <a:pt x="3068" y="10889"/>
                  </a:lnTo>
                  <a:lnTo>
                    <a:pt x="2973" y="10889"/>
                  </a:lnTo>
                  <a:lnTo>
                    <a:pt x="2891" y="10915"/>
                  </a:lnTo>
                  <a:lnTo>
                    <a:pt x="2809" y="10954"/>
                  </a:lnTo>
                  <a:lnTo>
                    <a:pt x="2727" y="11044"/>
                  </a:lnTo>
                  <a:lnTo>
                    <a:pt x="2691" y="11121"/>
                  </a:lnTo>
                  <a:lnTo>
                    <a:pt x="2609" y="11237"/>
                  </a:lnTo>
                  <a:lnTo>
                    <a:pt x="2480" y="11444"/>
                  </a:lnTo>
                  <a:lnTo>
                    <a:pt x="2303" y="11676"/>
                  </a:lnTo>
                  <a:lnTo>
                    <a:pt x="2115" y="11959"/>
                  </a:lnTo>
                  <a:lnTo>
                    <a:pt x="1904" y="12281"/>
                  </a:lnTo>
                  <a:lnTo>
                    <a:pt x="1680" y="12616"/>
                  </a:lnTo>
                  <a:lnTo>
                    <a:pt x="1445" y="12951"/>
                  </a:lnTo>
                  <a:lnTo>
                    <a:pt x="1210" y="13286"/>
                  </a:lnTo>
                  <a:lnTo>
                    <a:pt x="975" y="13634"/>
                  </a:lnTo>
                  <a:lnTo>
                    <a:pt x="764" y="13944"/>
                  </a:lnTo>
                  <a:lnTo>
                    <a:pt x="564" y="14227"/>
                  </a:lnTo>
                  <a:lnTo>
                    <a:pt x="399" y="14472"/>
                  </a:lnTo>
                  <a:lnTo>
                    <a:pt x="258" y="14665"/>
                  </a:lnTo>
                  <a:lnTo>
                    <a:pt x="164" y="14807"/>
                  </a:lnTo>
                  <a:lnTo>
                    <a:pt x="117" y="14871"/>
                  </a:lnTo>
                  <a:lnTo>
                    <a:pt x="47" y="15000"/>
                  </a:lnTo>
                  <a:lnTo>
                    <a:pt x="11" y="15116"/>
                  </a:lnTo>
                  <a:lnTo>
                    <a:pt x="0" y="15219"/>
                  </a:lnTo>
                  <a:lnTo>
                    <a:pt x="0" y="15284"/>
                  </a:lnTo>
                  <a:lnTo>
                    <a:pt x="0" y="15696"/>
                  </a:lnTo>
                  <a:lnTo>
                    <a:pt x="0" y="16495"/>
                  </a:lnTo>
                  <a:lnTo>
                    <a:pt x="0" y="17333"/>
                  </a:lnTo>
                  <a:lnTo>
                    <a:pt x="0" y="17822"/>
                  </a:lnTo>
                  <a:lnTo>
                    <a:pt x="0" y="17900"/>
                  </a:lnTo>
                  <a:lnTo>
                    <a:pt x="11" y="17977"/>
                  </a:lnTo>
                  <a:lnTo>
                    <a:pt x="35" y="18054"/>
                  </a:lnTo>
                  <a:lnTo>
                    <a:pt x="82" y="18119"/>
                  </a:lnTo>
                  <a:lnTo>
                    <a:pt x="129" y="18170"/>
                  </a:lnTo>
                  <a:lnTo>
                    <a:pt x="199" y="18209"/>
                  </a:lnTo>
                  <a:lnTo>
                    <a:pt x="282" y="18222"/>
                  </a:lnTo>
                  <a:lnTo>
                    <a:pt x="387" y="18235"/>
                  </a:lnTo>
                  <a:lnTo>
                    <a:pt x="458" y="18235"/>
                  </a:lnTo>
                  <a:lnTo>
                    <a:pt x="646" y="18235"/>
                  </a:lnTo>
                  <a:lnTo>
                    <a:pt x="893" y="18235"/>
                  </a:lnTo>
                  <a:lnTo>
                    <a:pt x="1257" y="18235"/>
                  </a:lnTo>
                  <a:lnTo>
                    <a:pt x="1680" y="18235"/>
                  </a:lnTo>
                  <a:lnTo>
                    <a:pt x="2186" y="18235"/>
                  </a:lnTo>
                  <a:lnTo>
                    <a:pt x="2750" y="18235"/>
                  </a:lnTo>
                  <a:lnTo>
                    <a:pt x="3361" y="18235"/>
                  </a:lnTo>
                  <a:lnTo>
                    <a:pt x="4043" y="18235"/>
                  </a:lnTo>
                  <a:lnTo>
                    <a:pt x="4760" y="18235"/>
                  </a:lnTo>
                  <a:lnTo>
                    <a:pt x="5513" y="18235"/>
                  </a:lnTo>
                  <a:lnTo>
                    <a:pt x="6313" y="18235"/>
                  </a:lnTo>
                  <a:lnTo>
                    <a:pt x="7136" y="18235"/>
                  </a:lnTo>
                  <a:lnTo>
                    <a:pt x="7970" y="18235"/>
                  </a:lnTo>
                  <a:lnTo>
                    <a:pt x="8817" y="18235"/>
                  </a:lnTo>
                  <a:lnTo>
                    <a:pt x="9675" y="18235"/>
                  </a:lnTo>
                  <a:lnTo>
                    <a:pt x="10533" y="18235"/>
                  </a:lnTo>
                  <a:lnTo>
                    <a:pt x="11379" y="18235"/>
                  </a:lnTo>
                  <a:lnTo>
                    <a:pt x="12214" y="18235"/>
                  </a:lnTo>
                  <a:lnTo>
                    <a:pt x="13037" y="18235"/>
                  </a:lnTo>
                  <a:lnTo>
                    <a:pt x="13824" y="18235"/>
                  </a:lnTo>
                  <a:lnTo>
                    <a:pt x="14589" y="18235"/>
                  </a:lnTo>
                  <a:lnTo>
                    <a:pt x="15306" y="18235"/>
                  </a:lnTo>
                  <a:lnTo>
                    <a:pt x="15988" y="18235"/>
                  </a:lnTo>
                  <a:lnTo>
                    <a:pt x="16611" y="18235"/>
                  </a:lnTo>
                  <a:lnTo>
                    <a:pt x="17175" y="18235"/>
                  </a:lnTo>
                  <a:lnTo>
                    <a:pt x="17681" y="18235"/>
                  </a:lnTo>
                  <a:lnTo>
                    <a:pt x="18104" y="18235"/>
                  </a:lnTo>
                  <a:lnTo>
                    <a:pt x="18457" y="18235"/>
                  </a:lnTo>
                  <a:lnTo>
                    <a:pt x="18727" y="18235"/>
                  </a:lnTo>
                  <a:lnTo>
                    <a:pt x="18915" y="18235"/>
                  </a:lnTo>
                  <a:lnTo>
                    <a:pt x="18985" y="18235"/>
                  </a:lnTo>
                  <a:lnTo>
                    <a:pt x="19174" y="18209"/>
                  </a:lnTo>
                  <a:lnTo>
                    <a:pt x="19279" y="18144"/>
                  </a:lnTo>
                  <a:lnTo>
                    <a:pt x="19315" y="18029"/>
                  </a:lnTo>
                  <a:lnTo>
                    <a:pt x="19338" y="17874"/>
                  </a:lnTo>
                  <a:lnTo>
                    <a:pt x="19338" y="17436"/>
                  </a:lnTo>
                  <a:lnTo>
                    <a:pt x="19338" y="16675"/>
                  </a:lnTo>
                  <a:lnTo>
                    <a:pt x="19338" y="15928"/>
                  </a:lnTo>
                  <a:lnTo>
                    <a:pt x="19338" y="15541"/>
                  </a:lnTo>
                  <a:lnTo>
                    <a:pt x="19338" y="15413"/>
                  </a:lnTo>
                  <a:lnTo>
                    <a:pt x="19315" y="15258"/>
                  </a:lnTo>
                  <a:lnTo>
                    <a:pt x="19279" y="15065"/>
                  </a:lnTo>
                  <a:lnTo>
                    <a:pt x="19174" y="14820"/>
                  </a:lnTo>
                  <a:lnTo>
                    <a:pt x="19115" y="14717"/>
                  </a:lnTo>
                  <a:lnTo>
                    <a:pt x="19021" y="14562"/>
                  </a:lnTo>
                  <a:lnTo>
                    <a:pt x="18880" y="14356"/>
                  </a:lnTo>
                  <a:lnTo>
                    <a:pt x="18715" y="14111"/>
                  </a:lnTo>
                  <a:lnTo>
                    <a:pt x="18527" y="13828"/>
                  </a:lnTo>
                  <a:lnTo>
                    <a:pt x="18315" y="13518"/>
                  </a:lnTo>
                  <a:lnTo>
                    <a:pt x="18104" y="13196"/>
                  </a:lnTo>
                  <a:lnTo>
                    <a:pt x="17881" y="12874"/>
                  </a:lnTo>
                  <a:lnTo>
                    <a:pt x="17669" y="12539"/>
                  </a:lnTo>
                  <a:lnTo>
                    <a:pt x="17457" y="12230"/>
                  </a:lnTo>
                  <a:lnTo>
                    <a:pt x="17258" y="11933"/>
                  </a:lnTo>
                  <a:lnTo>
                    <a:pt x="17069" y="11676"/>
                  </a:lnTo>
                  <a:lnTo>
                    <a:pt x="16917" y="11456"/>
                  </a:lnTo>
                  <a:lnTo>
                    <a:pt x="16811" y="11276"/>
                  </a:lnTo>
                  <a:lnTo>
                    <a:pt x="16729" y="11160"/>
                  </a:lnTo>
                  <a:lnTo>
                    <a:pt x="16693" y="11096"/>
                  </a:lnTo>
                  <a:lnTo>
                    <a:pt x="16623" y="11005"/>
                  </a:lnTo>
                  <a:lnTo>
                    <a:pt x="16576" y="10915"/>
                  </a:lnTo>
                  <a:lnTo>
                    <a:pt x="16482" y="10864"/>
                  </a:lnTo>
                  <a:lnTo>
                    <a:pt x="16352" y="10851"/>
                  </a:lnTo>
                  <a:lnTo>
                    <a:pt x="16352" y="10773"/>
                  </a:lnTo>
                  <a:lnTo>
                    <a:pt x="16364" y="10773"/>
                  </a:lnTo>
                  <a:lnTo>
                    <a:pt x="16411" y="10773"/>
                  </a:lnTo>
                  <a:lnTo>
                    <a:pt x="16446" y="10773"/>
                  </a:lnTo>
                  <a:lnTo>
                    <a:pt x="16482" y="10773"/>
                  </a:lnTo>
                  <a:lnTo>
                    <a:pt x="16529" y="10761"/>
                  </a:lnTo>
                  <a:lnTo>
                    <a:pt x="16576" y="10735"/>
                  </a:lnTo>
                  <a:lnTo>
                    <a:pt x="16599" y="10696"/>
                  </a:lnTo>
                  <a:lnTo>
                    <a:pt x="16611" y="10619"/>
                  </a:lnTo>
                  <a:lnTo>
                    <a:pt x="16611" y="8981"/>
                  </a:lnTo>
                  <a:lnTo>
                    <a:pt x="16611" y="5476"/>
                  </a:lnTo>
                  <a:lnTo>
                    <a:pt x="16611" y="1958"/>
                  </a:lnTo>
                  <a:lnTo>
                    <a:pt x="16611" y="283"/>
                  </a:lnTo>
                  <a:lnTo>
                    <a:pt x="16599" y="180"/>
                  </a:lnTo>
                  <a:lnTo>
                    <a:pt x="16552" y="90"/>
                  </a:lnTo>
                  <a:lnTo>
                    <a:pt x="16470" y="38"/>
                  </a:lnTo>
                  <a:lnTo>
                    <a:pt x="16329" y="0"/>
                  </a:lnTo>
                  <a:lnTo>
                    <a:pt x="16282" y="0"/>
                  </a:lnTo>
                  <a:lnTo>
                    <a:pt x="16153" y="0"/>
                  </a:lnTo>
                  <a:lnTo>
                    <a:pt x="15965" y="0"/>
                  </a:lnTo>
                  <a:lnTo>
                    <a:pt x="15718" y="0"/>
                  </a:lnTo>
                  <a:lnTo>
                    <a:pt x="15412" y="0"/>
                  </a:lnTo>
                  <a:lnTo>
                    <a:pt x="15059" y="0"/>
                  </a:lnTo>
                  <a:lnTo>
                    <a:pt x="14660" y="0"/>
                  </a:lnTo>
                  <a:lnTo>
                    <a:pt x="14224" y="0"/>
                  </a:lnTo>
                  <a:lnTo>
                    <a:pt x="13754" y="0"/>
                  </a:lnTo>
                  <a:lnTo>
                    <a:pt x="13248" y="0"/>
                  </a:lnTo>
                  <a:lnTo>
                    <a:pt x="12731" y="0"/>
                  </a:lnTo>
                  <a:lnTo>
                    <a:pt x="12167" y="0"/>
                  </a:lnTo>
                  <a:lnTo>
                    <a:pt x="11602" y="0"/>
                  </a:lnTo>
                  <a:lnTo>
                    <a:pt x="11003" y="0"/>
                  </a:lnTo>
                  <a:lnTo>
                    <a:pt x="10415" y="0"/>
                  </a:lnTo>
                  <a:lnTo>
                    <a:pt x="9828" y="0"/>
                  </a:lnTo>
                  <a:lnTo>
                    <a:pt x="9228" y="0"/>
                  </a:lnTo>
                  <a:lnTo>
                    <a:pt x="8629" y="0"/>
                  </a:lnTo>
                  <a:lnTo>
                    <a:pt x="8041" y="0"/>
                  </a:lnTo>
                  <a:lnTo>
                    <a:pt x="7477" y="0"/>
                  </a:lnTo>
                  <a:lnTo>
                    <a:pt x="6924" y="0"/>
                  </a:lnTo>
                  <a:lnTo>
                    <a:pt x="6407" y="0"/>
                  </a:lnTo>
                  <a:lnTo>
                    <a:pt x="5901" y="0"/>
                  </a:lnTo>
                  <a:lnTo>
                    <a:pt x="5431" y="0"/>
                  </a:lnTo>
                  <a:lnTo>
                    <a:pt x="5008" y="0"/>
                  </a:lnTo>
                  <a:lnTo>
                    <a:pt x="4607" y="0"/>
                  </a:lnTo>
                  <a:lnTo>
                    <a:pt x="4255" y="0"/>
                  </a:lnTo>
                  <a:lnTo>
                    <a:pt x="3961" y="0"/>
                  </a:lnTo>
                  <a:lnTo>
                    <a:pt x="3738" y="0"/>
                  </a:lnTo>
                  <a:lnTo>
                    <a:pt x="3549" y="0"/>
                  </a:lnTo>
                  <a:lnTo>
                    <a:pt x="3432" y="0"/>
                  </a:lnTo>
                  <a:lnTo>
                    <a:pt x="3385" y="0"/>
                  </a:lnTo>
                  <a:close/>
                </a:path>
              </a:pathLst>
            </a:custGeom>
            <a:solidFill>
              <a:srgbClr val="660c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1281240" y="0"/>
              <a:ext cx="201960" cy="228960"/>
            </a:xfrm>
            <a:custGeom>
              <a:avLst/>
              <a:gdLst/>
              <a:ahLst/>
              <a:rect l="0" t="0" r="r" b="b"/>
              <a:pathLst>
                <a:path w="561" h="636">
                  <a:moveTo>
                    <a:pt x="281" y="636"/>
                  </a:moveTo>
                  <a:lnTo>
                    <a:pt x="281" y="636"/>
                  </a:lnTo>
                  <a:lnTo>
                    <a:pt x="292" y="494"/>
                  </a:lnTo>
                  <a:lnTo>
                    <a:pt x="304" y="376"/>
                  </a:lnTo>
                  <a:lnTo>
                    <a:pt x="316" y="350"/>
                  </a:lnTo>
                  <a:lnTo>
                    <a:pt x="327" y="337"/>
                  </a:lnTo>
                  <a:lnTo>
                    <a:pt x="362" y="337"/>
                  </a:lnTo>
                  <a:lnTo>
                    <a:pt x="397" y="312"/>
                  </a:lnTo>
                  <a:lnTo>
                    <a:pt x="467" y="312"/>
                  </a:lnTo>
                  <a:lnTo>
                    <a:pt x="561" y="312"/>
                  </a:lnTo>
                  <a:lnTo>
                    <a:pt x="561" y="0"/>
                  </a:lnTo>
                  <a:lnTo>
                    <a:pt x="467" y="0"/>
                  </a:lnTo>
                  <a:lnTo>
                    <a:pt x="397" y="0"/>
                  </a:lnTo>
                  <a:lnTo>
                    <a:pt x="281" y="12"/>
                  </a:lnTo>
                  <a:lnTo>
                    <a:pt x="175" y="77"/>
                  </a:lnTo>
                  <a:lnTo>
                    <a:pt x="93" y="169"/>
                  </a:lnTo>
                  <a:lnTo>
                    <a:pt x="23" y="312"/>
                  </a:lnTo>
                  <a:lnTo>
                    <a:pt x="11" y="454"/>
                  </a:lnTo>
                  <a:lnTo>
                    <a:pt x="0" y="636"/>
                  </a:lnTo>
                  <a:lnTo>
                    <a:pt x="0" y="636"/>
                  </a:lnTo>
                  <a:lnTo>
                    <a:pt x="281" y="6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281240" y="228600"/>
              <a:ext cx="101880" cy="3594600"/>
            </a:xfrm>
            <a:custGeom>
              <a:avLst/>
              <a:gdLst/>
              <a:ahLst/>
              <a:rect l="0" t="0" r="r" b="b"/>
              <a:pathLst>
                <a:path w="283" h="9985">
                  <a:moveTo>
                    <a:pt x="283" y="9985"/>
                  </a:moveTo>
                  <a:lnTo>
                    <a:pt x="283" y="9985"/>
                  </a:lnTo>
                  <a:lnTo>
                    <a:pt x="283" y="8401"/>
                  </a:lnTo>
                  <a:lnTo>
                    <a:pt x="283" y="5102"/>
                  </a:lnTo>
                  <a:lnTo>
                    <a:pt x="283" y="1726"/>
                  </a:lnTo>
                  <a:lnTo>
                    <a:pt x="283" y="0"/>
                  </a:lnTo>
                  <a:lnTo>
                    <a:pt x="0" y="0"/>
                  </a:lnTo>
                  <a:lnTo>
                    <a:pt x="0" y="1726"/>
                  </a:lnTo>
                  <a:lnTo>
                    <a:pt x="0" y="5102"/>
                  </a:lnTo>
                  <a:lnTo>
                    <a:pt x="0" y="8401"/>
                  </a:lnTo>
                  <a:lnTo>
                    <a:pt x="0" y="9985"/>
                  </a:lnTo>
                  <a:lnTo>
                    <a:pt x="0" y="9985"/>
                  </a:lnTo>
                  <a:lnTo>
                    <a:pt x="283" y="99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1281240" y="3822840"/>
              <a:ext cx="198720" cy="168480"/>
            </a:xfrm>
            <a:custGeom>
              <a:avLst/>
              <a:gdLst/>
              <a:ahLst/>
              <a:rect l="0" t="0" r="r" b="b"/>
              <a:pathLst>
                <a:path w="552" h="468">
                  <a:moveTo>
                    <a:pt x="552" y="312"/>
                  </a:moveTo>
                  <a:lnTo>
                    <a:pt x="411" y="155"/>
                  </a:lnTo>
                  <a:lnTo>
                    <a:pt x="305" y="142"/>
                  </a:lnTo>
                  <a:lnTo>
                    <a:pt x="282" y="142"/>
                  </a:lnTo>
                  <a:lnTo>
                    <a:pt x="294" y="129"/>
                  </a:lnTo>
                  <a:lnTo>
                    <a:pt x="282" y="0"/>
                  </a:lnTo>
                  <a:lnTo>
                    <a:pt x="0" y="0"/>
                  </a:lnTo>
                  <a:lnTo>
                    <a:pt x="11" y="155"/>
                  </a:lnTo>
                  <a:lnTo>
                    <a:pt x="82" y="338"/>
                  </a:lnTo>
                  <a:lnTo>
                    <a:pt x="234" y="455"/>
                  </a:lnTo>
                  <a:lnTo>
                    <a:pt x="411" y="468"/>
                  </a:lnTo>
                  <a:lnTo>
                    <a:pt x="269" y="312"/>
                  </a:lnTo>
                  <a:lnTo>
                    <a:pt x="552" y="3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376280" y="3921120"/>
              <a:ext cx="103680" cy="111600"/>
            </a:xfrm>
            <a:custGeom>
              <a:avLst/>
              <a:gdLst/>
              <a:ahLst/>
              <a:rect l="0" t="0" r="r" b="b"/>
              <a:pathLst>
                <a:path w="288" h="310">
                  <a:moveTo>
                    <a:pt x="144" y="310"/>
                  </a:moveTo>
                  <a:lnTo>
                    <a:pt x="288" y="155"/>
                  </a:lnTo>
                  <a:lnTo>
                    <a:pt x="288" y="38"/>
                  </a:lnTo>
                  <a:lnTo>
                    <a:pt x="0" y="38"/>
                  </a:lnTo>
                  <a:lnTo>
                    <a:pt x="0" y="155"/>
                  </a:lnTo>
                  <a:lnTo>
                    <a:pt x="144" y="0"/>
                  </a:lnTo>
                  <a:lnTo>
                    <a:pt x="144" y="310"/>
                  </a:lnTo>
                  <a:lnTo>
                    <a:pt x="288" y="310"/>
                  </a:lnTo>
                  <a:lnTo>
                    <a:pt x="288" y="155"/>
                  </a:lnTo>
                  <a:lnTo>
                    <a:pt x="144" y="3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68360" y="3921120"/>
              <a:ext cx="65520" cy="111600"/>
            </a:xfrm>
            <a:custGeom>
              <a:avLst/>
              <a:gdLst/>
              <a:ahLst/>
              <a:rect l="0" t="0" r="r" b="b"/>
              <a:pathLst>
                <a:path w="182" h="310">
                  <a:moveTo>
                    <a:pt x="0" y="310"/>
                  </a:moveTo>
                  <a:lnTo>
                    <a:pt x="0" y="310"/>
                  </a:lnTo>
                  <a:lnTo>
                    <a:pt x="78" y="310"/>
                  </a:lnTo>
                  <a:lnTo>
                    <a:pt x="144" y="310"/>
                  </a:lnTo>
                  <a:lnTo>
                    <a:pt x="169" y="310"/>
                  </a:lnTo>
                  <a:lnTo>
                    <a:pt x="182" y="310"/>
                  </a:lnTo>
                  <a:lnTo>
                    <a:pt x="182" y="0"/>
                  </a:lnTo>
                  <a:lnTo>
                    <a:pt x="169" y="0"/>
                  </a:lnTo>
                  <a:lnTo>
                    <a:pt x="144" y="0"/>
                  </a:lnTo>
                  <a:lnTo>
                    <a:pt x="78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208160" y="3921120"/>
              <a:ext cx="160560" cy="146520"/>
            </a:xfrm>
            <a:custGeom>
              <a:avLst/>
              <a:gdLst/>
              <a:ahLst/>
              <a:rect l="0" t="0" r="r" b="b"/>
              <a:pathLst>
                <a:path w="446" h="407">
                  <a:moveTo>
                    <a:pt x="222" y="382"/>
                  </a:moveTo>
                  <a:lnTo>
                    <a:pt x="222" y="407"/>
                  </a:lnTo>
                  <a:lnTo>
                    <a:pt x="270" y="344"/>
                  </a:lnTo>
                  <a:lnTo>
                    <a:pt x="317" y="318"/>
                  </a:lnTo>
                  <a:lnTo>
                    <a:pt x="364" y="306"/>
                  </a:lnTo>
                  <a:lnTo>
                    <a:pt x="446" y="306"/>
                  </a:lnTo>
                  <a:lnTo>
                    <a:pt x="446" y="0"/>
                  </a:lnTo>
                  <a:lnTo>
                    <a:pt x="340" y="0"/>
                  </a:lnTo>
                  <a:lnTo>
                    <a:pt x="210" y="38"/>
                  </a:lnTo>
                  <a:lnTo>
                    <a:pt x="105" y="101"/>
                  </a:lnTo>
                  <a:lnTo>
                    <a:pt x="0" y="203"/>
                  </a:lnTo>
                  <a:lnTo>
                    <a:pt x="0" y="241"/>
                  </a:lnTo>
                  <a:lnTo>
                    <a:pt x="222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63520" y="4008600"/>
              <a:ext cx="1024200" cy="1438560"/>
            </a:xfrm>
            <a:custGeom>
              <a:avLst/>
              <a:gdLst/>
              <a:ahLst/>
              <a:rect l="0" t="0" r="r" b="b"/>
              <a:pathLst>
                <a:path w="2845" h="3996">
                  <a:moveTo>
                    <a:pt x="235" y="3983"/>
                  </a:moveTo>
                  <a:lnTo>
                    <a:pt x="223" y="3996"/>
                  </a:lnTo>
                  <a:lnTo>
                    <a:pt x="282" y="3905"/>
                  </a:lnTo>
                  <a:lnTo>
                    <a:pt x="376" y="3764"/>
                  </a:lnTo>
                  <a:lnTo>
                    <a:pt x="517" y="3583"/>
                  </a:lnTo>
                  <a:lnTo>
                    <a:pt x="681" y="3351"/>
                  </a:lnTo>
                  <a:lnTo>
                    <a:pt x="881" y="3055"/>
                  </a:lnTo>
                  <a:lnTo>
                    <a:pt x="1093" y="2733"/>
                  </a:lnTo>
                  <a:lnTo>
                    <a:pt x="1316" y="2411"/>
                  </a:lnTo>
                  <a:lnTo>
                    <a:pt x="1564" y="2075"/>
                  </a:lnTo>
                  <a:lnTo>
                    <a:pt x="1799" y="1714"/>
                  </a:lnTo>
                  <a:lnTo>
                    <a:pt x="2010" y="1378"/>
                  </a:lnTo>
                  <a:lnTo>
                    <a:pt x="2234" y="1069"/>
                  </a:lnTo>
                  <a:lnTo>
                    <a:pt x="2422" y="786"/>
                  </a:lnTo>
                  <a:lnTo>
                    <a:pt x="2586" y="541"/>
                  </a:lnTo>
                  <a:lnTo>
                    <a:pt x="2715" y="347"/>
                  </a:lnTo>
                  <a:lnTo>
                    <a:pt x="2810" y="219"/>
                  </a:lnTo>
                  <a:lnTo>
                    <a:pt x="2845" y="141"/>
                  </a:lnTo>
                  <a:lnTo>
                    <a:pt x="2621" y="0"/>
                  </a:lnTo>
                  <a:lnTo>
                    <a:pt x="2574" y="51"/>
                  </a:lnTo>
                  <a:lnTo>
                    <a:pt x="2492" y="180"/>
                  </a:lnTo>
                  <a:lnTo>
                    <a:pt x="2363" y="373"/>
                  </a:lnTo>
                  <a:lnTo>
                    <a:pt x="2198" y="618"/>
                  </a:lnTo>
                  <a:lnTo>
                    <a:pt x="1999" y="902"/>
                  </a:lnTo>
                  <a:lnTo>
                    <a:pt x="1787" y="1211"/>
                  </a:lnTo>
                  <a:lnTo>
                    <a:pt x="1564" y="1546"/>
                  </a:lnTo>
                  <a:lnTo>
                    <a:pt x="1328" y="1868"/>
                  </a:lnTo>
                  <a:lnTo>
                    <a:pt x="1093" y="2217"/>
                  </a:lnTo>
                  <a:lnTo>
                    <a:pt x="857" y="2565"/>
                  </a:lnTo>
                  <a:lnTo>
                    <a:pt x="658" y="2874"/>
                  </a:lnTo>
                  <a:lnTo>
                    <a:pt x="446" y="3145"/>
                  </a:lnTo>
                  <a:lnTo>
                    <a:pt x="282" y="3390"/>
                  </a:lnTo>
                  <a:lnTo>
                    <a:pt x="141" y="3596"/>
                  </a:lnTo>
                  <a:lnTo>
                    <a:pt x="47" y="3738"/>
                  </a:lnTo>
                  <a:lnTo>
                    <a:pt x="11" y="3802"/>
                  </a:lnTo>
                  <a:lnTo>
                    <a:pt x="0" y="3815"/>
                  </a:lnTo>
                  <a:lnTo>
                    <a:pt x="235" y="39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212760" y="5381640"/>
              <a:ext cx="136800" cy="176400"/>
            </a:xfrm>
            <a:custGeom>
              <a:avLst/>
              <a:gdLst/>
              <a:ahLst/>
              <a:rect l="0" t="0" r="r" b="b"/>
              <a:pathLst>
                <a:path w="380" h="490">
                  <a:moveTo>
                    <a:pt x="285" y="490"/>
                  </a:moveTo>
                  <a:lnTo>
                    <a:pt x="285" y="490"/>
                  </a:lnTo>
                  <a:lnTo>
                    <a:pt x="285" y="426"/>
                  </a:lnTo>
                  <a:lnTo>
                    <a:pt x="297" y="348"/>
                  </a:lnTo>
                  <a:lnTo>
                    <a:pt x="320" y="271"/>
                  </a:lnTo>
                  <a:lnTo>
                    <a:pt x="380" y="167"/>
                  </a:lnTo>
                  <a:lnTo>
                    <a:pt x="142" y="0"/>
                  </a:lnTo>
                  <a:lnTo>
                    <a:pt x="59" y="154"/>
                  </a:lnTo>
                  <a:lnTo>
                    <a:pt x="11" y="297"/>
                  </a:lnTo>
                  <a:lnTo>
                    <a:pt x="0" y="426"/>
                  </a:lnTo>
                  <a:lnTo>
                    <a:pt x="0" y="490"/>
                  </a:lnTo>
                  <a:lnTo>
                    <a:pt x="0" y="490"/>
                  </a:lnTo>
                  <a:lnTo>
                    <a:pt x="285" y="4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212760" y="5557680"/>
              <a:ext cx="100440" cy="913320"/>
            </a:xfrm>
            <a:custGeom>
              <a:avLst/>
              <a:gdLst/>
              <a:ahLst/>
              <a:rect l="0" t="0" r="r" b="b"/>
              <a:pathLst>
                <a:path w="279" h="2537">
                  <a:moveTo>
                    <a:pt x="279" y="2537"/>
                  </a:moveTo>
                  <a:lnTo>
                    <a:pt x="279" y="2537"/>
                  </a:lnTo>
                  <a:lnTo>
                    <a:pt x="279" y="2048"/>
                  </a:lnTo>
                  <a:lnTo>
                    <a:pt x="279" y="1210"/>
                  </a:lnTo>
                  <a:lnTo>
                    <a:pt x="279" y="411"/>
                  </a:lnTo>
                  <a:lnTo>
                    <a:pt x="279" y="0"/>
                  </a:lnTo>
                  <a:lnTo>
                    <a:pt x="0" y="0"/>
                  </a:lnTo>
                  <a:lnTo>
                    <a:pt x="0" y="411"/>
                  </a:lnTo>
                  <a:lnTo>
                    <a:pt x="0" y="1210"/>
                  </a:lnTo>
                  <a:lnTo>
                    <a:pt x="0" y="2048"/>
                  </a:lnTo>
                  <a:lnTo>
                    <a:pt x="0" y="2537"/>
                  </a:lnTo>
                  <a:lnTo>
                    <a:pt x="0" y="2537"/>
                  </a:lnTo>
                  <a:lnTo>
                    <a:pt x="279" y="25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212760" y="6470640"/>
              <a:ext cx="192600" cy="206640"/>
            </a:xfrm>
            <a:custGeom>
              <a:avLst/>
              <a:gdLst/>
              <a:ahLst/>
              <a:rect l="0" t="0" r="r" b="b"/>
              <a:pathLst>
                <a:path w="535" h="574">
                  <a:moveTo>
                    <a:pt x="535" y="260"/>
                  </a:moveTo>
                  <a:lnTo>
                    <a:pt x="535" y="260"/>
                  </a:lnTo>
                  <a:lnTo>
                    <a:pt x="440" y="247"/>
                  </a:lnTo>
                  <a:lnTo>
                    <a:pt x="392" y="247"/>
                  </a:lnTo>
                  <a:lnTo>
                    <a:pt x="344" y="221"/>
                  </a:lnTo>
                  <a:lnTo>
                    <a:pt x="321" y="195"/>
                  </a:lnTo>
                  <a:lnTo>
                    <a:pt x="309" y="169"/>
                  </a:lnTo>
                  <a:lnTo>
                    <a:pt x="297" y="104"/>
                  </a:lnTo>
                  <a:lnTo>
                    <a:pt x="285" y="65"/>
                  </a:lnTo>
                  <a:lnTo>
                    <a:pt x="285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11" y="195"/>
                  </a:lnTo>
                  <a:lnTo>
                    <a:pt x="47" y="313"/>
                  </a:lnTo>
                  <a:lnTo>
                    <a:pt x="118" y="391"/>
                  </a:lnTo>
                  <a:lnTo>
                    <a:pt x="190" y="483"/>
                  </a:lnTo>
                  <a:lnTo>
                    <a:pt x="309" y="535"/>
                  </a:lnTo>
                  <a:lnTo>
                    <a:pt x="417" y="561"/>
                  </a:lnTo>
                  <a:lnTo>
                    <a:pt x="535" y="574"/>
                  </a:lnTo>
                  <a:lnTo>
                    <a:pt x="535" y="574"/>
                  </a:lnTo>
                  <a:lnTo>
                    <a:pt x="535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04640" y="6564240"/>
              <a:ext cx="6693120" cy="113040"/>
            </a:xfrm>
            <a:custGeom>
              <a:avLst/>
              <a:gdLst/>
              <a:ahLst/>
              <a:rect l="0" t="0" r="r" b="b"/>
              <a:pathLst>
                <a:path w="18592" h="314">
                  <a:moveTo>
                    <a:pt x="18592" y="0"/>
                  </a:moveTo>
                  <a:lnTo>
                    <a:pt x="18592" y="0"/>
                  </a:lnTo>
                  <a:lnTo>
                    <a:pt x="18521" y="0"/>
                  </a:lnTo>
                  <a:lnTo>
                    <a:pt x="18333" y="0"/>
                  </a:lnTo>
                  <a:lnTo>
                    <a:pt x="18063" y="0"/>
                  </a:lnTo>
                  <a:lnTo>
                    <a:pt x="17711" y="0"/>
                  </a:lnTo>
                  <a:lnTo>
                    <a:pt x="17287" y="0"/>
                  </a:lnTo>
                  <a:lnTo>
                    <a:pt x="16782" y="0"/>
                  </a:lnTo>
                  <a:lnTo>
                    <a:pt x="16218" y="0"/>
                  </a:lnTo>
                  <a:lnTo>
                    <a:pt x="15595" y="0"/>
                  </a:lnTo>
                  <a:lnTo>
                    <a:pt x="14914" y="0"/>
                  </a:lnTo>
                  <a:lnTo>
                    <a:pt x="14197" y="0"/>
                  </a:lnTo>
                  <a:lnTo>
                    <a:pt x="13433" y="0"/>
                  </a:lnTo>
                  <a:lnTo>
                    <a:pt x="12645" y="0"/>
                  </a:lnTo>
                  <a:lnTo>
                    <a:pt x="11823" y="0"/>
                  </a:lnTo>
                  <a:lnTo>
                    <a:pt x="10988" y="0"/>
                  </a:lnTo>
                  <a:lnTo>
                    <a:pt x="10142" y="0"/>
                  </a:lnTo>
                  <a:lnTo>
                    <a:pt x="9283" y="0"/>
                  </a:lnTo>
                  <a:lnTo>
                    <a:pt x="8426" y="0"/>
                  </a:lnTo>
                  <a:lnTo>
                    <a:pt x="7579" y="0"/>
                  </a:lnTo>
                  <a:lnTo>
                    <a:pt x="6745" y="0"/>
                  </a:lnTo>
                  <a:lnTo>
                    <a:pt x="5922" y="0"/>
                  </a:lnTo>
                  <a:lnTo>
                    <a:pt x="5123" y="0"/>
                  </a:lnTo>
                  <a:lnTo>
                    <a:pt x="4371" y="0"/>
                  </a:lnTo>
                  <a:lnTo>
                    <a:pt x="3654" y="0"/>
                  </a:lnTo>
                  <a:lnTo>
                    <a:pt x="2973" y="0"/>
                  </a:lnTo>
                  <a:lnTo>
                    <a:pt x="2362" y="0"/>
                  </a:lnTo>
                  <a:lnTo>
                    <a:pt x="1798" y="0"/>
                  </a:lnTo>
                  <a:lnTo>
                    <a:pt x="1292" y="0"/>
                  </a:lnTo>
                  <a:lnTo>
                    <a:pt x="869" y="0"/>
                  </a:lnTo>
                  <a:lnTo>
                    <a:pt x="505" y="0"/>
                  </a:lnTo>
                  <a:lnTo>
                    <a:pt x="258" y="0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314"/>
                  </a:lnTo>
                  <a:lnTo>
                    <a:pt x="70" y="314"/>
                  </a:lnTo>
                  <a:lnTo>
                    <a:pt x="258" y="314"/>
                  </a:lnTo>
                  <a:lnTo>
                    <a:pt x="505" y="314"/>
                  </a:lnTo>
                  <a:lnTo>
                    <a:pt x="869" y="314"/>
                  </a:lnTo>
                  <a:lnTo>
                    <a:pt x="1292" y="314"/>
                  </a:lnTo>
                  <a:lnTo>
                    <a:pt x="1798" y="314"/>
                  </a:lnTo>
                  <a:lnTo>
                    <a:pt x="2362" y="314"/>
                  </a:lnTo>
                  <a:lnTo>
                    <a:pt x="2973" y="314"/>
                  </a:lnTo>
                  <a:lnTo>
                    <a:pt x="3654" y="314"/>
                  </a:lnTo>
                  <a:lnTo>
                    <a:pt x="4371" y="314"/>
                  </a:lnTo>
                  <a:lnTo>
                    <a:pt x="5123" y="314"/>
                  </a:lnTo>
                  <a:lnTo>
                    <a:pt x="5922" y="314"/>
                  </a:lnTo>
                  <a:lnTo>
                    <a:pt x="6745" y="314"/>
                  </a:lnTo>
                  <a:lnTo>
                    <a:pt x="7579" y="314"/>
                  </a:lnTo>
                  <a:lnTo>
                    <a:pt x="8426" y="314"/>
                  </a:lnTo>
                  <a:lnTo>
                    <a:pt x="9283" y="314"/>
                  </a:lnTo>
                  <a:lnTo>
                    <a:pt x="10142" y="314"/>
                  </a:lnTo>
                  <a:lnTo>
                    <a:pt x="10988" y="314"/>
                  </a:lnTo>
                  <a:lnTo>
                    <a:pt x="11823" y="314"/>
                  </a:lnTo>
                  <a:lnTo>
                    <a:pt x="12645" y="314"/>
                  </a:lnTo>
                  <a:lnTo>
                    <a:pt x="13433" y="314"/>
                  </a:lnTo>
                  <a:lnTo>
                    <a:pt x="14197" y="314"/>
                  </a:lnTo>
                  <a:lnTo>
                    <a:pt x="14914" y="314"/>
                  </a:lnTo>
                  <a:lnTo>
                    <a:pt x="15595" y="314"/>
                  </a:lnTo>
                  <a:lnTo>
                    <a:pt x="16218" y="314"/>
                  </a:lnTo>
                  <a:lnTo>
                    <a:pt x="16782" y="314"/>
                  </a:lnTo>
                  <a:lnTo>
                    <a:pt x="17287" y="314"/>
                  </a:lnTo>
                  <a:lnTo>
                    <a:pt x="17711" y="314"/>
                  </a:lnTo>
                  <a:lnTo>
                    <a:pt x="18063" y="314"/>
                  </a:lnTo>
                  <a:lnTo>
                    <a:pt x="18333" y="314"/>
                  </a:lnTo>
                  <a:lnTo>
                    <a:pt x="18521" y="314"/>
                  </a:lnTo>
                  <a:lnTo>
                    <a:pt x="18592" y="314"/>
                  </a:lnTo>
                  <a:lnTo>
                    <a:pt x="18592" y="314"/>
                  </a:lnTo>
                  <a:lnTo>
                    <a:pt x="185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7097760" y="6489720"/>
              <a:ext cx="179640" cy="187560"/>
            </a:xfrm>
            <a:custGeom>
              <a:avLst/>
              <a:gdLst/>
              <a:ahLst/>
              <a:rect l="0" t="0" r="r" b="b"/>
              <a:pathLst>
                <a:path w="499" h="521">
                  <a:moveTo>
                    <a:pt x="213" y="0"/>
                  </a:moveTo>
                  <a:lnTo>
                    <a:pt x="213" y="0"/>
                  </a:lnTo>
                  <a:lnTo>
                    <a:pt x="189" y="130"/>
                  </a:lnTo>
                  <a:lnTo>
                    <a:pt x="189" y="169"/>
                  </a:lnTo>
                  <a:lnTo>
                    <a:pt x="154" y="195"/>
                  </a:lnTo>
                  <a:lnTo>
                    <a:pt x="0" y="208"/>
                  </a:lnTo>
                  <a:lnTo>
                    <a:pt x="0" y="521"/>
                  </a:lnTo>
                  <a:lnTo>
                    <a:pt x="237" y="482"/>
                  </a:lnTo>
                  <a:lnTo>
                    <a:pt x="404" y="365"/>
                  </a:lnTo>
                  <a:lnTo>
                    <a:pt x="475" y="182"/>
                  </a:lnTo>
                  <a:lnTo>
                    <a:pt x="499" y="0"/>
                  </a:lnTo>
                  <a:lnTo>
                    <a:pt x="499" y="0"/>
                  </a:lnTo>
                  <a:lnTo>
                    <a:pt x="2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7174080" y="5648400"/>
              <a:ext cx="103680" cy="841680"/>
            </a:xfrm>
            <a:custGeom>
              <a:avLst/>
              <a:gdLst/>
              <a:ahLst/>
              <a:rect l="0" t="0" r="r" b="b"/>
              <a:pathLst>
                <a:path w="288" h="2338">
                  <a:moveTo>
                    <a:pt x="0" y="0"/>
                  </a:moveTo>
                  <a:lnTo>
                    <a:pt x="0" y="0"/>
                  </a:lnTo>
                  <a:lnTo>
                    <a:pt x="0" y="387"/>
                  </a:lnTo>
                  <a:lnTo>
                    <a:pt x="0" y="1136"/>
                  </a:lnTo>
                  <a:lnTo>
                    <a:pt x="0" y="1899"/>
                  </a:lnTo>
                  <a:lnTo>
                    <a:pt x="0" y="2338"/>
                  </a:lnTo>
                  <a:lnTo>
                    <a:pt x="288" y="2338"/>
                  </a:lnTo>
                  <a:lnTo>
                    <a:pt x="288" y="1899"/>
                  </a:lnTo>
                  <a:lnTo>
                    <a:pt x="288" y="1136"/>
                  </a:lnTo>
                  <a:lnTo>
                    <a:pt x="288" y="387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7129440" y="5357880"/>
              <a:ext cx="147960" cy="290880"/>
            </a:xfrm>
            <a:custGeom>
              <a:avLst/>
              <a:gdLst/>
              <a:ahLst/>
              <a:rect l="0" t="0" r="r" b="b"/>
              <a:pathLst>
                <a:path w="411" h="808">
                  <a:moveTo>
                    <a:pt x="0" y="179"/>
                  </a:moveTo>
                  <a:lnTo>
                    <a:pt x="0" y="153"/>
                  </a:lnTo>
                  <a:lnTo>
                    <a:pt x="82" y="372"/>
                  </a:lnTo>
                  <a:lnTo>
                    <a:pt x="105" y="538"/>
                  </a:lnTo>
                  <a:lnTo>
                    <a:pt x="128" y="680"/>
                  </a:lnTo>
                  <a:lnTo>
                    <a:pt x="128" y="808"/>
                  </a:lnTo>
                  <a:lnTo>
                    <a:pt x="411" y="808"/>
                  </a:lnTo>
                  <a:lnTo>
                    <a:pt x="411" y="680"/>
                  </a:lnTo>
                  <a:lnTo>
                    <a:pt x="387" y="513"/>
                  </a:lnTo>
                  <a:lnTo>
                    <a:pt x="340" y="282"/>
                  </a:lnTo>
                  <a:lnTo>
                    <a:pt x="223" y="12"/>
                  </a:lnTo>
                  <a:lnTo>
                    <a:pt x="223" y="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232680" y="4022640"/>
              <a:ext cx="976680" cy="1398960"/>
            </a:xfrm>
            <a:custGeom>
              <a:avLst/>
              <a:gdLst/>
              <a:ahLst/>
              <a:rect l="0" t="0" r="r" b="b"/>
              <a:pathLst>
                <a:path w="2713" h="3886">
                  <a:moveTo>
                    <a:pt x="0" y="167"/>
                  </a:moveTo>
                  <a:lnTo>
                    <a:pt x="0" y="167"/>
                  </a:lnTo>
                  <a:lnTo>
                    <a:pt x="35" y="218"/>
                  </a:lnTo>
                  <a:lnTo>
                    <a:pt x="117" y="334"/>
                  </a:lnTo>
                  <a:lnTo>
                    <a:pt x="234" y="514"/>
                  </a:lnTo>
                  <a:lnTo>
                    <a:pt x="387" y="746"/>
                  </a:lnTo>
                  <a:lnTo>
                    <a:pt x="563" y="1017"/>
                  </a:lnTo>
                  <a:lnTo>
                    <a:pt x="764" y="1300"/>
                  </a:lnTo>
                  <a:lnTo>
                    <a:pt x="975" y="1609"/>
                  </a:lnTo>
                  <a:lnTo>
                    <a:pt x="1186" y="1930"/>
                  </a:lnTo>
                  <a:lnTo>
                    <a:pt x="1409" y="2252"/>
                  </a:lnTo>
                  <a:lnTo>
                    <a:pt x="1632" y="2586"/>
                  </a:lnTo>
                  <a:lnTo>
                    <a:pt x="1832" y="2895"/>
                  </a:lnTo>
                  <a:lnTo>
                    <a:pt x="2020" y="3179"/>
                  </a:lnTo>
                  <a:lnTo>
                    <a:pt x="2197" y="3410"/>
                  </a:lnTo>
                  <a:lnTo>
                    <a:pt x="2338" y="3629"/>
                  </a:lnTo>
                  <a:lnTo>
                    <a:pt x="2420" y="3784"/>
                  </a:lnTo>
                  <a:lnTo>
                    <a:pt x="2490" y="3886"/>
                  </a:lnTo>
                  <a:lnTo>
                    <a:pt x="2713" y="3706"/>
                  </a:lnTo>
                  <a:lnTo>
                    <a:pt x="2655" y="3616"/>
                  </a:lnTo>
                  <a:lnTo>
                    <a:pt x="2561" y="3462"/>
                  </a:lnTo>
                  <a:lnTo>
                    <a:pt x="2420" y="3243"/>
                  </a:lnTo>
                  <a:lnTo>
                    <a:pt x="2256" y="3012"/>
                  </a:lnTo>
                  <a:lnTo>
                    <a:pt x="2068" y="2728"/>
                  </a:lnTo>
                  <a:lnTo>
                    <a:pt x="1855" y="2406"/>
                  </a:lnTo>
                  <a:lnTo>
                    <a:pt x="1644" y="2084"/>
                  </a:lnTo>
                  <a:lnTo>
                    <a:pt x="1421" y="1763"/>
                  </a:lnTo>
                  <a:lnTo>
                    <a:pt x="1210" y="1441"/>
                  </a:lnTo>
                  <a:lnTo>
                    <a:pt x="998" y="1133"/>
                  </a:lnTo>
                  <a:lnTo>
                    <a:pt x="799" y="810"/>
                  </a:lnTo>
                  <a:lnTo>
                    <a:pt x="610" y="578"/>
                  </a:lnTo>
                  <a:lnTo>
                    <a:pt x="457" y="347"/>
                  </a:lnTo>
                  <a:lnTo>
                    <a:pt x="340" y="167"/>
                  </a:lnTo>
                  <a:lnTo>
                    <a:pt x="270" y="51"/>
                  </a:lnTo>
                  <a:lnTo>
                    <a:pt x="234" y="0"/>
                  </a:lnTo>
                  <a:lnTo>
                    <a:pt x="234" y="0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099120" y="3903840"/>
              <a:ext cx="214560" cy="179640"/>
            </a:xfrm>
            <a:custGeom>
              <a:avLst/>
              <a:gdLst/>
              <a:ahLst/>
              <a:rect l="0" t="0" r="r" b="b"/>
              <a:pathLst>
                <a:path w="596" h="499">
                  <a:moveTo>
                    <a:pt x="0" y="157"/>
                  </a:moveTo>
                  <a:lnTo>
                    <a:pt x="140" y="315"/>
                  </a:lnTo>
                  <a:lnTo>
                    <a:pt x="233" y="328"/>
                  </a:lnTo>
                  <a:lnTo>
                    <a:pt x="268" y="341"/>
                  </a:lnTo>
                  <a:lnTo>
                    <a:pt x="291" y="394"/>
                  </a:lnTo>
                  <a:lnTo>
                    <a:pt x="362" y="499"/>
                  </a:lnTo>
                  <a:lnTo>
                    <a:pt x="596" y="328"/>
                  </a:lnTo>
                  <a:lnTo>
                    <a:pt x="526" y="222"/>
                  </a:lnTo>
                  <a:lnTo>
                    <a:pt x="456" y="104"/>
                  </a:lnTo>
                  <a:lnTo>
                    <a:pt x="316" y="13"/>
                  </a:lnTo>
                  <a:lnTo>
                    <a:pt x="140" y="0"/>
                  </a:lnTo>
                  <a:lnTo>
                    <a:pt x="280" y="157"/>
                  </a:lnTo>
                  <a:lnTo>
                    <a:pt x="0" y="1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6099120" y="3879720"/>
              <a:ext cx="101880" cy="111600"/>
            </a:xfrm>
            <a:custGeom>
              <a:avLst/>
              <a:gdLst/>
              <a:ahLst/>
              <a:rect l="0" t="0" r="r" b="b"/>
              <a:pathLst>
                <a:path w="283" h="310">
                  <a:moveTo>
                    <a:pt x="142" y="0"/>
                  </a:moveTo>
                  <a:lnTo>
                    <a:pt x="0" y="155"/>
                  </a:lnTo>
                  <a:lnTo>
                    <a:pt x="0" y="233"/>
                  </a:lnTo>
                  <a:lnTo>
                    <a:pt x="283" y="233"/>
                  </a:lnTo>
                  <a:lnTo>
                    <a:pt x="283" y="155"/>
                  </a:lnTo>
                  <a:lnTo>
                    <a:pt x="142" y="310"/>
                  </a:lnTo>
                  <a:lnTo>
                    <a:pt x="142" y="0"/>
                  </a:lnTo>
                  <a:lnTo>
                    <a:pt x="0" y="0"/>
                  </a:lnTo>
                  <a:lnTo>
                    <a:pt x="0" y="155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149880" y="3879720"/>
              <a:ext cx="70200" cy="111600"/>
            </a:xfrm>
            <a:custGeom>
              <a:avLst/>
              <a:gdLst/>
              <a:ahLst/>
              <a:rect l="0" t="0" r="r" b="b"/>
              <a:pathLst>
                <a:path w="195" h="310">
                  <a:moveTo>
                    <a:pt x="195" y="0"/>
                  </a:moveTo>
                  <a:lnTo>
                    <a:pt x="195" y="0"/>
                  </a:lnTo>
                  <a:lnTo>
                    <a:pt x="142" y="0"/>
                  </a:lnTo>
                  <a:lnTo>
                    <a:pt x="88" y="0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310"/>
                  </a:lnTo>
                  <a:lnTo>
                    <a:pt x="17" y="310"/>
                  </a:lnTo>
                  <a:lnTo>
                    <a:pt x="88" y="310"/>
                  </a:lnTo>
                  <a:lnTo>
                    <a:pt x="142" y="310"/>
                  </a:lnTo>
                  <a:lnTo>
                    <a:pt x="195" y="310"/>
                  </a:lnTo>
                  <a:lnTo>
                    <a:pt x="195" y="31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192720" y="3879720"/>
              <a:ext cx="100440" cy="111600"/>
            </a:xfrm>
            <a:custGeom>
              <a:avLst/>
              <a:gdLst/>
              <a:ahLst/>
              <a:rect l="0" t="0" r="r" b="b"/>
              <a:pathLst>
                <a:path w="279" h="310">
                  <a:moveTo>
                    <a:pt x="0" y="0"/>
                  </a:moveTo>
                  <a:lnTo>
                    <a:pt x="0" y="0"/>
                  </a:lnTo>
                  <a:lnTo>
                    <a:pt x="0" y="25"/>
                  </a:lnTo>
                  <a:lnTo>
                    <a:pt x="11" y="0"/>
                  </a:lnTo>
                  <a:lnTo>
                    <a:pt x="0" y="0"/>
                  </a:lnTo>
                  <a:lnTo>
                    <a:pt x="11" y="0"/>
                  </a:lnTo>
                  <a:lnTo>
                    <a:pt x="11" y="310"/>
                  </a:lnTo>
                  <a:lnTo>
                    <a:pt x="105" y="284"/>
                  </a:lnTo>
                  <a:lnTo>
                    <a:pt x="197" y="233"/>
                  </a:lnTo>
                  <a:lnTo>
                    <a:pt x="256" y="116"/>
                  </a:lnTo>
                  <a:lnTo>
                    <a:pt x="279" y="0"/>
                  </a:lnTo>
                  <a:lnTo>
                    <a:pt x="27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192720" y="155520"/>
              <a:ext cx="100440" cy="3724560"/>
            </a:xfrm>
            <a:custGeom>
              <a:avLst/>
              <a:gdLst/>
              <a:ahLst/>
              <a:rect l="0" t="0" r="r" b="b"/>
              <a:pathLst>
                <a:path w="279" h="10346">
                  <a:moveTo>
                    <a:pt x="0" y="0"/>
                  </a:moveTo>
                  <a:lnTo>
                    <a:pt x="0" y="0"/>
                  </a:lnTo>
                  <a:lnTo>
                    <a:pt x="0" y="1676"/>
                  </a:lnTo>
                  <a:lnTo>
                    <a:pt x="0" y="5199"/>
                  </a:lnTo>
                  <a:lnTo>
                    <a:pt x="0" y="8708"/>
                  </a:lnTo>
                  <a:lnTo>
                    <a:pt x="0" y="10346"/>
                  </a:lnTo>
                  <a:lnTo>
                    <a:pt x="279" y="10346"/>
                  </a:lnTo>
                  <a:lnTo>
                    <a:pt x="279" y="8708"/>
                  </a:lnTo>
                  <a:lnTo>
                    <a:pt x="279" y="5199"/>
                  </a:lnTo>
                  <a:lnTo>
                    <a:pt x="279" y="1676"/>
                  </a:lnTo>
                  <a:lnTo>
                    <a:pt x="279" y="0"/>
                  </a:lnTo>
                  <a:lnTo>
                    <a:pt x="27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143760" y="0"/>
              <a:ext cx="149760" cy="155880"/>
            </a:xfrm>
            <a:custGeom>
              <a:avLst/>
              <a:gdLst/>
              <a:ahLst/>
              <a:rect l="0" t="0" r="r" b="b"/>
              <a:pathLst>
                <a:path w="416" h="433">
                  <a:moveTo>
                    <a:pt x="0" y="306"/>
                  </a:moveTo>
                  <a:lnTo>
                    <a:pt x="0" y="306"/>
                  </a:lnTo>
                  <a:lnTo>
                    <a:pt x="103" y="331"/>
                  </a:lnTo>
                  <a:lnTo>
                    <a:pt x="116" y="356"/>
                  </a:lnTo>
                  <a:lnTo>
                    <a:pt x="139" y="369"/>
                  </a:lnTo>
                  <a:lnTo>
                    <a:pt x="139" y="433"/>
                  </a:lnTo>
                  <a:lnTo>
                    <a:pt x="416" y="433"/>
                  </a:lnTo>
                  <a:lnTo>
                    <a:pt x="393" y="280"/>
                  </a:lnTo>
                  <a:lnTo>
                    <a:pt x="311" y="127"/>
                  </a:lnTo>
                  <a:lnTo>
                    <a:pt x="173" y="5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482840" y="0"/>
              <a:ext cx="4661280" cy="111600"/>
            </a:xfrm>
            <a:custGeom>
              <a:avLst/>
              <a:gdLst/>
              <a:ahLst/>
              <a:rect l="0" t="0" r="r" b="b"/>
              <a:pathLst>
                <a:path w="12948" h="310">
                  <a:moveTo>
                    <a:pt x="0" y="310"/>
                  </a:moveTo>
                  <a:lnTo>
                    <a:pt x="0" y="310"/>
                  </a:lnTo>
                  <a:lnTo>
                    <a:pt x="47" y="310"/>
                  </a:lnTo>
                  <a:lnTo>
                    <a:pt x="164" y="310"/>
                  </a:lnTo>
                  <a:lnTo>
                    <a:pt x="352" y="310"/>
                  </a:lnTo>
                  <a:lnTo>
                    <a:pt x="576" y="310"/>
                  </a:lnTo>
                  <a:lnTo>
                    <a:pt x="870" y="310"/>
                  </a:lnTo>
                  <a:lnTo>
                    <a:pt x="1222" y="310"/>
                  </a:lnTo>
                  <a:lnTo>
                    <a:pt x="1622" y="310"/>
                  </a:lnTo>
                  <a:lnTo>
                    <a:pt x="2046" y="310"/>
                  </a:lnTo>
                  <a:lnTo>
                    <a:pt x="2516" y="310"/>
                  </a:lnTo>
                  <a:lnTo>
                    <a:pt x="3022" y="310"/>
                  </a:lnTo>
                  <a:lnTo>
                    <a:pt x="3540" y="310"/>
                  </a:lnTo>
                  <a:lnTo>
                    <a:pt x="4093" y="310"/>
                  </a:lnTo>
                  <a:lnTo>
                    <a:pt x="4657" y="310"/>
                  </a:lnTo>
                  <a:lnTo>
                    <a:pt x="5245" y="310"/>
                  </a:lnTo>
                  <a:lnTo>
                    <a:pt x="5845" y="310"/>
                  </a:lnTo>
                  <a:lnTo>
                    <a:pt x="6445" y="310"/>
                  </a:lnTo>
                  <a:lnTo>
                    <a:pt x="7033" y="310"/>
                  </a:lnTo>
                  <a:lnTo>
                    <a:pt x="7621" y="310"/>
                  </a:lnTo>
                  <a:lnTo>
                    <a:pt x="8220" y="310"/>
                  </a:lnTo>
                  <a:lnTo>
                    <a:pt x="8785" y="310"/>
                  </a:lnTo>
                  <a:lnTo>
                    <a:pt x="9349" y="310"/>
                  </a:lnTo>
                  <a:lnTo>
                    <a:pt x="9868" y="310"/>
                  </a:lnTo>
                  <a:lnTo>
                    <a:pt x="10373" y="310"/>
                  </a:lnTo>
                  <a:lnTo>
                    <a:pt x="10844" y="310"/>
                  </a:lnTo>
                  <a:lnTo>
                    <a:pt x="11279" y="310"/>
                  </a:lnTo>
                  <a:lnTo>
                    <a:pt x="11678" y="310"/>
                  </a:lnTo>
                  <a:lnTo>
                    <a:pt x="12031" y="310"/>
                  </a:lnTo>
                  <a:lnTo>
                    <a:pt x="12337" y="310"/>
                  </a:lnTo>
                  <a:lnTo>
                    <a:pt x="12584" y="310"/>
                  </a:lnTo>
                  <a:lnTo>
                    <a:pt x="12772" y="310"/>
                  </a:lnTo>
                  <a:lnTo>
                    <a:pt x="12901" y="310"/>
                  </a:lnTo>
                  <a:lnTo>
                    <a:pt x="12948" y="310"/>
                  </a:lnTo>
                  <a:lnTo>
                    <a:pt x="12948" y="0"/>
                  </a:lnTo>
                  <a:lnTo>
                    <a:pt x="12901" y="0"/>
                  </a:lnTo>
                  <a:lnTo>
                    <a:pt x="12772" y="0"/>
                  </a:lnTo>
                  <a:lnTo>
                    <a:pt x="12584" y="0"/>
                  </a:lnTo>
                  <a:lnTo>
                    <a:pt x="12337" y="0"/>
                  </a:lnTo>
                  <a:lnTo>
                    <a:pt x="12031" y="0"/>
                  </a:lnTo>
                  <a:lnTo>
                    <a:pt x="11678" y="0"/>
                  </a:lnTo>
                  <a:lnTo>
                    <a:pt x="11279" y="0"/>
                  </a:lnTo>
                  <a:lnTo>
                    <a:pt x="10844" y="0"/>
                  </a:lnTo>
                  <a:lnTo>
                    <a:pt x="10373" y="0"/>
                  </a:lnTo>
                  <a:lnTo>
                    <a:pt x="9868" y="0"/>
                  </a:lnTo>
                  <a:lnTo>
                    <a:pt x="9349" y="0"/>
                  </a:lnTo>
                  <a:lnTo>
                    <a:pt x="8785" y="0"/>
                  </a:lnTo>
                  <a:lnTo>
                    <a:pt x="8220" y="0"/>
                  </a:lnTo>
                  <a:lnTo>
                    <a:pt x="7621" y="0"/>
                  </a:lnTo>
                  <a:lnTo>
                    <a:pt x="7033" y="0"/>
                  </a:lnTo>
                  <a:lnTo>
                    <a:pt x="6445" y="0"/>
                  </a:lnTo>
                  <a:lnTo>
                    <a:pt x="5845" y="0"/>
                  </a:lnTo>
                  <a:lnTo>
                    <a:pt x="5245" y="0"/>
                  </a:lnTo>
                  <a:lnTo>
                    <a:pt x="4657" y="0"/>
                  </a:lnTo>
                  <a:lnTo>
                    <a:pt x="4093" y="0"/>
                  </a:lnTo>
                  <a:lnTo>
                    <a:pt x="3540" y="0"/>
                  </a:lnTo>
                  <a:lnTo>
                    <a:pt x="3022" y="0"/>
                  </a:lnTo>
                  <a:lnTo>
                    <a:pt x="2516" y="0"/>
                  </a:lnTo>
                  <a:lnTo>
                    <a:pt x="2046" y="0"/>
                  </a:lnTo>
                  <a:lnTo>
                    <a:pt x="1622" y="0"/>
                  </a:lnTo>
                  <a:lnTo>
                    <a:pt x="1222" y="0"/>
                  </a:lnTo>
                  <a:lnTo>
                    <a:pt x="870" y="0"/>
                  </a:lnTo>
                  <a:lnTo>
                    <a:pt x="576" y="0"/>
                  </a:lnTo>
                  <a:lnTo>
                    <a:pt x="352" y="0"/>
                  </a:lnTo>
                  <a:lnTo>
                    <a:pt x="164" y="0"/>
                  </a:lnTo>
                  <a:lnTo>
                    <a:pt x="4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424160" y="155520"/>
              <a:ext cx="4726440" cy="3716640"/>
            </a:xfrm>
            <a:custGeom>
              <a:avLst/>
              <a:gdLst/>
              <a:ahLst/>
              <a:rect l="0" t="0" r="r" b="b"/>
              <a:pathLst>
                <a:path w="13129" h="10324">
                  <a:moveTo>
                    <a:pt x="13129" y="10324"/>
                  </a:moveTo>
                  <a:lnTo>
                    <a:pt x="13129" y="0"/>
                  </a:lnTo>
                  <a:lnTo>
                    <a:pt x="0" y="0"/>
                  </a:lnTo>
                  <a:lnTo>
                    <a:pt x="0" y="10324"/>
                  </a:lnTo>
                  <a:lnTo>
                    <a:pt x="13129" y="10324"/>
                  </a:lnTo>
                  <a:close/>
                </a:path>
              </a:pathLst>
            </a:custGeom>
            <a:solidFill>
              <a:srgbClr val="e5cc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6099120" y="100080"/>
              <a:ext cx="101880" cy="3772080"/>
            </a:xfrm>
            <a:custGeom>
              <a:avLst/>
              <a:gdLst/>
              <a:ahLst/>
              <a:rect l="0" t="0" r="r" b="b"/>
              <a:pathLst>
                <a:path w="283" h="10478">
                  <a:moveTo>
                    <a:pt x="142" y="309"/>
                  </a:moveTo>
                  <a:lnTo>
                    <a:pt x="0" y="154"/>
                  </a:lnTo>
                  <a:lnTo>
                    <a:pt x="0" y="10478"/>
                  </a:lnTo>
                  <a:lnTo>
                    <a:pt x="283" y="10478"/>
                  </a:lnTo>
                  <a:lnTo>
                    <a:pt x="283" y="154"/>
                  </a:lnTo>
                  <a:lnTo>
                    <a:pt x="142" y="0"/>
                  </a:lnTo>
                  <a:lnTo>
                    <a:pt x="283" y="154"/>
                  </a:lnTo>
                  <a:lnTo>
                    <a:pt x="283" y="0"/>
                  </a:lnTo>
                  <a:lnTo>
                    <a:pt x="142" y="0"/>
                  </a:lnTo>
                  <a:lnTo>
                    <a:pt x="142" y="3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1373040" y="155520"/>
              <a:ext cx="100440" cy="3773880"/>
            </a:xfrm>
            <a:custGeom>
              <a:avLst/>
              <a:gdLst/>
              <a:ahLst/>
              <a:rect l="0" t="0" r="r" b="b"/>
              <a:pathLst>
                <a:path w="279" h="10483">
                  <a:moveTo>
                    <a:pt x="139" y="10174"/>
                  </a:moveTo>
                  <a:lnTo>
                    <a:pt x="279" y="10329"/>
                  </a:lnTo>
                  <a:lnTo>
                    <a:pt x="279" y="0"/>
                  </a:lnTo>
                  <a:lnTo>
                    <a:pt x="0" y="0"/>
                  </a:lnTo>
                  <a:lnTo>
                    <a:pt x="0" y="10329"/>
                  </a:lnTo>
                  <a:lnTo>
                    <a:pt x="139" y="10483"/>
                  </a:lnTo>
                  <a:lnTo>
                    <a:pt x="0" y="10329"/>
                  </a:lnTo>
                  <a:lnTo>
                    <a:pt x="0" y="10483"/>
                  </a:lnTo>
                  <a:lnTo>
                    <a:pt x="139" y="10483"/>
                  </a:lnTo>
                  <a:lnTo>
                    <a:pt x="139" y="101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424160" y="3816360"/>
              <a:ext cx="4777200" cy="113040"/>
            </a:xfrm>
            <a:custGeom>
              <a:avLst/>
              <a:gdLst/>
              <a:ahLst/>
              <a:rect l="0" t="0" r="r" b="b"/>
              <a:pathLst>
                <a:path w="13270" h="314">
                  <a:moveTo>
                    <a:pt x="12988" y="156"/>
                  </a:moveTo>
                  <a:lnTo>
                    <a:pt x="13129" y="0"/>
                  </a:lnTo>
                  <a:lnTo>
                    <a:pt x="0" y="0"/>
                  </a:lnTo>
                  <a:lnTo>
                    <a:pt x="0" y="314"/>
                  </a:lnTo>
                  <a:lnTo>
                    <a:pt x="13129" y="314"/>
                  </a:lnTo>
                  <a:lnTo>
                    <a:pt x="13270" y="156"/>
                  </a:lnTo>
                  <a:lnTo>
                    <a:pt x="13129" y="314"/>
                  </a:lnTo>
                  <a:lnTo>
                    <a:pt x="13270" y="314"/>
                  </a:lnTo>
                  <a:lnTo>
                    <a:pt x="13270" y="156"/>
                  </a:lnTo>
                  <a:lnTo>
                    <a:pt x="12988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1382760" y="4032360"/>
              <a:ext cx="4767480" cy="681480"/>
            </a:xfrm>
            <a:custGeom>
              <a:avLst/>
              <a:gdLst/>
              <a:ahLst/>
              <a:rect l="0" t="0" r="r" b="b"/>
              <a:pathLst>
                <a:path w="13243" h="1893">
                  <a:moveTo>
                    <a:pt x="0" y="1893"/>
                  </a:moveTo>
                  <a:lnTo>
                    <a:pt x="0" y="0"/>
                  </a:lnTo>
                  <a:lnTo>
                    <a:pt x="13243" y="0"/>
                  </a:lnTo>
                  <a:lnTo>
                    <a:pt x="13243" y="1893"/>
                  </a:lnTo>
                  <a:lnTo>
                    <a:pt x="0" y="1893"/>
                  </a:lnTo>
                  <a:close/>
                </a:path>
              </a:pathLst>
            </a:custGeom>
            <a:solidFill>
              <a:srgbClr val="e5cc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1338120" y="3986280"/>
              <a:ext cx="86040" cy="727560"/>
            </a:xfrm>
            <a:custGeom>
              <a:avLst/>
              <a:gdLst/>
              <a:ahLst/>
              <a:rect l="0" t="0" r="r" b="b"/>
              <a:pathLst>
                <a:path w="239" h="2021">
                  <a:moveTo>
                    <a:pt x="120" y="0"/>
                  </a:moveTo>
                  <a:lnTo>
                    <a:pt x="0" y="128"/>
                  </a:lnTo>
                  <a:lnTo>
                    <a:pt x="0" y="2021"/>
                  </a:lnTo>
                  <a:lnTo>
                    <a:pt x="239" y="2021"/>
                  </a:lnTo>
                  <a:lnTo>
                    <a:pt x="239" y="128"/>
                  </a:lnTo>
                  <a:lnTo>
                    <a:pt x="120" y="257"/>
                  </a:lnTo>
                  <a:lnTo>
                    <a:pt x="120" y="0"/>
                  </a:lnTo>
                  <a:lnTo>
                    <a:pt x="0" y="0"/>
                  </a:lnTo>
                  <a:lnTo>
                    <a:pt x="0" y="128"/>
                  </a:lnTo>
                  <a:lnTo>
                    <a:pt x="12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1382760" y="3986280"/>
              <a:ext cx="4810320" cy="92520"/>
            </a:xfrm>
            <a:custGeom>
              <a:avLst/>
              <a:gdLst/>
              <a:ahLst/>
              <a:rect l="0" t="0" r="r" b="b"/>
              <a:pathLst>
                <a:path w="13362" h="257">
                  <a:moveTo>
                    <a:pt x="13362" y="128"/>
                  </a:moveTo>
                  <a:lnTo>
                    <a:pt x="13244" y="0"/>
                  </a:lnTo>
                  <a:lnTo>
                    <a:pt x="0" y="0"/>
                  </a:lnTo>
                  <a:lnTo>
                    <a:pt x="0" y="257"/>
                  </a:lnTo>
                  <a:lnTo>
                    <a:pt x="13244" y="257"/>
                  </a:lnTo>
                  <a:lnTo>
                    <a:pt x="13139" y="128"/>
                  </a:lnTo>
                  <a:lnTo>
                    <a:pt x="13362" y="128"/>
                  </a:lnTo>
                  <a:lnTo>
                    <a:pt x="13362" y="0"/>
                  </a:lnTo>
                  <a:lnTo>
                    <a:pt x="13244" y="0"/>
                  </a:lnTo>
                  <a:lnTo>
                    <a:pt x="13362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111720" y="4032360"/>
              <a:ext cx="81360" cy="729000"/>
            </a:xfrm>
            <a:custGeom>
              <a:avLst/>
              <a:gdLst/>
              <a:ahLst/>
              <a:rect l="0" t="0" r="r" b="b"/>
              <a:pathLst>
                <a:path w="226" h="2025">
                  <a:moveTo>
                    <a:pt x="107" y="2025"/>
                  </a:moveTo>
                  <a:lnTo>
                    <a:pt x="226" y="1896"/>
                  </a:lnTo>
                  <a:lnTo>
                    <a:pt x="226" y="0"/>
                  </a:lnTo>
                  <a:lnTo>
                    <a:pt x="0" y="0"/>
                  </a:lnTo>
                  <a:lnTo>
                    <a:pt x="0" y="1896"/>
                  </a:lnTo>
                  <a:lnTo>
                    <a:pt x="107" y="1767"/>
                  </a:lnTo>
                  <a:lnTo>
                    <a:pt x="107" y="2025"/>
                  </a:lnTo>
                  <a:lnTo>
                    <a:pt x="226" y="2025"/>
                  </a:lnTo>
                  <a:lnTo>
                    <a:pt x="226" y="1896"/>
                  </a:lnTo>
                  <a:lnTo>
                    <a:pt x="107" y="20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23720" y="4032360"/>
              <a:ext cx="959040" cy="1414800"/>
            </a:xfrm>
            <a:custGeom>
              <a:avLst/>
              <a:gdLst/>
              <a:ahLst/>
              <a:rect l="0" t="0" r="r" b="b"/>
              <a:pathLst>
                <a:path w="2664" h="3930">
                  <a:moveTo>
                    <a:pt x="2664" y="0"/>
                  </a:moveTo>
                  <a:lnTo>
                    <a:pt x="2664" y="1893"/>
                  </a:lnTo>
                  <a:lnTo>
                    <a:pt x="1462" y="3930"/>
                  </a:lnTo>
                  <a:lnTo>
                    <a:pt x="0" y="3930"/>
                  </a:lnTo>
                  <a:lnTo>
                    <a:pt x="2664" y="0"/>
                  </a:lnTo>
                  <a:close/>
                </a:path>
              </a:pathLst>
            </a:custGeom>
            <a:solidFill>
              <a:srgbClr val="e5cc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338120" y="4032360"/>
              <a:ext cx="86040" cy="711720"/>
            </a:xfrm>
            <a:custGeom>
              <a:avLst/>
              <a:gdLst/>
              <a:ahLst/>
              <a:rect l="0" t="0" r="r" b="b"/>
              <a:pathLst>
                <a:path w="239" h="1977">
                  <a:moveTo>
                    <a:pt x="215" y="1977"/>
                  </a:moveTo>
                  <a:lnTo>
                    <a:pt x="239" y="1900"/>
                  </a:lnTo>
                  <a:lnTo>
                    <a:pt x="239" y="0"/>
                  </a:lnTo>
                  <a:lnTo>
                    <a:pt x="0" y="0"/>
                  </a:lnTo>
                  <a:lnTo>
                    <a:pt x="0" y="1900"/>
                  </a:lnTo>
                  <a:lnTo>
                    <a:pt x="23" y="1835"/>
                  </a:lnTo>
                  <a:lnTo>
                    <a:pt x="215" y="1977"/>
                  </a:lnTo>
                  <a:lnTo>
                    <a:pt x="239" y="1925"/>
                  </a:lnTo>
                  <a:lnTo>
                    <a:pt x="239" y="1900"/>
                  </a:lnTo>
                  <a:lnTo>
                    <a:pt x="215" y="19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915840" y="4689360"/>
              <a:ext cx="498960" cy="805320"/>
            </a:xfrm>
            <a:custGeom>
              <a:avLst/>
              <a:gdLst/>
              <a:ahLst/>
              <a:rect l="0" t="0" r="r" b="b"/>
              <a:pathLst>
                <a:path w="1386" h="2237">
                  <a:moveTo>
                    <a:pt x="93" y="2237"/>
                  </a:moveTo>
                  <a:lnTo>
                    <a:pt x="176" y="2186"/>
                  </a:lnTo>
                  <a:lnTo>
                    <a:pt x="1386" y="142"/>
                  </a:lnTo>
                  <a:lnTo>
                    <a:pt x="1198" y="0"/>
                  </a:lnTo>
                  <a:lnTo>
                    <a:pt x="0" y="2043"/>
                  </a:lnTo>
                  <a:lnTo>
                    <a:pt x="93" y="1979"/>
                  </a:lnTo>
                  <a:lnTo>
                    <a:pt x="93" y="2237"/>
                  </a:lnTo>
                  <a:lnTo>
                    <a:pt x="152" y="2237"/>
                  </a:lnTo>
                  <a:lnTo>
                    <a:pt x="176" y="2186"/>
                  </a:lnTo>
                  <a:lnTo>
                    <a:pt x="93" y="22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41280" y="5402160"/>
              <a:ext cx="605160" cy="92520"/>
            </a:xfrm>
            <a:custGeom>
              <a:avLst/>
              <a:gdLst/>
              <a:ahLst/>
              <a:rect l="0" t="0" r="r" b="b"/>
              <a:pathLst>
                <a:path w="1681" h="257">
                  <a:moveTo>
                    <a:pt x="140" y="63"/>
                  </a:moveTo>
                  <a:lnTo>
                    <a:pt x="223" y="257"/>
                  </a:lnTo>
                  <a:lnTo>
                    <a:pt x="1681" y="257"/>
                  </a:lnTo>
                  <a:lnTo>
                    <a:pt x="1681" y="0"/>
                  </a:lnTo>
                  <a:lnTo>
                    <a:pt x="223" y="0"/>
                  </a:lnTo>
                  <a:lnTo>
                    <a:pt x="317" y="206"/>
                  </a:lnTo>
                  <a:lnTo>
                    <a:pt x="140" y="63"/>
                  </a:lnTo>
                  <a:lnTo>
                    <a:pt x="0" y="257"/>
                  </a:lnTo>
                  <a:lnTo>
                    <a:pt x="223" y="257"/>
                  </a:lnTo>
                  <a:lnTo>
                    <a:pt x="14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96720" y="3887640"/>
              <a:ext cx="1027440" cy="1587960"/>
            </a:xfrm>
            <a:custGeom>
              <a:avLst/>
              <a:gdLst/>
              <a:ahLst/>
              <a:rect l="0" t="0" r="r" b="b"/>
              <a:pathLst>
                <a:path w="2854" h="4411">
                  <a:moveTo>
                    <a:pt x="2854" y="399"/>
                  </a:moveTo>
                  <a:lnTo>
                    <a:pt x="2642" y="335"/>
                  </a:lnTo>
                  <a:lnTo>
                    <a:pt x="0" y="4269"/>
                  </a:lnTo>
                  <a:lnTo>
                    <a:pt x="176" y="4411"/>
                  </a:lnTo>
                  <a:lnTo>
                    <a:pt x="2830" y="477"/>
                  </a:lnTo>
                  <a:lnTo>
                    <a:pt x="2619" y="399"/>
                  </a:lnTo>
                  <a:lnTo>
                    <a:pt x="2854" y="399"/>
                  </a:lnTo>
                  <a:lnTo>
                    <a:pt x="2854" y="0"/>
                  </a:lnTo>
                  <a:lnTo>
                    <a:pt x="2642" y="335"/>
                  </a:lnTo>
                  <a:lnTo>
                    <a:pt x="2854" y="3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149880" y="4032360"/>
              <a:ext cx="957600" cy="1414800"/>
            </a:xfrm>
            <a:custGeom>
              <a:avLst/>
              <a:gdLst/>
              <a:ahLst/>
              <a:rect l="0" t="0" r="r" b="b"/>
              <a:pathLst>
                <a:path w="2660" h="3930">
                  <a:moveTo>
                    <a:pt x="0" y="0"/>
                  </a:moveTo>
                  <a:lnTo>
                    <a:pt x="0" y="1893"/>
                  </a:lnTo>
                  <a:lnTo>
                    <a:pt x="1211" y="3930"/>
                  </a:lnTo>
                  <a:lnTo>
                    <a:pt x="2660" y="39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cc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111720" y="4032360"/>
              <a:ext cx="81360" cy="711720"/>
            </a:xfrm>
            <a:custGeom>
              <a:avLst/>
              <a:gdLst/>
              <a:ahLst/>
              <a:rect l="0" t="0" r="r" b="b"/>
              <a:pathLst>
                <a:path w="226" h="1977">
                  <a:moveTo>
                    <a:pt x="203" y="1835"/>
                  </a:moveTo>
                  <a:lnTo>
                    <a:pt x="226" y="1900"/>
                  </a:lnTo>
                  <a:lnTo>
                    <a:pt x="226" y="0"/>
                  </a:lnTo>
                  <a:lnTo>
                    <a:pt x="0" y="0"/>
                  </a:lnTo>
                  <a:lnTo>
                    <a:pt x="0" y="1900"/>
                  </a:lnTo>
                  <a:lnTo>
                    <a:pt x="23" y="1977"/>
                  </a:lnTo>
                  <a:lnTo>
                    <a:pt x="0" y="1900"/>
                  </a:lnTo>
                  <a:lnTo>
                    <a:pt x="0" y="1925"/>
                  </a:lnTo>
                  <a:lnTo>
                    <a:pt x="23" y="1977"/>
                  </a:lnTo>
                  <a:lnTo>
                    <a:pt x="203" y="18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119640" y="4689360"/>
              <a:ext cx="500400" cy="805320"/>
            </a:xfrm>
            <a:custGeom>
              <a:avLst/>
              <a:gdLst/>
              <a:ahLst/>
              <a:rect l="0" t="0" r="r" b="b"/>
              <a:pathLst>
                <a:path w="1390" h="2237">
                  <a:moveTo>
                    <a:pt x="1295" y="1979"/>
                  </a:moveTo>
                  <a:lnTo>
                    <a:pt x="1390" y="2043"/>
                  </a:lnTo>
                  <a:lnTo>
                    <a:pt x="176" y="0"/>
                  </a:lnTo>
                  <a:lnTo>
                    <a:pt x="0" y="142"/>
                  </a:lnTo>
                  <a:lnTo>
                    <a:pt x="1201" y="2186"/>
                  </a:lnTo>
                  <a:lnTo>
                    <a:pt x="1295" y="2237"/>
                  </a:lnTo>
                  <a:lnTo>
                    <a:pt x="1201" y="2186"/>
                  </a:lnTo>
                  <a:lnTo>
                    <a:pt x="1225" y="2237"/>
                  </a:lnTo>
                  <a:lnTo>
                    <a:pt x="1295" y="2237"/>
                  </a:lnTo>
                  <a:lnTo>
                    <a:pt x="1295" y="19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586560" y="5402160"/>
              <a:ext cx="606960" cy="92520"/>
            </a:xfrm>
            <a:custGeom>
              <a:avLst/>
              <a:gdLst/>
              <a:ahLst/>
              <a:rect l="0" t="0" r="r" b="b"/>
              <a:pathLst>
                <a:path w="1686" h="257">
                  <a:moveTo>
                    <a:pt x="1368" y="206"/>
                  </a:moveTo>
                  <a:lnTo>
                    <a:pt x="1450" y="0"/>
                  </a:lnTo>
                  <a:lnTo>
                    <a:pt x="0" y="0"/>
                  </a:lnTo>
                  <a:lnTo>
                    <a:pt x="0" y="257"/>
                  </a:lnTo>
                  <a:lnTo>
                    <a:pt x="1450" y="257"/>
                  </a:lnTo>
                  <a:lnTo>
                    <a:pt x="1545" y="63"/>
                  </a:lnTo>
                  <a:lnTo>
                    <a:pt x="1450" y="257"/>
                  </a:lnTo>
                  <a:lnTo>
                    <a:pt x="1686" y="257"/>
                  </a:lnTo>
                  <a:lnTo>
                    <a:pt x="1545" y="63"/>
                  </a:lnTo>
                  <a:lnTo>
                    <a:pt x="1368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111720" y="3887640"/>
              <a:ext cx="1027440" cy="1587960"/>
            </a:xfrm>
            <a:custGeom>
              <a:avLst/>
              <a:gdLst/>
              <a:ahLst/>
              <a:rect l="0" t="0" r="r" b="b"/>
              <a:pathLst>
                <a:path w="2854" h="4411">
                  <a:moveTo>
                    <a:pt x="223" y="399"/>
                  </a:moveTo>
                  <a:lnTo>
                    <a:pt x="23" y="477"/>
                  </a:lnTo>
                  <a:lnTo>
                    <a:pt x="2677" y="4411"/>
                  </a:lnTo>
                  <a:lnTo>
                    <a:pt x="2854" y="4269"/>
                  </a:lnTo>
                  <a:lnTo>
                    <a:pt x="199" y="335"/>
                  </a:lnTo>
                  <a:lnTo>
                    <a:pt x="0" y="399"/>
                  </a:lnTo>
                  <a:lnTo>
                    <a:pt x="199" y="335"/>
                  </a:lnTo>
                  <a:lnTo>
                    <a:pt x="0" y="0"/>
                  </a:lnTo>
                  <a:lnTo>
                    <a:pt x="0" y="399"/>
                  </a:lnTo>
                  <a:lnTo>
                    <a:pt x="223" y="3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939960" y="4713120"/>
              <a:ext cx="5646960" cy="733680"/>
            </a:xfrm>
            <a:custGeom>
              <a:avLst/>
              <a:gdLst/>
              <a:ahLst/>
              <a:rect l="0" t="0" r="r" b="b"/>
              <a:pathLst>
                <a:path w="15686" h="2038">
                  <a:moveTo>
                    <a:pt x="1234" y="0"/>
                  </a:moveTo>
                  <a:lnTo>
                    <a:pt x="0" y="2038"/>
                  </a:lnTo>
                  <a:lnTo>
                    <a:pt x="15686" y="2038"/>
                  </a:lnTo>
                  <a:lnTo>
                    <a:pt x="14475" y="0"/>
                  </a:lnTo>
                  <a:lnTo>
                    <a:pt x="1234" y="0"/>
                  </a:lnTo>
                  <a:close/>
                </a:path>
              </a:pathLst>
            </a:custGeom>
            <a:solidFill>
              <a:srgbClr val="e5ccb2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865080" y="4689360"/>
              <a:ext cx="557640" cy="805320"/>
            </a:xfrm>
            <a:custGeom>
              <a:avLst/>
              <a:gdLst/>
              <a:ahLst/>
              <a:rect l="0" t="0" r="r" b="b"/>
              <a:pathLst>
                <a:path w="1549" h="2237">
                  <a:moveTo>
                    <a:pt x="212" y="1979"/>
                  </a:moveTo>
                  <a:lnTo>
                    <a:pt x="307" y="2186"/>
                  </a:lnTo>
                  <a:lnTo>
                    <a:pt x="1549" y="142"/>
                  </a:lnTo>
                  <a:lnTo>
                    <a:pt x="1372" y="0"/>
                  </a:lnTo>
                  <a:lnTo>
                    <a:pt x="129" y="2043"/>
                  </a:lnTo>
                  <a:lnTo>
                    <a:pt x="212" y="2237"/>
                  </a:lnTo>
                  <a:lnTo>
                    <a:pt x="129" y="2043"/>
                  </a:lnTo>
                  <a:lnTo>
                    <a:pt x="0" y="2237"/>
                  </a:lnTo>
                  <a:lnTo>
                    <a:pt x="212" y="2237"/>
                  </a:lnTo>
                  <a:lnTo>
                    <a:pt x="212" y="19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939960" y="5402160"/>
              <a:ext cx="5729760" cy="92520"/>
            </a:xfrm>
            <a:custGeom>
              <a:avLst/>
              <a:gdLst/>
              <a:ahLst/>
              <a:rect l="0" t="0" r="r" b="b"/>
              <a:pathLst>
                <a:path w="15916" h="257">
                  <a:moveTo>
                    <a:pt x="15599" y="206"/>
                  </a:moveTo>
                  <a:lnTo>
                    <a:pt x="15693" y="0"/>
                  </a:lnTo>
                  <a:lnTo>
                    <a:pt x="0" y="0"/>
                  </a:lnTo>
                  <a:lnTo>
                    <a:pt x="0" y="257"/>
                  </a:lnTo>
                  <a:lnTo>
                    <a:pt x="15693" y="257"/>
                  </a:lnTo>
                  <a:lnTo>
                    <a:pt x="15787" y="63"/>
                  </a:lnTo>
                  <a:lnTo>
                    <a:pt x="15693" y="257"/>
                  </a:lnTo>
                  <a:lnTo>
                    <a:pt x="15916" y="257"/>
                  </a:lnTo>
                  <a:lnTo>
                    <a:pt x="15787" y="63"/>
                  </a:lnTo>
                  <a:lnTo>
                    <a:pt x="15599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19640" y="4667400"/>
              <a:ext cx="500400" cy="808560"/>
            </a:xfrm>
            <a:custGeom>
              <a:avLst/>
              <a:gdLst/>
              <a:ahLst/>
              <a:rect l="0" t="0" r="r" b="b"/>
              <a:pathLst>
                <a:path w="1390" h="2246">
                  <a:moveTo>
                    <a:pt x="82" y="257"/>
                  </a:moveTo>
                  <a:lnTo>
                    <a:pt x="0" y="206"/>
                  </a:lnTo>
                  <a:lnTo>
                    <a:pt x="1201" y="2246"/>
                  </a:lnTo>
                  <a:lnTo>
                    <a:pt x="1390" y="2104"/>
                  </a:lnTo>
                  <a:lnTo>
                    <a:pt x="176" y="64"/>
                  </a:lnTo>
                  <a:lnTo>
                    <a:pt x="82" y="0"/>
                  </a:lnTo>
                  <a:lnTo>
                    <a:pt x="176" y="64"/>
                  </a:lnTo>
                  <a:lnTo>
                    <a:pt x="153" y="0"/>
                  </a:lnTo>
                  <a:lnTo>
                    <a:pt x="82" y="0"/>
                  </a:lnTo>
                  <a:lnTo>
                    <a:pt x="82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63520" y="5391000"/>
              <a:ext cx="6961680" cy="1229040"/>
            </a:xfrm>
            <a:custGeom>
              <a:avLst/>
              <a:gdLst/>
              <a:ahLst/>
              <a:rect l="0" t="0" r="r" b="b"/>
              <a:pathLst>
                <a:path w="19338" h="3414">
                  <a:moveTo>
                    <a:pt x="19338" y="721"/>
                  </a:moveTo>
                  <a:lnTo>
                    <a:pt x="19338" y="1107"/>
                  </a:lnTo>
                  <a:lnTo>
                    <a:pt x="19338" y="1855"/>
                  </a:lnTo>
                  <a:lnTo>
                    <a:pt x="19338" y="2615"/>
                  </a:lnTo>
                  <a:lnTo>
                    <a:pt x="19338" y="3053"/>
                  </a:lnTo>
                  <a:lnTo>
                    <a:pt x="19315" y="3208"/>
                  </a:lnTo>
                  <a:lnTo>
                    <a:pt x="19279" y="3323"/>
                  </a:lnTo>
                  <a:lnTo>
                    <a:pt x="19174" y="3388"/>
                  </a:lnTo>
                  <a:lnTo>
                    <a:pt x="18985" y="3414"/>
                  </a:lnTo>
                  <a:lnTo>
                    <a:pt x="18915" y="3414"/>
                  </a:lnTo>
                  <a:lnTo>
                    <a:pt x="18727" y="3414"/>
                  </a:lnTo>
                  <a:lnTo>
                    <a:pt x="18457" y="3414"/>
                  </a:lnTo>
                  <a:lnTo>
                    <a:pt x="18104" y="3414"/>
                  </a:lnTo>
                  <a:lnTo>
                    <a:pt x="17681" y="3414"/>
                  </a:lnTo>
                  <a:lnTo>
                    <a:pt x="17175" y="3414"/>
                  </a:lnTo>
                  <a:lnTo>
                    <a:pt x="16611" y="3414"/>
                  </a:lnTo>
                  <a:lnTo>
                    <a:pt x="15988" y="3414"/>
                  </a:lnTo>
                  <a:lnTo>
                    <a:pt x="15306" y="3414"/>
                  </a:lnTo>
                  <a:lnTo>
                    <a:pt x="14589" y="3414"/>
                  </a:lnTo>
                  <a:lnTo>
                    <a:pt x="13824" y="3414"/>
                  </a:lnTo>
                  <a:lnTo>
                    <a:pt x="13037" y="3414"/>
                  </a:lnTo>
                  <a:lnTo>
                    <a:pt x="12214" y="3414"/>
                  </a:lnTo>
                  <a:lnTo>
                    <a:pt x="11379" y="3414"/>
                  </a:lnTo>
                  <a:lnTo>
                    <a:pt x="10533" y="3414"/>
                  </a:lnTo>
                  <a:lnTo>
                    <a:pt x="9675" y="3414"/>
                  </a:lnTo>
                  <a:lnTo>
                    <a:pt x="8817" y="3414"/>
                  </a:lnTo>
                  <a:lnTo>
                    <a:pt x="7970" y="3414"/>
                  </a:lnTo>
                  <a:lnTo>
                    <a:pt x="7136" y="3414"/>
                  </a:lnTo>
                  <a:lnTo>
                    <a:pt x="6313" y="3414"/>
                  </a:lnTo>
                  <a:lnTo>
                    <a:pt x="5513" y="3414"/>
                  </a:lnTo>
                  <a:lnTo>
                    <a:pt x="4760" y="3414"/>
                  </a:lnTo>
                  <a:lnTo>
                    <a:pt x="4043" y="3414"/>
                  </a:lnTo>
                  <a:lnTo>
                    <a:pt x="3361" y="3414"/>
                  </a:lnTo>
                  <a:lnTo>
                    <a:pt x="2750" y="3414"/>
                  </a:lnTo>
                  <a:lnTo>
                    <a:pt x="2186" y="3414"/>
                  </a:lnTo>
                  <a:lnTo>
                    <a:pt x="1680" y="3414"/>
                  </a:lnTo>
                  <a:lnTo>
                    <a:pt x="1257" y="3414"/>
                  </a:lnTo>
                  <a:lnTo>
                    <a:pt x="893" y="3414"/>
                  </a:lnTo>
                  <a:lnTo>
                    <a:pt x="646" y="3414"/>
                  </a:lnTo>
                  <a:lnTo>
                    <a:pt x="458" y="3414"/>
                  </a:lnTo>
                  <a:lnTo>
                    <a:pt x="387" y="3414"/>
                  </a:lnTo>
                  <a:lnTo>
                    <a:pt x="282" y="3401"/>
                  </a:lnTo>
                  <a:lnTo>
                    <a:pt x="199" y="3388"/>
                  </a:lnTo>
                  <a:lnTo>
                    <a:pt x="129" y="3349"/>
                  </a:lnTo>
                  <a:lnTo>
                    <a:pt x="82" y="3298"/>
                  </a:lnTo>
                  <a:lnTo>
                    <a:pt x="35" y="3233"/>
                  </a:lnTo>
                  <a:lnTo>
                    <a:pt x="11" y="3156"/>
                  </a:lnTo>
                  <a:lnTo>
                    <a:pt x="0" y="3079"/>
                  </a:lnTo>
                  <a:lnTo>
                    <a:pt x="0" y="3001"/>
                  </a:lnTo>
                  <a:lnTo>
                    <a:pt x="0" y="2512"/>
                  </a:lnTo>
                  <a:lnTo>
                    <a:pt x="0" y="1674"/>
                  </a:lnTo>
                  <a:lnTo>
                    <a:pt x="0" y="875"/>
                  </a:lnTo>
                  <a:lnTo>
                    <a:pt x="0" y="463"/>
                  </a:lnTo>
                  <a:lnTo>
                    <a:pt x="0" y="386"/>
                  </a:lnTo>
                  <a:lnTo>
                    <a:pt x="11" y="283"/>
                  </a:lnTo>
                  <a:lnTo>
                    <a:pt x="47" y="180"/>
                  </a:lnTo>
                  <a:lnTo>
                    <a:pt x="117" y="51"/>
                  </a:lnTo>
                  <a:lnTo>
                    <a:pt x="47" y="167"/>
                  </a:lnTo>
                  <a:lnTo>
                    <a:pt x="11" y="270"/>
                  </a:lnTo>
                  <a:lnTo>
                    <a:pt x="0" y="334"/>
                  </a:lnTo>
                  <a:lnTo>
                    <a:pt x="0" y="399"/>
                  </a:lnTo>
                  <a:lnTo>
                    <a:pt x="11" y="425"/>
                  </a:lnTo>
                  <a:lnTo>
                    <a:pt x="35" y="437"/>
                  </a:lnTo>
                  <a:lnTo>
                    <a:pt x="58" y="450"/>
                  </a:lnTo>
                  <a:lnTo>
                    <a:pt x="105" y="450"/>
                  </a:lnTo>
                  <a:lnTo>
                    <a:pt x="164" y="450"/>
                  </a:lnTo>
                  <a:lnTo>
                    <a:pt x="317" y="450"/>
                  </a:lnTo>
                  <a:lnTo>
                    <a:pt x="575" y="450"/>
                  </a:lnTo>
                  <a:lnTo>
                    <a:pt x="940" y="450"/>
                  </a:lnTo>
                  <a:lnTo>
                    <a:pt x="1363" y="450"/>
                  </a:lnTo>
                  <a:lnTo>
                    <a:pt x="1869" y="450"/>
                  </a:lnTo>
                  <a:lnTo>
                    <a:pt x="2444" y="450"/>
                  </a:lnTo>
                  <a:lnTo>
                    <a:pt x="3079" y="450"/>
                  </a:lnTo>
                  <a:lnTo>
                    <a:pt x="3773" y="450"/>
                  </a:lnTo>
                  <a:lnTo>
                    <a:pt x="4513" y="450"/>
                  </a:lnTo>
                  <a:lnTo>
                    <a:pt x="5302" y="450"/>
                  </a:lnTo>
                  <a:lnTo>
                    <a:pt x="6125" y="450"/>
                  </a:lnTo>
                  <a:lnTo>
                    <a:pt x="6971" y="450"/>
                  </a:lnTo>
                  <a:lnTo>
                    <a:pt x="7841" y="450"/>
                  </a:lnTo>
                  <a:lnTo>
                    <a:pt x="8711" y="450"/>
                  </a:lnTo>
                  <a:lnTo>
                    <a:pt x="9592" y="450"/>
                  </a:lnTo>
                  <a:lnTo>
                    <a:pt x="10486" y="450"/>
                  </a:lnTo>
                  <a:lnTo>
                    <a:pt x="11367" y="450"/>
                  </a:lnTo>
                  <a:lnTo>
                    <a:pt x="12237" y="450"/>
                  </a:lnTo>
                  <a:lnTo>
                    <a:pt x="13084" y="450"/>
                  </a:lnTo>
                  <a:lnTo>
                    <a:pt x="13895" y="450"/>
                  </a:lnTo>
                  <a:lnTo>
                    <a:pt x="14671" y="450"/>
                  </a:lnTo>
                  <a:lnTo>
                    <a:pt x="15424" y="450"/>
                  </a:lnTo>
                  <a:lnTo>
                    <a:pt x="16117" y="450"/>
                  </a:lnTo>
                  <a:lnTo>
                    <a:pt x="16752" y="450"/>
                  </a:lnTo>
                  <a:lnTo>
                    <a:pt x="17328" y="450"/>
                  </a:lnTo>
                  <a:lnTo>
                    <a:pt x="17845" y="450"/>
                  </a:lnTo>
                  <a:lnTo>
                    <a:pt x="18280" y="450"/>
                  </a:lnTo>
                  <a:lnTo>
                    <a:pt x="18633" y="450"/>
                  </a:lnTo>
                  <a:lnTo>
                    <a:pt x="18880" y="450"/>
                  </a:lnTo>
                  <a:lnTo>
                    <a:pt x="19056" y="450"/>
                  </a:lnTo>
                  <a:lnTo>
                    <a:pt x="19115" y="450"/>
                  </a:lnTo>
                  <a:lnTo>
                    <a:pt x="19209" y="437"/>
                  </a:lnTo>
                  <a:lnTo>
                    <a:pt x="19268" y="399"/>
                  </a:lnTo>
                  <a:lnTo>
                    <a:pt x="19279" y="257"/>
                  </a:lnTo>
                  <a:lnTo>
                    <a:pt x="19174" y="0"/>
                  </a:lnTo>
                  <a:lnTo>
                    <a:pt x="19256" y="180"/>
                  </a:lnTo>
                  <a:lnTo>
                    <a:pt x="19303" y="334"/>
                  </a:lnTo>
                  <a:lnTo>
                    <a:pt x="19338" y="502"/>
                  </a:lnTo>
                  <a:lnTo>
                    <a:pt x="19338" y="721"/>
                  </a:lnTo>
                  <a:close/>
                </a:path>
              </a:pathLst>
            </a:custGeom>
            <a:solidFill>
              <a:srgbClr val="660c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182000" y="5648400"/>
              <a:ext cx="81360" cy="841680"/>
            </a:xfrm>
            <a:custGeom>
              <a:avLst/>
              <a:gdLst/>
              <a:ahLst/>
              <a:rect l="0" t="0" r="r" b="b"/>
              <a:pathLst>
                <a:path w="226" h="2338">
                  <a:moveTo>
                    <a:pt x="226" y="2338"/>
                  </a:moveTo>
                  <a:lnTo>
                    <a:pt x="226" y="2338"/>
                  </a:lnTo>
                  <a:lnTo>
                    <a:pt x="226" y="1899"/>
                  </a:lnTo>
                  <a:lnTo>
                    <a:pt x="226" y="1136"/>
                  </a:lnTo>
                  <a:lnTo>
                    <a:pt x="226" y="387"/>
                  </a:lnTo>
                  <a:lnTo>
                    <a:pt x="226" y="0"/>
                  </a:lnTo>
                  <a:lnTo>
                    <a:pt x="0" y="0"/>
                  </a:lnTo>
                  <a:lnTo>
                    <a:pt x="0" y="387"/>
                  </a:lnTo>
                  <a:lnTo>
                    <a:pt x="0" y="1136"/>
                  </a:lnTo>
                  <a:lnTo>
                    <a:pt x="0" y="1899"/>
                  </a:lnTo>
                  <a:lnTo>
                    <a:pt x="0" y="2338"/>
                  </a:lnTo>
                  <a:lnTo>
                    <a:pt x="0" y="2338"/>
                  </a:lnTo>
                  <a:lnTo>
                    <a:pt x="226" y="23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097760" y="6489720"/>
              <a:ext cx="165600" cy="178200"/>
            </a:xfrm>
            <a:custGeom>
              <a:avLst/>
              <a:gdLst/>
              <a:ahLst/>
              <a:rect l="0" t="0" r="r" b="b"/>
              <a:pathLst>
                <a:path w="460" h="495">
                  <a:moveTo>
                    <a:pt x="0" y="495"/>
                  </a:moveTo>
                  <a:lnTo>
                    <a:pt x="0" y="495"/>
                  </a:lnTo>
                  <a:lnTo>
                    <a:pt x="224" y="469"/>
                  </a:lnTo>
                  <a:lnTo>
                    <a:pt x="390" y="351"/>
                  </a:lnTo>
                  <a:lnTo>
                    <a:pt x="448" y="169"/>
                  </a:lnTo>
                  <a:lnTo>
                    <a:pt x="460" y="0"/>
                  </a:lnTo>
                  <a:lnTo>
                    <a:pt x="236" y="0"/>
                  </a:lnTo>
                  <a:lnTo>
                    <a:pt x="224" y="143"/>
                  </a:lnTo>
                  <a:lnTo>
                    <a:pt x="212" y="182"/>
                  </a:lnTo>
                  <a:lnTo>
                    <a:pt x="165" y="208"/>
                  </a:lnTo>
                  <a:lnTo>
                    <a:pt x="0" y="247"/>
                  </a:lnTo>
                  <a:lnTo>
                    <a:pt x="0" y="247"/>
                  </a:lnTo>
                  <a:lnTo>
                    <a:pt x="0" y="4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04640" y="6580080"/>
              <a:ext cx="6693120" cy="87840"/>
            </a:xfrm>
            <a:custGeom>
              <a:avLst/>
              <a:gdLst/>
              <a:ahLst/>
              <a:rect l="0" t="0" r="r" b="b"/>
              <a:pathLst>
                <a:path w="18592" h="244">
                  <a:moveTo>
                    <a:pt x="0" y="244"/>
                  </a:moveTo>
                  <a:lnTo>
                    <a:pt x="0" y="244"/>
                  </a:lnTo>
                  <a:lnTo>
                    <a:pt x="70" y="244"/>
                  </a:lnTo>
                  <a:lnTo>
                    <a:pt x="258" y="244"/>
                  </a:lnTo>
                  <a:lnTo>
                    <a:pt x="505" y="244"/>
                  </a:lnTo>
                  <a:lnTo>
                    <a:pt x="869" y="244"/>
                  </a:lnTo>
                  <a:lnTo>
                    <a:pt x="1292" y="244"/>
                  </a:lnTo>
                  <a:lnTo>
                    <a:pt x="1798" y="244"/>
                  </a:lnTo>
                  <a:lnTo>
                    <a:pt x="2362" y="244"/>
                  </a:lnTo>
                  <a:lnTo>
                    <a:pt x="2973" y="244"/>
                  </a:lnTo>
                  <a:lnTo>
                    <a:pt x="3654" y="244"/>
                  </a:lnTo>
                  <a:lnTo>
                    <a:pt x="4371" y="244"/>
                  </a:lnTo>
                  <a:lnTo>
                    <a:pt x="5123" y="244"/>
                  </a:lnTo>
                  <a:lnTo>
                    <a:pt x="5922" y="244"/>
                  </a:lnTo>
                  <a:lnTo>
                    <a:pt x="6745" y="244"/>
                  </a:lnTo>
                  <a:lnTo>
                    <a:pt x="7579" y="244"/>
                  </a:lnTo>
                  <a:lnTo>
                    <a:pt x="8426" y="244"/>
                  </a:lnTo>
                  <a:lnTo>
                    <a:pt x="9283" y="244"/>
                  </a:lnTo>
                  <a:lnTo>
                    <a:pt x="10142" y="244"/>
                  </a:lnTo>
                  <a:lnTo>
                    <a:pt x="10988" y="244"/>
                  </a:lnTo>
                  <a:lnTo>
                    <a:pt x="11823" y="244"/>
                  </a:lnTo>
                  <a:lnTo>
                    <a:pt x="12645" y="244"/>
                  </a:lnTo>
                  <a:lnTo>
                    <a:pt x="13433" y="244"/>
                  </a:lnTo>
                  <a:lnTo>
                    <a:pt x="14197" y="244"/>
                  </a:lnTo>
                  <a:lnTo>
                    <a:pt x="14914" y="244"/>
                  </a:lnTo>
                  <a:lnTo>
                    <a:pt x="15595" y="244"/>
                  </a:lnTo>
                  <a:lnTo>
                    <a:pt x="16218" y="244"/>
                  </a:lnTo>
                  <a:lnTo>
                    <a:pt x="16782" y="244"/>
                  </a:lnTo>
                  <a:lnTo>
                    <a:pt x="17287" y="244"/>
                  </a:lnTo>
                  <a:lnTo>
                    <a:pt x="17711" y="244"/>
                  </a:lnTo>
                  <a:lnTo>
                    <a:pt x="18063" y="244"/>
                  </a:lnTo>
                  <a:lnTo>
                    <a:pt x="18333" y="244"/>
                  </a:lnTo>
                  <a:lnTo>
                    <a:pt x="18521" y="244"/>
                  </a:lnTo>
                  <a:lnTo>
                    <a:pt x="18592" y="244"/>
                  </a:lnTo>
                  <a:lnTo>
                    <a:pt x="18592" y="0"/>
                  </a:lnTo>
                  <a:lnTo>
                    <a:pt x="18521" y="0"/>
                  </a:lnTo>
                  <a:lnTo>
                    <a:pt x="18333" y="0"/>
                  </a:lnTo>
                  <a:lnTo>
                    <a:pt x="18063" y="0"/>
                  </a:lnTo>
                  <a:lnTo>
                    <a:pt x="17711" y="0"/>
                  </a:lnTo>
                  <a:lnTo>
                    <a:pt x="17287" y="0"/>
                  </a:lnTo>
                  <a:lnTo>
                    <a:pt x="16782" y="0"/>
                  </a:lnTo>
                  <a:lnTo>
                    <a:pt x="16218" y="0"/>
                  </a:lnTo>
                  <a:lnTo>
                    <a:pt x="15595" y="0"/>
                  </a:lnTo>
                  <a:lnTo>
                    <a:pt x="14914" y="0"/>
                  </a:lnTo>
                  <a:lnTo>
                    <a:pt x="14197" y="0"/>
                  </a:lnTo>
                  <a:lnTo>
                    <a:pt x="13433" y="0"/>
                  </a:lnTo>
                  <a:lnTo>
                    <a:pt x="12645" y="0"/>
                  </a:lnTo>
                  <a:lnTo>
                    <a:pt x="11823" y="0"/>
                  </a:lnTo>
                  <a:lnTo>
                    <a:pt x="10988" y="0"/>
                  </a:lnTo>
                  <a:lnTo>
                    <a:pt x="10142" y="0"/>
                  </a:lnTo>
                  <a:lnTo>
                    <a:pt x="9283" y="0"/>
                  </a:lnTo>
                  <a:lnTo>
                    <a:pt x="8426" y="0"/>
                  </a:lnTo>
                  <a:lnTo>
                    <a:pt x="7579" y="0"/>
                  </a:lnTo>
                  <a:lnTo>
                    <a:pt x="6745" y="0"/>
                  </a:lnTo>
                  <a:lnTo>
                    <a:pt x="5922" y="0"/>
                  </a:lnTo>
                  <a:lnTo>
                    <a:pt x="5123" y="0"/>
                  </a:lnTo>
                  <a:lnTo>
                    <a:pt x="4371" y="0"/>
                  </a:lnTo>
                  <a:lnTo>
                    <a:pt x="3654" y="0"/>
                  </a:lnTo>
                  <a:lnTo>
                    <a:pt x="2973" y="0"/>
                  </a:lnTo>
                  <a:lnTo>
                    <a:pt x="2362" y="0"/>
                  </a:lnTo>
                  <a:lnTo>
                    <a:pt x="1798" y="0"/>
                  </a:lnTo>
                  <a:lnTo>
                    <a:pt x="1292" y="0"/>
                  </a:lnTo>
                  <a:lnTo>
                    <a:pt x="869" y="0"/>
                  </a:lnTo>
                  <a:lnTo>
                    <a:pt x="505" y="0"/>
                  </a:lnTo>
                  <a:lnTo>
                    <a:pt x="258" y="0"/>
                  </a:lnTo>
                  <a:lnTo>
                    <a:pt x="7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220680" y="6470640"/>
              <a:ext cx="184680" cy="197280"/>
            </a:xfrm>
            <a:custGeom>
              <a:avLst/>
              <a:gdLst/>
              <a:ahLst/>
              <a:rect l="0" t="0" r="r" b="b"/>
              <a:pathLst>
                <a:path w="513" h="548">
                  <a:moveTo>
                    <a:pt x="0" y="0"/>
                  </a:moveTo>
                  <a:lnTo>
                    <a:pt x="0" y="0"/>
                  </a:lnTo>
                  <a:lnTo>
                    <a:pt x="0" y="78"/>
                  </a:lnTo>
                  <a:lnTo>
                    <a:pt x="11" y="183"/>
                  </a:lnTo>
                  <a:lnTo>
                    <a:pt x="59" y="300"/>
                  </a:lnTo>
                  <a:lnTo>
                    <a:pt x="107" y="378"/>
                  </a:lnTo>
                  <a:lnTo>
                    <a:pt x="179" y="457"/>
                  </a:lnTo>
                  <a:lnTo>
                    <a:pt x="286" y="522"/>
                  </a:lnTo>
                  <a:lnTo>
                    <a:pt x="394" y="535"/>
                  </a:lnTo>
                  <a:lnTo>
                    <a:pt x="513" y="548"/>
                  </a:lnTo>
                  <a:lnTo>
                    <a:pt x="513" y="300"/>
                  </a:lnTo>
                  <a:lnTo>
                    <a:pt x="418" y="274"/>
                  </a:lnTo>
                  <a:lnTo>
                    <a:pt x="369" y="261"/>
                  </a:lnTo>
                  <a:lnTo>
                    <a:pt x="310" y="248"/>
                  </a:lnTo>
                  <a:lnTo>
                    <a:pt x="286" y="209"/>
                  </a:lnTo>
                  <a:lnTo>
                    <a:pt x="262" y="183"/>
                  </a:lnTo>
                  <a:lnTo>
                    <a:pt x="250" y="117"/>
                  </a:lnTo>
                  <a:lnTo>
                    <a:pt x="238" y="78"/>
                  </a:lnTo>
                  <a:lnTo>
                    <a:pt x="238" y="0"/>
                  </a:lnTo>
                  <a:lnTo>
                    <a:pt x="23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220680" y="5557680"/>
              <a:ext cx="87840" cy="913320"/>
            </a:xfrm>
            <a:custGeom>
              <a:avLst/>
              <a:gdLst/>
              <a:ahLst/>
              <a:rect l="0" t="0" r="r" b="b"/>
              <a:pathLst>
                <a:path w="244" h="2537">
                  <a:moveTo>
                    <a:pt x="0" y="0"/>
                  </a:moveTo>
                  <a:lnTo>
                    <a:pt x="0" y="0"/>
                  </a:lnTo>
                  <a:lnTo>
                    <a:pt x="0" y="411"/>
                  </a:lnTo>
                  <a:lnTo>
                    <a:pt x="0" y="1210"/>
                  </a:lnTo>
                  <a:lnTo>
                    <a:pt x="0" y="2048"/>
                  </a:lnTo>
                  <a:lnTo>
                    <a:pt x="0" y="2537"/>
                  </a:lnTo>
                  <a:lnTo>
                    <a:pt x="244" y="2537"/>
                  </a:lnTo>
                  <a:lnTo>
                    <a:pt x="244" y="2048"/>
                  </a:lnTo>
                  <a:lnTo>
                    <a:pt x="244" y="1210"/>
                  </a:lnTo>
                  <a:lnTo>
                    <a:pt x="244" y="411"/>
                  </a:lnTo>
                  <a:lnTo>
                    <a:pt x="244" y="0"/>
                  </a:lnTo>
                  <a:lnTo>
                    <a:pt x="24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20680" y="5384880"/>
              <a:ext cx="114840" cy="173520"/>
            </a:xfrm>
            <a:custGeom>
              <a:avLst/>
              <a:gdLst/>
              <a:ahLst/>
              <a:rect l="0" t="0" r="r" b="b"/>
              <a:pathLst>
                <a:path w="319" h="482">
                  <a:moveTo>
                    <a:pt x="319" y="143"/>
                  </a:moveTo>
                  <a:lnTo>
                    <a:pt x="142" y="0"/>
                  </a:lnTo>
                  <a:lnTo>
                    <a:pt x="70" y="143"/>
                  </a:lnTo>
                  <a:lnTo>
                    <a:pt x="11" y="273"/>
                  </a:lnTo>
                  <a:lnTo>
                    <a:pt x="0" y="404"/>
                  </a:lnTo>
                  <a:lnTo>
                    <a:pt x="0" y="482"/>
                  </a:lnTo>
                  <a:lnTo>
                    <a:pt x="236" y="482"/>
                  </a:lnTo>
                  <a:lnTo>
                    <a:pt x="236" y="404"/>
                  </a:lnTo>
                  <a:lnTo>
                    <a:pt x="248" y="325"/>
                  </a:lnTo>
                  <a:lnTo>
                    <a:pt x="272" y="260"/>
                  </a:lnTo>
                  <a:lnTo>
                    <a:pt x="319" y="143"/>
                  </a:lnTo>
                  <a:lnTo>
                    <a:pt x="142" y="0"/>
                  </a:lnTo>
                  <a:lnTo>
                    <a:pt x="319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220680" y="5384880"/>
              <a:ext cx="114840" cy="149760"/>
            </a:xfrm>
            <a:custGeom>
              <a:avLst/>
              <a:gdLst/>
              <a:ahLst/>
              <a:rect l="0" t="0" r="r" b="b"/>
              <a:pathLst>
                <a:path w="319" h="416">
                  <a:moveTo>
                    <a:pt x="236" y="416"/>
                  </a:moveTo>
                  <a:lnTo>
                    <a:pt x="236" y="416"/>
                  </a:lnTo>
                  <a:lnTo>
                    <a:pt x="236" y="364"/>
                  </a:lnTo>
                  <a:lnTo>
                    <a:pt x="248" y="325"/>
                  </a:lnTo>
                  <a:lnTo>
                    <a:pt x="272" y="247"/>
                  </a:lnTo>
                  <a:lnTo>
                    <a:pt x="319" y="143"/>
                  </a:lnTo>
                  <a:lnTo>
                    <a:pt x="142" y="0"/>
                  </a:lnTo>
                  <a:lnTo>
                    <a:pt x="70" y="130"/>
                  </a:lnTo>
                  <a:lnTo>
                    <a:pt x="11" y="247"/>
                  </a:lnTo>
                  <a:lnTo>
                    <a:pt x="0" y="338"/>
                  </a:lnTo>
                  <a:lnTo>
                    <a:pt x="0" y="416"/>
                  </a:lnTo>
                  <a:lnTo>
                    <a:pt x="0" y="416"/>
                  </a:lnTo>
                  <a:lnTo>
                    <a:pt x="236" y="4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20680" y="5506920"/>
              <a:ext cx="87840" cy="93960"/>
            </a:xfrm>
            <a:custGeom>
              <a:avLst/>
              <a:gdLst/>
              <a:ahLst/>
              <a:rect l="0" t="0" r="r" b="b"/>
              <a:pathLst>
                <a:path w="244" h="261">
                  <a:moveTo>
                    <a:pt x="232" y="0"/>
                  </a:moveTo>
                  <a:lnTo>
                    <a:pt x="232" y="0"/>
                  </a:lnTo>
                  <a:lnTo>
                    <a:pt x="208" y="0"/>
                  </a:lnTo>
                  <a:lnTo>
                    <a:pt x="220" y="0"/>
                  </a:lnTo>
                  <a:lnTo>
                    <a:pt x="220" y="13"/>
                  </a:lnTo>
                  <a:lnTo>
                    <a:pt x="244" y="78"/>
                  </a:lnTo>
                  <a:lnTo>
                    <a:pt x="0" y="78"/>
                  </a:lnTo>
                  <a:lnTo>
                    <a:pt x="60" y="183"/>
                  </a:lnTo>
                  <a:lnTo>
                    <a:pt x="110" y="235"/>
                  </a:lnTo>
                  <a:lnTo>
                    <a:pt x="170" y="261"/>
                  </a:lnTo>
                  <a:lnTo>
                    <a:pt x="232" y="261"/>
                  </a:lnTo>
                  <a:lnTo>
                    <a:pt x="232" y="261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01680" y="5506920"/>
              <a:ext cx="6843960" cy="93960"/>
            </a:xfrm>
            <a:custGeom>
              <a:avLst/>
              <a:gdLst/>
              <a:ahLst/>
              <a:rect l="0" t="0" r="r" b="b"/>
              <a:pathLst>
                <a:path w="19011" h="261">
                  <a:moveTo>
                    <a:pt x="19011" y="0"/>
                  </a:moveTo>
                  <a:lnTo>
                    <a:pt x="19011" y="0"/>
                  </a:lnTo>
                  <a:lnTo>
                    <a:pt x="18952" y="0"/>
                  </a:lnTo>
                  <a:lnTo>
                    <a:pt x="18776" y="0"/>
                  </a:lnTo>
                  <a:lnTo>
                    <a:pt x="18529" y="0"/>
                  </a:lnTo>
                  <a:lnTo>
                    <a:pt x="18176" y="0"/>
                  </a:lnTo>
                  <a:lnTo>
                    <a:pt x="17741" y="0"/>
                  </a:lnTo>
                  <a:lnTo>
                    <a:pt x="17224" y="0"/>
                  </a:lnTo>
                  <a:lnTo>
                    <a:pt x="16648" y="0"/>
                  </a:lnTo>
                  <a:lnTo>
                    <a:pt x="16013" y="0"/>
                  </a:lnTo>
                  <a:lnTo>
                    <a:pt x="15319" y="0"/>
                  </a:lnTo>
                  <a:lnTo>
                    <a:pt x="14567" y="0"/>
                  </a:lnTo>
                  <a:lnTo>
                    <a:pt x="13791" y="0"/>
                  </a:lnTo>
                  <a:lnTo>
                    <a:pt x="12980" y="0"/>
                  </a:lnTo>
                  <a:lnTo>
                    <a:pt x="12133" y="0"/>
                  </a:lnTo>
                  <a:lnTo>
                    <a:pt x="11263" y="0"/>
                  </a:lnTo>
                  <a:lnTo>
                    <a:pt x="10382" y="0"/>
                  </a:lnTo>
                  <a:lnTo>
                    <a:pt x="9487" y="0"/>
                  </a:lnTo>
                  <a:lnTo>
                    <a:pt x="8605" y="0"/>
                  </a:lnTo>
                  <a:lnTo>
                    <a:pt x="7735" y="0"/>
                  </a:lnTo>
                  <a:lnTo>
                    <a:pt x="6865" y="0"/>
                  </a:lnTo>
                  <a:lnTo>
                    <a:pt x="6019" y="0"/>
                  </a:lnTo>
                  <a:lnTo>
                    <a:pt x="5196" y="0"/>
                  </a:lnTo>
                  <a:lnTo>
                    <a:pt x="4408" y="0"/>
                  </a:lnTo>
                  <a:lnTo>
                    <a:pt x="3668" y="0"/>
                  </a:lnTo>
                  <a:lnTo>
                    <a:pt x="2974" y="0"/>
                  </a:lnTo>
                  <a:lnTo>
                    <a:pt x="2339" y="0"/>
                  </a:lnTo>
                  <a:lnTo>
                    <a:pt x="1763" y="0"/>
                  </a:lnTo>
                  <a:lnTo>
                    <a:pt x="1257" y="0"/>
                  </a:lnTo>
                  <a:lnTo>
                    <a:pt x="834" y="0"/>
                  </a:lnTo>
                  <a:lnTo>
                    <a:pt x="470" y="0"/>
                  </a:lnTo>
                  <a:lnTo>
                    <a:pt x="211" y="0"/>
                  </a:lnTo>
                  <a:lnTo>
                    <a:pt x="58" y="0"/>
                  </a:lnTo>
                  <a:lnTo>
                    <a:pt x="0" y="0"/>
                  </a:lnTo>
                  <a:lnTo>
                    <a:pt x="0" y="261"/>
                  </a:lnTo>
                  <a:lnTo>
                    <a:pt x="58" y="261"/>
                  </a:lnTo>
                  <a:lnTo>
                    <a:pt x="211" y="261"/>
                  </a:lnTo>
                  <a:lnTo>
                    <a:pt x="470" y="261"/>
                  </a:lnTo>
                  <a:lnTo>
                    <a:pt x="834" y="261"/>
                  </a:lnTo>
                  <a:lnTo>
                    <a:pt x="1257" y="261"/>
                  </a:lnTo>
                  <a:lnTo>
                    <a:pt x="1763" y="261"/>
                  </a:lnTo>
                  <a:lnTo>
                    <a:pt x="2339" y="261"/>
                  </a:lnTo>
                  <a:lnTo>
                    <a:pt x="2974" y="261"/>
                  </a:lnTo>
                  <a:lnTo>
                    <a:pt x="3668" y="261"/>
                  </a:lnTo>
                  <a:lnTo>
                    <a:pt x="4408" y="261"/>
                  </a:lnTo>
                  <a:lnTo>
                    <a:pt x="5196" y="261"/>
                  </a:lnTo>
                  <a:lnTo>
                    <a:pt x="6019" y="261"/>
                  </a:lnTo>
                  <a:lnTo>
                    <a:pt x="6865" y="261"/>
                  </a:lnTo>
                  <a:lnTo>
                    <a:pt x="7735" y="261"/>
                  </a:lnTo>
                  <a:lnTo>
                    <a:pt x="8605" y="261"/>
                  </a:lnTo>
                  <a:lnTo>
                    <a:pt x="9487" y="261"/>
                  </a:lnTo>
                  <a:lnTo>
                    <a:pt x="10382" y="261"/>
                  </a:lnTo>
                  <a:lnTo>
                    <a:pt x="11263" y="261"/>
                  </a:lnTo>
                  <a:lnTo>
                    <a:pt x="12133" y="261"/>
                  </a:lnTo>
                  <a:lnTo>
                    <a:pt x="12980" y="261"/>
                  </a:lnTo>
                  <a:lnTo>
                    <a:pt x="13791" y="261"/>
                  </a:lnTo>
                  <a:lnTo>
                    <a:pt x="14567" y="261"/>
                  </a:lnTo>
                  <a:lnTo>
                    <a:pt x="15319" y="261"/>
                  </a:lnTo>
                  <a:lnTo>
                    <a:pt x="16013" y="261"/>
                  </a:lnTo>
                  <a:lnTo>
                    <a:pt x="16648" y="261"/>
                  </a:lnTo>
                  <a:lnTo>
                    <a:pt x="17224" y="261"/>
                  </a:lnTo>
                  <a:lnTo>
                    <a:pt x="17741" y="261"/>
                  </a:lnTo>
                  <a:lnTo>
                    <a:pt x="18176" y="261"/>
                  </a:lnTo>
                  <a:lnTo>
                    <a:pt x="18529" y="261"/>
                  </a:lnTo>
                  <a:lnTo>
                    <a:pt x="18776" y="261"/>
                  </a:lnTo>
                  <a:lnTo>
                    <a:pt x="18952" y="261"/>
                  </a:lnTo>
                  <a:lnTo>
                    <a:pt x="19011" y="261"/>
                  </a:lnTo>
                  <a:lnTo>
                    <a:pt x="19011" y="261"/>
                  </a:lnTo>
                  <a:lnTo>
                    <a:pt x="190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132680" y="5372280"/>
              <a:ext cx="114840" cy="228960"/>
            </a:xfrm>
            <a:custGeom>
              <a:avLst/>
              <a:gdLst/>
              <a:ahLst/>
              <a:rect l="0" t="0" r="r" b="b"/>
              <a:pathLst>
                <a:path w="319" h="636">
                  <a:moveTo>
                    <a:pt x="200" y="0"/>
                  </a:moveTo>
                  <a:lnTo>
                    <a:pt x="0" y="103"/>
                  </a:lnTo>
                  <a:lnTo>
                    <a:pt x="83" y="337"/>
                  </a:lnTo>
                  <a:lnTo>
                    <a:pt x="83" y="402"/>
                  </a:lnTo>
                  <a:lnTo>
                    <a:pt x="83" y="363"/>
                  </a:lnTo>
                  <a:lnTo>
                    <a:pt x="35" y="376"/>
                  </a:lnTo>
                  <a:lnTo>
                    <a:pt x="35" y="636"/>
                  </a:lnTo>
                  <a:lnTo>
                    <a:pt x="165" y="623"/>
                  </a:lnTo>
                  <a:lnTo>
                    <a:pt x="295" y="493"/>
                  </a:lnTo>
                  <a:lnTo>
                    <a:pt x="319" y="285"/>
                  </a:lnTo>
                  <a:lnTo>
                    <a:pt x="200" y="0"/>
                  </a:lnTo>
                  <a:lnTo>
                    <a:pt x="0" y="103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132680" y="5372280"/>
              <a:ext cx="130680" cy="276480"/>
            </a:xfrm>
            <a:custGeom>
              <a:avLst/>
              <a:gdLst/>
              <a:ahLst/>
              <a:rect l="0" t="0" r="r" b="b"/>
              <a:pathLst>
                <a:path w="363" h="768">
                  <a:moveTo>
                    <a:pt x="363" y="768"/>
                  </a:moveTo>
                  <a:lnTo>
                    <a:pt x="363" y="768"/>
                  </a:lnTo>
                  <a:lnTo>
                    <a:pt x="363" y="550"/>
                  </a:lnTo>
                  <a:lnTo>
                    <a:pt x="340" y="358"/>
                  </a:lnTo>
                  <a:lnTo>
                    <a:pt x="281" y="191"/>
                  </a:lnTo>
                  <a:lnTo>
                    <a:pt x="199" y="0"/>
                  </a:lnTo>
                  <a:lnTo>
                    <a:pt x="0" y="102"/>
                  </a:lnTo>
                  <a:lnTo>
                    <a:pt x="69" y="281"/>
                  </a:lnTo>
                  <a:lnTo>
                    <a:pt x="117" y="410"/>
                  </a:lnTo>
                  <a:lnTo>
                    <a:pt x="140" y="550"/>
                  </a:lnTo>
                  <a:lnTo>
                    <a:pt x="140" y="768"/>
                  </a:lnTo>
                  <a:lnTo>
                    <a:pt x="140" y="768"/>
                  </a:lnTo>
                  <a:lnTo>
                    <a:pt x="363" y="7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35040" y="5727600"/>
              <a:ext cx="1356120" cy="513000"/>
            </a:xfrm>
            <a:custGeom>
              <a:avLst/>
              <a:gdLst/>
              <a:ahLst/>
              <a:rect l="0" t="0" r="r" b="b"/>
              <a:pathLst>
                <a:path w="3767" h="1425">
                  <a:moveTo>
                    <a:pt x="0" y="1425"/>
                  </a:moveTo>
                  <a:lnTo>
                    <a:pt x="0" y="0"/>
                  </a:lnTo>
                  <a:lnTo>
                    <a:pt x="3767" y="0"/>
                  </a:lnTo>
                  <a:lnTo>
                    <a:pt x="3767" y="1425"/>
                  </a:lnTo>
                  <a:lnTo>
                    <a:pt x="0" y="142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98320" y="5688000"/>
              <a:ext cx="81360" cy="552960"/>
            </a:xfrm>
            <a:custGeom>
              <a:avLst/>
              <a:gdLst/>
              <a:ahLst/>
              <a:rect l="0" t="0" r="r" b="b"/>
              <a:pathLst>
                <a:path w="226" h="1536">
                  <a:moveTo>
                    <a:pt x="107" y="0"/>
                  </a:moveTo>
                  <a:lnTo>
                    <a:pt x="0" y="116"/>
                  </a:lnTo>
                  <a:lnTo>
                    <a:pt x="0" y="1536"/>
                  </a:lnTo>
                  <a:lnTo>
                    <a:pt x="226" y="1536"/>
                  </a:lnTo>
                  <a:lnTo>
                    <a:pt x="226" y="116"/>
                  </a:lnTo>
                  <a:lnTo>
                    <a:pt x="107" y="245"/>
                  </a:lnTo>
                  <a:lnTo>
                    <a:pt x="107" y="0"/>
                  </a:lnTo>
                  <a:lnTo>
                    <a:pt x="0" y="0"/>
                  </a:lnTo>
                  <a:lnTo>
                    <a:pt x="0" y="116"/>
                  </a:lnTo>
                  <a:lnTo>
                    <a:pt x="1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35040" y="5688000"/>
              <a:ext cx="1400760" cy="87840"/>
            </a:xfrm>
            <a:custGeom>
              <a:avLst/>
              <a:gdLst/>
              <a:ahLst/>
              <a:rect l="0" t="0" r="r" b="b"/>
              <a:pathLst>
                <a:path w="3891" h="244">
                  <a:moveTo>
                    <a:pt x="3891" y="115"/>
                  </a:moveTo>
                  <a:lnTo>
                    <a:pt x="3773" y="0"/>
                  </a:lnTo>
                  <a:lnTo>
                    <a:pt x="0" y="0"/>
                  </a:lnTo>
                  <a:lnTo>
                    <a:pt x="0" y="244"/>
                  </a:lnTo>
                  <a:lnTo>
                    <a:pt x="3773" y="244"/>
                  </a:lnTo>
                  <a:lnTo>
                    <a:pt x="3655" y="115"/>
                  </a:lnTo>
                  <a:lnTo>
                    <a:pt x="3891" y="115"/>
                  </a:lnTo>
                  <a:lnTo>
                    <a:pt x="3891" y="0"/>
                  </a:lnTo>
                  <a:lnTo>
                    <a:pt x="3773" y="0"/>
                  </a:lnTo>
                  <a:lnTo>
                    <a:pt x="3891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47960" y="5727600"/>
              <a:ext cx="87840" cy="557640"/>
            </a:xfrm>
            <a:custGeom>
              <a:avLst/>
              <a:gdLst/>
              <a:ahLst/>
              <a:rect l="0" t="0" r="r" b="b"/>
              <a:pathLst>
                <a:path w="244" h="1549">
                  <a:moveTo>
                    <a:pt x="122" y="1549"/>
                  </a:moveTo>
                  <a:lnTo>
                    <a:pt x="244" y="1420"/>
                  </a:lnTo>
                  <a:lnTo>
                    <a:pt x="244" y="0"/>
                  </a:lnTo>
                  <a:lnTo>
                    <a:pt x="0" y="0"/>
                  </a:lnTo>
                  <a:lnTo>
                    <a:pt x="0" y="1420"/>
                  </a:lnTo>
                  <a:lnTo>
                    <a:pt x="122" y="1291"/>
                  </a:lnTo>
                  <a:lnTo>
                    <a:pt x="122" y="1549"/>
                  </a:lnTo>
                  <a:lnTo>
                    <a:pt x="244" y="1549"/>
                  </a:lnTo>
                  <a:lnTo>
                    <a:pt x="244" y="1420"/>
                  </a:lnTo>
                  <a:lnTo>
                    <a:pt x="122" y="1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98320" y="6192720"/>
              <a:ext cx="1392480" cy="92520"/>
            </a:xfrm>
            <a:custGeom>
              <a:avLst/>
              <a:gdLst/>
              <a:ahLst/>
              <a:rect l="0" t="0" r="r" b="b"/>
              <a:pathLst>
                <a:path w="3868" h="257">
                  <a:moveTo>
                    <a:pt x="0" y="128"/>
                  </a:moveTo>
                  <a:lnTo>
                    <a:pt x="105" y="257"/>
                  </a:lnTo>
                  <a:lnTo>
                    <a:pt x="3868" y="257"/>
                  </a:lnTo>
                  <a:lnTo>
                    <a:pt x="3868" y="0"/>
                  </a:lnTo>
                  <a:lnTo>
                    <a:pt x="105" y="0"/>
                  </a:lnTo>
                  <a:lnTo>
                    <a:pt x="223" y="128"/>
                  </a:lnTo>
                  <a:lnTo>
                    <a:pt x="0" y="128"/>
                  </a:lnTo>
                  <a:lnTo>
                    <a:pt x="0" y="257"/>
                  </a:lnTo>
                  <a:lnTo>
                    <a:pt x="105" y="257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465880" y="5727600"/>
              <a:ext cx="1354320" cy="513000"/>
            </a:xfrm>
            <a:custGeom>
              <a:avLst/>
              <a:gdLst/>
              <a:ahLst/>
              <a:rect l="0" t="0" r="r" b="b"/>
              <a:pathLst>
                <a:path w="3762" h="1425">
                  <a:moveTo>
                    <a:pt x="3762" y="1425"/>
                  </a:moveTo>
                  <a:lnTo>
                    <a:pt x="3762" y="0"/>
                  </a:lnTo>
                  <a:lnTo>
                    <a:pt x="0" y="0"/>
                  </a:lnTo>
                  <a:lnTo>
                    <a:pt x="0" y="1425"/>
                  </a:lnTo>
                  <a:lnTo>
                    <a:pt x="3762" y="142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6777000" y="5688000"/>
              <a:ext cx="79560" cy="552960"/>
            </a:xfrm>
            <a:custGeom>
              <a:avLst/>
              <a:gdLst/>
              <a:ahLst/>
              <a:rect l="0" t="0" r="r" b="b"/>
              <a:pathLst>
                <a:path w="221" h="1536">
                  <a:moveTo>
                    <a:pt x="117" y="245"/>
                  </a:moveTo>
                  <a:lnTo>
                    <a:pt x="0" y="116"/>
                  </a:lnTo>
                  <a:lnTo>
                    <a:pt x="0" y="1536"/>
                  </a:lnTo>
                  <a:lnTo>
                    <a:pt x="221" y="1536"/>
                  </a:lnTo>
                  <a:lnTo>
                    <a:pt x="221" y="116"/>
                  </a:lnTo>
                  <a:lnTo>
                    <a:pt x="117" y="0"/>
                  </a:lnTo>
                  <a:lnTo>
                    <a:pt x="221" y="116"/>
                  </a:lnTo>
                  <a:lnTo>
                    <a:pt x="221" y="0"/>
                  </a:lnTo>
                  <a:lnTo>
                    <a:pt x="117" y="0"/>
                  </a:lnTo>
                  <a:lnTo>
                    <a:pt x="117" y="2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423040" y="5688000"/>
              <a:ext cx="1397520" cy="87840"/>
            </a:xfrm>
            <a:custGeom>
              <a:avLst/>
              <a:gdLst/>
              <a:ahLst/>
              <a:rect l="0" t="0" r="r" b="b"/>
              <a:pathLst>
                <a:path w="3882" h="244">
                  <a:moveTo>
                    <a:pt x="235" y="115"/>
                  </a:moveTo>
                  <a:lnTo>
                    <a:pt x="117" y="244"/>
                  </a:lnTo>
                  <a:lnTo>
                    <a:pt x="3882" y="244"/>
                  </a:lnTo>
                  <a:lnTo>
                    <a:pt x="3882" y="0"/>
                  </a:lnTo>
                  <a:lnTo>
                    <a:pt x="117" y="0"/>
                  </a:lnTo>
                  <a:lnTo>
                    <a:pt x="0" y="115"/>
                  </a:lnTo>
                  <a:lnTo>
                    <a:pt x="117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235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423040" y="5727600"/>
              <a:ext cx="84600" cy="557640"/>
            </a:xfrm>
            <a:custGeom>
              <a:avLst/>
              <a:gdLst/>
              <a:ahLst/>
              <a:rect l="0" t="0" r="r" b="b"/>
              <a:pathLst>
                <a:path w="235" h="1549">
                  <a:moveTo>
                    <a:pt x="117" y="1291"/>
                  </a:moveTo>
                  <a:lnTo>
                    <a:pt x="235" y="1420"/>
                  </a:lnTo>
                  <a:lnTo>
                    <a:pt x="235" y="0"/>
                  </a:lnTo>
                  <a:lnTo>
                    <a:pt x="0" y="0"/>
                  </a:lnTo>
                  <a:lnTo>
                    <a:pt x="0" y="1420"/>
                  </a:lnTo>
                  <a:lnTo>
                    <a:pt x="117" y="1549"/>
                  </a:lnTo>
                  <a:lnTo>
                    <a:pt x="0" y="1420"/>
                  </a:lnTo>
                  <a:lnTo>
                    <a:pt x="0" y="1549"/>
                  </a:lnTo>
                  <a:lnTo>
                    <a:pt x="117" y="1549"/>
                  </a:lnTo>
                  <a:lnTo>
                    <a:pt x="117" y="12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465880" y="6192720"/>
              <a:ext cx="1391040" cy="92520"/>
            </a:xfrm>
            <a:custGeom>
              <a:avLst/>
              <a:gdLst/>
              <a:ahLst/>
              <a:rect l="0" t="0" r="r" b="b"/>
              <a:pathLst>
                <a:path w="3864" h="257">
                  <a:moveTo>
                    <a:pt x="3641" y="128"/>
                  </a:moveTo>
                  <a:lnTo>
                    <a:pt x="3759" y="0"/>
                  </a:lnTo>
                  <a:lnTo>
                    <a:pt x="0" y="0"/>
                  </a:lnTo>
                  <a:lnTo>
                    <a:pt x="0" y="257"/>
                  </a:lnTo>
                  <a:lnTo>
                    <a:pt x="3759" y="257"/>
                  </a:lnTo>
                  <a:lnTo>
                    <a:pt x="3864" y="128"/>
                  </a:lnTo>
                  <a:lnTo>
                    <a:pt x="3759" y="257"/>
                  </a:lnTo>
                  <a:lnTo>
                    <a:pt x="3864" y="257"/>
                  </a:lnTo>
                  <a:lnTo>
                    <a:pt x="3864" y="128"/>
                  </a:lnTo>
                  <a:lnTo>
                    <a:pt x="3641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025640" y="5899320"/>
              <a:ext cx="113040" cy="119520"/>
            </a:xfrm>
            <a:custGeom>
              <a:avLst/>
              <a:gdLst/>
              <a:ahLst/>
              <a:rect l="0" t="0" r="r" b="b"/>
              <a:pathLst>
                <a:path w="314" h="332">
                  <a:moveTo>
                    <a:pt x="314" y="332"/>
                  </a:moveTo>
                  <a:lnTo>
                    <a:pt x="314" y="0"/>
                  </a:lnTo>
                  <a:lnTo>
                    <a:pt x="0" y="0"/>
                  </a:lnTo>
                  <a:lnTo>
                    <a:pt x="0" y="332"/>
                  </a:lnTo>
                  <a:lnTo>
                    <a:pt x="314" y="3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208160" y="5899320"/>
              <a:ext cx="109800" cy="119520"/>
            </a:xfrm>
            <a:custGeom>
              <a:avLst/>
              <a:gdLst/>
              <a:ahLst/>
              <a:rect l="0" t="0" r="r" b="b"/>
              <a:pathLst>
                <a:path w="305" h="332">
                  <a:moveTo>
                    <a:pt x="305" y="332"/>
                  </a:moveTo>
                  <a:lnTo>
                    <a:pt x="305" y="0"/>
                  </a:lnTo>
                  <a:lnTo>
                    <a:pt x="0" y="0"/>
                  </a:lnTo>
                  <a:lnTo>
                    <a:pt x="0" y="332"/>
                  </a:lnTo>
                  <a:lnTo>
                    <a:pt x="305" y="3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1382760" y="5899320"/>
              <a:ext cx="114840" cy="119520"/>
            </a:xfrm>
            <a:custGeom>
              <a:avLst/>
              <a:gdLst/>
              <a:ahLst/>
              <a:rect l="0" t="0" r="r" b="b"/>
              <a:pathLst>
                <a:path w="319" h="332">
                  <a:moveTo>
                    <a:pt x="319" y="332"/>
                  </a:moveTo>
                  <a:lnTo>
                    <a:pt x="319" y="0"/>
                  </a:lnTo>
                  <a:lnTo>
                    <a:pt x="0" y="0"/>
                  </a:lnTo>
                  <a:lnTo>
                    <a:pt x="0" y="332"/>
                  </a:lnTo>
                  <a:lnTo>
                    <a:pt x="319" y="3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617840" y="5832360"/>
              <a:ext cx="70200" cy="246600"/>
            </a:xfrm>
            <a:custGeom>
              <a:avLst/>
              <a:gdLst/>
              <a:ahLst/>
              <a:rect l="0" t="0" r="r" b="b"/>
              <a:pathLst>
                <a:path w="195" h="685">
                  <a:moveTo>
                    <a:pt x="195" y="685"/>
                  </a:moveTo>
                  <a:lnTo>
                    <a:pt x="195" y="0"/>
                  </a:lnTo>
                  <a:lnTo>
                    <a:pt x="0" y="0"/>
                  </a:lnTo>
                  <a:lnTo>
                    <a:pt x="0" y="685"/>
                  </a:lnTo>
                  <a:lnTo>
                    <a:pt x="195" y="6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313320" y="5899320"/>
              <a:ext cx="114840" cy="119520"/>
            </a:xfrm>
            <a:custGeom>
              <a:avLst/>
              <a:gdLst/>
              <a:ahLst/>
              <a:rect l="0" t="0" r="r" b="b"/>
              <a:pathLst>
                <a:path w="319" h="332">
                  <a:moveTo>
                    <a:pt x="0" y="332"/>
                  </a:moveTo>
                  <a:lnTo>
                    <a:pt x="0" y="0"/>
                  </a:lnTo>
                  <a:lnTo>
                    <a:pt x="319" y="0"/>
                  </a:lnTo>
                  <a:lnTo>
                    <a:pt x="319" y="332"/>
                  </a:lnTo>
                  <a:lnTo>
                    <a:pt x="0" y="3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30800" y="5899320"/>
              <a:ext cx="117720" cy="119520"/>
            </a:xfrm>
            <a:custGeom>
              <a:avLst/>
              <a:gdLst/>
              <a:ahLst/>
              <a:rect l="0" t="0" r="r" b="b"/>
              <a:pathLst>
                <a:path w="327" h="332">
                  <a:moveTo>
                    <a:pt x="0" y="332"/>
                  </a:moveTo>
                  <a:lnTo>
                    <a:pt x="0" y="0"/>
                  </a:lnTo>
                  <a:lnTo>
                    <a:pt x="327" y="0"/>
                  </a:lnTo>
                  <a:lnTo>
                    <a:pt x="327" y="332"/>
                  </a:lnTo>
                  <a:lnTo>
                    <a:pt x="0" y="3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961240" y="5899320"/>
              <a:ext cx="113040" cy="119520"/>
            </a:xfrm>
            <a:custGeom>
              <a:avLst/>
              <a:gdLst/>
              <a:ahLst/>
              <a:rect l="0" t="0" r="r" b="b"/>
              <a:pathLst>
                <a:path w="314" h="332">
                  <a:moveTo>
                    <a:pt x="0" y="332"/>
                  </a:moveTo>
                  <a:lnTo>
                    <a:pt x="0" y="0"/>
                  </a:lnTo>
                  <a:lnTo>
                    <a:pt x="314" y="0"/>
                  </a:lnTo>
                  <a:lnTo>
                    <a:pt x="314" y="332"/>
                  </a:lnTo>
                  <a:lnTo>
                    <a:pt x="0" y="3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765760" y="5832360"/>
              <a:ext cx="73440" cy="246600"/>
            </a:xfrm>
            <a:custGeom>
              <a:avLst/>
              <a:gdLst/>
              <a:ahLst/>
              <a:rect l="0" t="0" r="r" b="b"/>
              <a:pathLst>
                <a:path w="204" h="685">
                  <a:moveTo>
                    <a:pt x="0" y="685"/>
                  </a:moveTo>
                  <a:lnTo>
                    <a:pt x="0" y="0"/>
                  </a:lnTo>
                  <a:lnTo>
                    <a:pt x="204" y="0"/>
                  </a:lnTo>
                  <a:lnTo>
                    <a:pt x="204" y="685"/>
                  </a:lnTo>
                  <a:lnTo>
                    <a:pt x="0" y="6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511360" y="5749920"/>
              <a:ext cx="605160" cy="286200"/>
            </a:xfrm>
            <a:custGeom>
              <a:avLst/>
              <a:gdLst/>
              <a:ahLst/>
              <a:rect l="0" t="0" r="r" b="b"/>
              <a:pathLst>
                <a:path w="1681" h="795">
                  <a:moveTo>
                    <a:pt x="1681" y="795"/>
                  </a:moveTo>
                  <a:lnTo>
                    <a:pt x="1681" y="0"/>
                  </a:lnTo>
                  <a:lnTo>
                    <a:pt x="0" y="0"/>
                  </a:lnTo>
                  <a:lnTo>
                    <a:pt x="0" y="795"/>
                  </a:lnTo>
                  <a:lnTo>
                    <a:pt x="1681" y="79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079800" y="5705640"/>
              <a:ext cx="78120" cy="330480"/>
            </a:xfrm>
            <a:custGeom>
              <a:avLst/>
              <a:gdLst/>
              <a:ahLst/>
              <a:rect l="0" t="0" r="r" b="b"/>
              <a:pathLst>
                <a:path w="217" h="918">
                  <a:moveTo>
                    <a:pt x="102" y="258"/>
                  </a:moveTo>
                  <a:lnTo>
                    <a:pt x="0" y="129"/>
                  </a:lnTo>
                  <a:lnTo>
                    <a:pt x="0" y="918"/>
                  </a:lnTo>
                  <a:lnTo>
                    <a:pt x="217" y="918"/>
                  </a:lnTo>
                  <a:lnTo>
                    <a:pt x="217" y="129"/>
                  </a:lnTo>
                  <a:lnTo>
                    <a:pt x="102" y="0"/>
                  </a:lnTo>
                  <a:lnTo>
                    <a:pt x="217" y="129"/>
                  </a:lnTo>
                  <a:lnTo>
                    <a:pt x="217" y="0"/>
                  </a:lnTo>
                  <a:lnTo>
                    <a:pt x="102" y="0"/>
                  </a:lnTo>
                  <a:lnTo>
                    <a:pt x="102" y="2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475000" y="5705640"/>
              <a:ext cx="641880" cy="93960"/>
            </a:xfrm>
            <a:custGeom>
              <a:avLst/>
              <a:gdLst/>
              <a:ahLst/>
              <a:rect l="0" t="0" r="r" b="b"/>
              <a:pathLst>
                <a:path w="1783" h="261">
                  <a:moveTo>
                    <a:pt x="222" y="131"/>
                  </a:moveTo>
                  <a:lnTo>
                    <a:pt x="105" y="261"/>
                  </a:lnTo>
                  <a:lnTo>
                    <a:pt x="1783" y="261"/>
                  </a:lnTo>
                  <a:lnTo>
                    <a:pt x="1783" y="0"/>
                  </a:lnTo>
                  <a:lnTo>
                    <a:pt x="105" y="0"/>
                  </a:lnTo>
                  <a:lnTo>
                    <a:pt x="0" y="131"/>
                  </a:lnTo>
                  <a:lnTo>
                    <a:pt x="105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222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475000" y="5749920"/>
              <a:ext cx="79560" cy="330480"/>
            </a:xfrm>
            <a:custGeom>
              <a:avLst/>
              <a:gdLst/>
              <a:ahLst/>
              <a:rect l="0" t="0" r="r" b="b"/>
              <a:pathLst>
                <a:path w="221" h="918">
                  <a:moveTo>
                    <a:pt x="104" y="659"/>
                  </a:moveTo>
                  <a:lnTo>
                    <a:pt x="221" y="789"/>
                  </a:lnTo>
                  <a:lnTo>
                    <a:pt x="221" y="0"/>
                  </a:lnTo>
                  <a:lnTo>
                    <a:pt x="0" y="0"/>
                  </a:lnTo>
                  <a:lnTo>
                    <a:pt x="0" y="789"/>
                  </a:lnTo>
                  <a:lnTo>
                    <a:pt x="104" y="918"/>
                  </a:lnTo>
                  <a:lnTo>
                    <a:pt x="0" y="789"/>
                  </a:lnTo>
                  <a:lnTo>
                    <a:pt x="0" y="918"/>
                  </a:lnTo>
                  <a:lnTo>
                    <a:pt x="104" y="918"/>
                  </a:lnTo>
                  <a:lnTo>
                    <a:pt x="104" y="6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2511360" y="5987880"/>
              <a:ext cx="646560" cy="92520"/>
            </a:xfrm>
            <a:custGeom>
              <a:avLst/>
              <a:gdLst/>
              <a:ahLst/>
              <a:rect l="0" t="0" r="r" b="b"/>
              <a:pathLst>
                <a:path w="1796" h="257">
                  <a:moveTo>
                    <a:pt x="1573" y="128"/>
                  </a:moveTo>
                  <a:lnTo>
                    <a:pt x="1679" y="0"/>
                  </a:lnTo>
                  <a:lnTo>
                    <a:pt x="0" y="0"/>
                  </a:lnTo>
                  <a:lnTo>
                    <a:pt x="0" y="257"/>
                  </a:lnTo>
                  <a:lnTo>
                    <a:pt x="1679" y="257"/>
                  </a:lnTo>
                  <a:lnTo>
                    <a:pt x="1796" y="128"/>
                  </a:lnTo>
                  <a:lnTo>
                    <a:pt x="1679" y="257"/>
                  </a:lnTo>
                  <a:lnTo>
                    <a:pt x="1796" y="257"/>
                  </a:lnTo>
                  <a:lnTo>
                    <a:pt x="1796" y="128"/>
                  </a:lnTo>
                  <a:lnTo>
                    <a:pt x="1573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251240" y="5749920"/>
              <a:ext cx="600480" cy="286200"/>
            </a:xfrm>
            <a:custGeom>
              <a:avLst/>
              <a:gdLst/>
              <a:ahLst/>
              <a:rect l="0" t="0" r="r" b="b"/>
              <a:pathLst>
                <a:path w="1668" h="795">
                  <a:moveTo>
                    <a:pt x="1668" y="795"/>
                  </a:moveTo>
                  <a:lnTo>
                    <a:pt x="1668" y="0"/>
                  </a:lnTo>
                  <a:lnTo>
                    <a:pt x="0" y="0"/>
                  </a:lnTo>
                  <a:lnTo>
                    <a:pt x="0" y="795"/>
                  </a:lnTo>
                  <a:lnTo>
                    <a:pt x="1668" y="795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808520" y="5705640"/>
              <a:ext cx="81360" cy="330480"/>
            </a:xfrm>
            <a:custGeom>
              <a:avLst/>
              <a:gdLst/>
              <a:ahLst/>
              <a:rect l="0" t="0" r="r" b="b"/>
              <a:pathLst>
                <a:path w="226" h="918">
                  <a:moveTo>
                    <a:pt x="119" y="258"/>
                  </a:moveTo>
                  <a:lnTo>
                    <a:pt x="0" y="129"/>
                  </a:lnTo>
                  <a:lnTo>
                    <a:pt x="0" y="918"/>
                  </a:lnTo>
                  <a:lnTo>
                    <a:pt x="226" y="918"/>
                  </a:lnTo>
                  <a:lnTo>
                    <a:pt x="226" y="129"/>
                  </a:lnTo>
                  <a:lnTo>
                    <a:pt x="119" y="0"/>
                  </a:lnTo>
                  <a:lnTo>
                    <a:pt x="226" y="129"/>
                  </a:lnTo>
                  <a:lnTo>
                    <a:pt x="226" y="0"/>
                  </a:lnTo>
                  <a:lnTo>
                    <a:pt x="119" y="0"/>
                  </a:lnTo>
                  <a:lnTo>
                    <a:pt x="119" y="2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208400" y="5705640"/>
              <a:ext cx="643320" cy="93960"/>
            </a:xfrm>
            <a:custGeom>
              <a:avLst/>
              <a:gdLst/>
              <a:ahLst/>
              <a:rect l="0" t="0" r="r" b="b"/>
              <a:pathLst>
                <a:path w="1787" h="261">
                  <a:moveTo>
                    <a:pt x="234" y="131"/>
                  </a:moveTo>
                  <a:lnTo>
                    <a:pt x="117" y="261"/>
                  </a:lnTo>
                  <a:lnTo>
                    <a:pt x="1787" y="261"/>
                  </a:lnTo>
                  <a:lnTo>
                    <a:pt x="1787" y="0"/>
                  </a:lnTo>
                  <a:lnTo>
                    <a:pt x="117" y="0"/>
                  </a:lnTo>
                  <a:lnTo>
                    <a:pt x="0" y="131"/>
                  </a:lnTo>
                  <a:lnTo>
                    <a:pt x="11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234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208400" y="5749920"/>
              <a:ext cx="86040" cy="330480"/>
            </a:xfrm>
            <a:custGeom>
              <a:avLst/>
              <a:gdLst/>
              <a:ahLst/>
              <a:rect l="0" t="0" r="r" b="b"/>
              <a:pathLst>
                <a:path w="239" h="918">
                  <a:moveTo>
                    <a:pt x="120" y="659"/>
                  </a:moveTo>
                  <a:lnTo>
                    <a:pt x="239" y="789"/>
                  </a:lnTo>
                  <a:lnTo>
                    <a:pt x="239" y="0"/>
                  </a:lnTo>
                  <a:lnTo>
                    <a:pt x="0" y="0"/>
                  </a:lnTo>
                  <a:lnTo>
                    <a:pt x="0" y="789"/>
                  </a:lnTo>
                  <a:lnTo>
                    <a:pt x="120" y="918"/>
                  </a:lnTo>
                  <a:lnTo>
                    <a:pt x="0" y="789"/>
                  </a:lnTo>
                  <a:lnTo>
                    <a:pt x="0" y="918"/>
                  </a:lnTo>
                  <a:lnTo>
                    <a:pt x="120" y="918"/>
                  </a:lnTo>
                  <a:lnTo>
                    <a:pt x="120" y="6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251240" y="5987880"/>
              <a:ext cx="638640" cy="92520"/>
            </a:xfrm>
            <a:custGeom>
              <a:avLst/>
              <a:gdLst/>
              <a:ahLst/>
              <a:rect l="0" t="0" r="r" b="b"/>
              <a:pathLst>
                <a:path w="1774" h="257">
                  <a:moveTo>
                    <a:pt x="1551" y="128"/>
                  </a:moveTo>
                  <a:lnTo>
                    <a:pt x="1669" y="0"/>
                  </a:lnTo>
                  <a:lnTo>
                    <a:pt x="0" y="0"/>
                  </a:lnTo>
                  <a:lnTo>
                    <a:pt x="0" y="257"/>
                  </a:lnTo>
                  <a:lnTo>
                    <a:pt x="1669" y="257"/>
                  </a:lnTo>
                  <a:lnTo>
                    <a:pt x="1774" y="128"/>
                  </a:lnTo>
                  <a:lnTo>
                    <a:pt x="1669" y="257"/>
                  </a:lnTo>
                  <a:lnTo>
                    <a:pt x="1774" y="257"/>
                  </a:lnTo>
                  <a:lnTo>
                    <a:pt x="1774" y="128"/>
                  </a:lnTo>
                  <a:lnTo>
                    <a:pt x="1551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2568600" y="5816520"/>
              <a:ext cx="2213280" cy="993960"/>
            </a:xfrm>
            <a:custGeom>
              <a:avLst/>
              <a:gdLst/>
              <a:ahLst/>
              <a:rect l="0" t="0" r="r" b="b"/>
              <a:pathLst>
                <a:path w="6148" h="2761">
                  <a:moveTo>
                    <a:pt x="5360" y="2761"/>
                  </a:moveTo>
                  <a:lnTo>
                    <a:pt x="5595" y="2735"/>
                  </a:lnTo>
                  <a:lnTo>
                    <a:pt x="5783" y="2645"/>
                  </a:lnTo>
                  <a:lnTo>
                    <a:pt x="5924" y="2516"/>
                  </a:lnTo>
                  <a:lnTo>
                    <a:pt x="6018" y="2361"/>
                  </a:lnTo>
                  <a:lnTo>
                    <a:pt x="6089" y="2206"/>
                  </a:lnTo>
                  <a:lnTo>
                    <a:pt x="6124" y="2052"/>
                  </a:lnTo>
                  <a:lnTo>
                    <a:pt x="6148" y="1910"/>
                  </a:lnTo>
                  <a:lnTo>
                    <a:pt x="6148" y="1819"/>
                  </a:lnTo>
                  <a:lnTo>
                    <a:pt x="6112" y="1471"/>
                  </a:lnTo>
                  <a:lnTo>
                    <a:pt x="6018" y="928"/>
                  </a:lnTo>
                  <a:lnTo>
                    <a:pt x="5936" y="425"/>
                  </a:lnTo>
                  <a:lnTo>
                    <a:pt x="5877" y="154"/>
                  </a:lnTo>
                  <a:lnTo>
                    <a:pt x="5866" y="103"/>
                  </a:lnTo>
                  <a:lnTo>
                    <a:pt x="5830" y="38"/>
                  </a:lnTo>
                  <a:lnTo>
                    <a:pt x="5795" y="12"/>
                  </a:lnTo>
                  <a:lnTo>
                    <a:pt x="5736" y="0"/>
                  </a:lnTo>
                  <a:lnTo>
                    <a:pt x="5713" y="0"/>
                  </a:lnTo>
                  <a:lnTo>
                    <a:pt x="5666" y="0"/>
                  </a:lnTo>
                  <a:lnTo>
                    <a:pt x="5583" y="0"/>
                  </a:lnTo>
                  <a:lnTo>
                    <a:pt x="5501" y="0"/>
                  </a:lnTo>
                  <a:lnTo>
                    <a:pt x="5395" y="0"/>
                  </a:lnTo>
                  <a:lnTo>
                    <a:pt x="5301" y="0"/>
                  </a:lnTo>
                  <a:lnTo>
                    <a:pt x="5243" y="0"/>
                  </a:lnTo>
                  <a:lnTo>
                    <a:pt x="5196" y="0"/>
                  </a:lnTo>
                  <a:lnTo>
                    <a:pt x="5137" y="25"/>
                  </a:lnTo>
                  <a:lnTo>
                    <a:pt x="5102" y="90"/>
                  </a:lnTo>
                  <a:lnTo>
                    <a:pt x="5078" y="154"/>
                  </a:lnTo>
                  <a:lnTo>
                    <a:pt x="5066" y="257"/>
                  </a:lnTo>
                  <a:lnTo>
                    <a:pt x="5078" y="477"/>
                  </a:lnTo>
                  <a:lnTo>
                    <a:pt x="5125" y="812"/>
                  </a:lnTo>
                  <a:lnTo>
                    <a:pt x="5160" y="1135"/>
                  </a:lnTo>
                  <a:lnTo>
                    <a:pt x="5172" y="1315"/>
                  </a:lnTo>
                  <a:lnTo>
                    <a:pt x="5172" y="1354"/>
                  </a:lnTo>
                  <a:lnTo>
                    <a:pt x="5172" y="1432"/>
                  </a:lnTo>
                  <a:lnTo>
                    <a:pt x="5160" y="1536"/>
                  </a:lnTo>
                  <a:lnTo>
                    <a:pt x="5137" y="1613"/>
                  </a:lnTo>
                  <a:lnTo>
                    <a:pt x="5090" y="1716"/>
                  </a:lnTo>
                  <a:lnTo>
                    <a:pt x="4996" y="1794"/>
                  </a:lnTo>
                  <a:lnTo>
                    <a:pt x="4878" y="1858"/>
                  </a:lnTo>
                  <a:lnTo>
                    <a:pt x="4714" y="1871"/>
                  </a:lnTo>
                  <a:lnTo>
                    <a:pt x="1422" y="1871"/>
                  </a:lnTo>
                  <a:lnTo>
                    <a:pt x="1269" y="1858"/>
                  </a:lnTo>
                  <a:lnTo>
                    <a:pt x="1140" y="1794"/>
                  </a:lnTo>
                  <a:lnTo>
                    <a:pt x="1057" y="1716"/>
                  </a:lnTo>
                  <a:lnTo>
                    <a:pt x="1010" y="1613"/>
                  </a:lnTo>
                  <a:lnTo>
                    <a:pt x="963" y="1536"/>
                  </a:lnTo>
                  <a:lnTo>
                    <a:pt x="952" y="1432"/>
                  </a:lnTo>
                  <a:lnTo>
                    <a:pt x="952" y="1354"/>
                  </a:lnTo>
                  <a:lnTo>
                    <a:pt x="952" y="1315"/>
                  </a:lnTo>
                  <a:lnTo>
                    <a:pt x="987" y="1135"/>
                  </a:lnTo>
                  <a:lnTo>
                    <a:pt x="1022" y="812"/>
                  </a:lnTo>
                  <a:lnTo>
                    <a:pt x="1057" y="477"/>
                  </a:lnTo>
                  <a:lnTo>
                    <a:pt x="1081" y="257"/>
                  </a:lnTo>
                  <a:lnTo>
                    <a:pt x="1069" y="154"/>
                  </a:lnTo>
                  <a:lnTo>
                    <a:pt x="1046" y="90"/>
                  </a:lnTo>
                  <a:lnTo>
                    <a:pt x="1010" y="25"/>
                  </a:lnTo>
                  <a:lnTo>
                    <a:pt x="940" y="0"/>
                  </a:lnTo>
                  <a:lnTo>
                    <a:pt x="893" y="0"/>
                  </a:lnTo>
                  <a:lnTo>
                    <a:pt x="822" y="0"/>
                  </a:lnTo>
                  <a:lnTo>
                    <a:pt x="740" y="0"/>
                  </a:lnTo>
                  <a:lnTo>
                    <a:pt x="634" y="0"/>
                  </a:lnTo>
                  <a:lnTo>
                    <a:pt x="540" y="0"/>
                  </a:lnTo>
                  <a:lnTo>
                    <a:pt x="470" y="0"/>
                  </a:lnTo>
                  <a:lnTo>
                    <a:pt x="423" y="0"/>
                  </a:lnTo>
                  <a:lnTo>
                    <a:pt x="387" y="0"/>
                  </a:lnTo>
                  <a:lnTo>
                    <a:pt x="340" y="12"/>
                  </a:lnTo>
                  <a:lnTo>
                    <a:pt x="305" y="38"/>
                  </a:lnTo>
                  <a:lnTo>
                    <a:pt x="282" y="103"/>
                  </a:lnTo>
                  <a:lnTo>
                    <a:pt x="246" y="154"/>
                  </a:lnTo>
                  <a:lnTo>
                    <a:pt x="199" y="425"/>
                  </a:lnTo>
                  <a:lnTo>
                    <a:pt x="117" y="928"/>
                  </a:lnTo>
                  <a:lnTo>
                    <a:pt x="35" y="1471"/>
                  </a:lnTo>
                  <a:lnTo>
                    <a:pt x="0" y="1819"/>
                  </a:lnTo>
                  <a:lnTo>
                    <a:pt x="0" y="1910"/>
                  </a:lnTo>
                  <a:lnTo>
                    <a:pt x="23" y="2052"/>
                  </a:lnTo>
                  <a:lnTo>
                    <a:pt x="58" y="2206"/>
                  </a:lnTo>
                  <a:lnTo>
                    <a:pt x="117" y="2361"/>
                  </a:lnTo>
                  <a:lnTo>
                    <a:pt x="223" y="2516"/>
                  </a:lnTo>
                  <a:lnTo>
                    <a:pt x="364" y="2645"/>
                  </a:lnTo>
                  <a:lnTo>
                    <a:pt x="540" y="2735"/>
                  </a:lnTo>
                  <a:lnTo>
                    <a:pt x="787" y="2761"/>
                  </a:lnTo>
                  <a:lnTo>
                    <a:pt x="5360" y="27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498920" y="6470640"/>
              <a:ext cx="325800" cy="386280"/>
            </a:xfrm>
            <a:custGeom>
              <a:avLst/>
              <a:gdLst/>
              <a:ahLst/>
              <a:rect l="0" t="0" r="r" b="b"/>
              <a:pathLst>
                <a:path w="905" h="1073">
                  <a:moveTo>
                    <a:pt x="682" y="0"/>
                  </a:moveTo>
                  <a:lnTo>
                    <a:pt x="682" y="0"/>
                  </a:lnTo>
                  <a:lnTo>
                    <a:pt x="682" y="77"/>
                  </a:lnTo>
                  <a:lnTo>
                    <a:pt x="646" y="206"/>
                  </a:lnTo>
                  <a:lnTo>
                    <a:pt x="623" y="349"/>
                  </a:lnTo>
                  <a:lnTo>
                    <a:pt x="564" y="491"/>
                  </a:lnTo>
                  <a:lnTo>
                    <a:pt x="482" y="620"/>
                  </a:lnTo>
                  <a:lnTo>
                    <a:pt x="364" y="711"/>
                  </a:lnTo>
                  <a:lnTo>
                    <a:pt x="211" y="788"/>
                  </a:lnTo>
                  <a:lnTo>
                    <a:pt x="0" y="815"/>
                  </a:lnTo>
                  <a:lnTo>
                    <a:pt x="0" y="1073"/>
                  </a:lnTo>
                  <a:lnTo>
                    <a:pt x="271" y="1047"/>
                  </a:lnTo>
                  <a:lnTo>
                    <a:pt x="470" y="944"/>
                  </a:lnTo>
                  <a:lnTo>
                    <a:pt x="634" y="788"/>
                  </a:lnTo>
                  <a:lnTo>
                    <a:pt x="765" y="607"/>
                  </a:lnTo>
                  <a:lnTo>
                    <a:pt x="835" y="439"/>
                  </a:lnTo>
                  <a:lnTo>
                    <a:pt x="882" y="258"/>
                  </a:lnTo>
                  <a:lnTo>
                    <a:pt x="905" y="103"/>
                  </a:lnTo>
                  <a:lnTo>
                    <a:pt x="905" y="0"/>
                  </a:lnTo>
                  <a:lnTo>
                    <a:pt x="905" y="0"/>
                  </a:lnTo>
                  <a:lnTo>
                    <a:pt x="68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649760" y="5865840"/>
              <a:ext cx="174960" cy="605160"/>
            </a:xfrm>
            <a:custGeom>
              <a:avLst/>
              <a:gdLst/>
              <a:ahLst/>
              <a:rect l="0" t="0" r="r" b="b"/>
              <a:pathLst>
                <a:path w="486" h="1681">
                  <a:moveTo>
                    <a:pt x="0" y="38"/>
                  </a:moveTo>
                  <a:lnTo>
                    <a:pt x="0" y="51"/>
                  </a:lnTo>
                  <a:lnTo>
                    <a:pt x="46" y="307"/>
                  </a:lnTo>
                  <a:lnTo>
                    <a:pt x="138" y="820"/>
                  </a:lnTo>
                  <a:lnTo>
                    <a:pt x="219" y="1347"/>
                  </a:lnTo>
                  <a:lnTo>
                    <a:pt x="266" y="1681"/>
                  </a:lnTo>
                  <a:lnTo>
                    <a:pt x="486" y="1681"/>
                  </a:lnTo>
                  <a:lnTo>
                    <a:pt x="451" y="1321"/>
                  </a:lnTo>
                  <a:lnTo>
                    <a:pt x="359" y="782"/>
                  </a:lnTo>
                  <a:lnTo>
                    <a:pt x="278" y="282"/>
                  </a:lnTo>
                  <a:lnTo>
                    <a:pt x="219" y="0"/>
                  </a:lnTo>
                  <a:lnTo>
                    <a:pt x="219" y="1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635360" y="5769000"/>
              <a:ext cx="90720" cy="111600"/>
            </a:xfrm>
            <a:custGeom>
              <a:avLst/>
              <a:gdLst/>
              <a:ahLst/>
              <a:rect l="0" t="0" r="r" b="b"/>
              <a:pathLst>
                <a:path w="252" h="310">
                  <a:moveTo>
                    <a:pt x="0" y="270"/>
                  </a:moveTo>
                  <a:lnTo>
                    <a:pt x="0" y="270"/>
                  </a:lnTo>
                  <a:lnTo>
                    <a:pt x="22" y="270"/>
                  </a:lnTo>
                  <a:lnTo>
                    <a:pt x="22" y="270"/>
                  </a:lnTo>
                  <a:lnTo>
                    <a:pt x="34" y="297"/>
                  </a:lnTo>
                  <a:lnTo>
                    <a:pt x="34" y="310"/>
                  </a:lnTo>
                  <a:lnTo>
                    <a:pt x="252" y="283"/>
                  </a:lnTo>
                  <a:lnTo>
                    <a:pt x="229" y="175"/>
                  </a:lnTo>
                  <a:lnTo>
                    <a:pt x="172" y="94"/>
                  </a:lnTo>
                  <a:lnTo>
                    <a:pt x="91" y="26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440240" y="5769000"/>
              <a:ext cx="195480" cy="97200"/>
            </a:xfrm>
            <a:custGeom>
              <a:avLst/>
              <a:gdLst/>
              <a:ahLst/>
              <a:rect l="0" t="0" r="r" b="b"/>
              <a:pathLst>
                <a:path w="543" h="270">
                  <a:moveTo>
                    <a:pt x="0" y="270"/>
                  </a:moveTo>
                  <a:lnTo>
                    <a:pt x="0" y="270"/>
                  </a:lnTo>
                  <a:lnTo>
                    <a:pt x="47" y="270"/>
                  </a:lnTo>
                  <a:lnTo>
                    <a:pt x="106" y="270"/>
                  </a:lnTo>
                  <a:lnTo>
                    <a:pt x="200" y="270"/>
                  </a:lnTo>
                  <a:lnTo>
                    <a:pt x="307" y="270"/>
                  </a:lnTo>
                  <a:lnTo>
                    <a:pt x="390" y="270"/>
                  </a:lnTo>
                  <a:lnTo>
                    <a:pt x="472" y="270"/>
                  </a:lnTo>
                  <a:lnTo>
                    <a:pt x="519" y="270"/>
                  </a:lnTo>
                  <a:lnTo>
                    <a:pt x="543" y="270"/>
                  </a:lnTo>
                  <a:lnTo>
                    <a:pt x="543" y="0"/>
                  </a:lnTo>
                  <a:lnTo>
                    <a:pt x="519" y="0"/>
                  </a:lnTo>
                  <a:lnTo>
                    <a:pt x="472" y="0"/>
                  </a:lnTo>
                  <a:lnTo>
                    <a:pt x="390" y="0"/>
                  </a:lnTo>
                  <a:lnTo>
                    <a:pt x="307" y="0"/>
                  </a:lnTo>
                  <a:lnTo>
                    <a:pt x="200" y="0"/>
                  </a:lnTo>
                  <a:lnTo>
                    <a:pt x="106" y="0"/>
                  </a:lnTo>
                  <a:lnTo>
                    <a:pt x="4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352760" y="5769000"/>
              <a:ext cx="97200" cy="141480"/>
            </a:xfrm>
            <a:custGeom>
              <a:avLst/>
              <a:gdLst/>
              <a:ahLst/>
              <a:rect l="0" t="0" r="r" b="b"/>
              <a:pathLst>
                <a:path w="270" h="393">
                  <a:moveTo>
                    <a:pt x="224" y="393"/>
                  </a:moveTo>
                  <a:lnTo>
                    <a:pt x="224" y="393"/>
                  </a:lnTo>
                  <a:lnTo>
                    <a:pt x="247" y="314"/>
                  </a:lnTo>
                  <a:lnTo>
                    <a:pt x="259" y="275"/>
                  </a:lnTo>
                  <a:lnTo>
                    <a:pt x="270" y="262"/>
                  </a:lnTo>
                  <a:lnTo>
                    <a:pt x="247" y="262"/>
                  </a:lnTo>
                  <a:lnTo>
                    <a:pt x="247" y="0"/>
                  </a:lnTo>
                  <a:lnTo>
                    <a:pt x="117" y="65"/>
                  </a:lnTo>
                  <a:lnTo>
                    <a:pt x="46" y="156"/>
                  </a:lnTo>
                  <a:lnTo>
                    <a:pt x="11" y="262"/>
                  </a:lnTo>
                  <a:lnTo>
                    <a:pt x="0" y="393"/>
                  </a:lnTo>
                  <a:lnTo>
                    <a:pt x="0" y="393"/>
                  </a:lnTo>
                  <a:lnTo>
                    <a:pt x="224" y="3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352760" y="5910120"/>
              <a:ext cx="122760" cy="381240"/>
            </a:xfrm>
            <a:custGeom>
              <a:avLst/>
              <a:gdLst/>
              <a:ahLst/>
              <a:rect l="0" t="0" r="r" b="b"/>
              <a:pathLst>
                <a:path w="341" h="1059">
                  <a:moveTo>
                    <a:pt x="341" y="1059"/>
                  </a:moveTo>
                  <a:lnTo>
                    <a:pt x="341" y="1059"/>
                  </a:lnTo>
                  <a:lnTo>
                    <a:pt x="329" y="865"/>
                  </a:lnTo>
                  <a:lnTo>
                    <a:pt x="294" y="543"/>
                  </a:lnTo>
                  <a:lnTo>
                    <a:pt x="246" y="206"/>
                  </a:lnTo>
                  <a:lnTo>
                    <a:pt x="223" y="0"/>
                  </a:lnTo>
                  <a:lnTo>
                    <a:pt x="0" y="0"/>
                  </a:lnTo>
                  <a:lnTo>
                    <a:pt x="11" y="232"/>
                  </a:lnTo>
                  <a:lnTo>
                    <a:pt x="58" y="568"/>
                  </a:lnTo>
                  <a:lnTo>
                    <a:pt x="106" y="891"/>
                  </a:lnTo>
                  <a:lnTo>
                    <a:pt x="118" y="1059"/>
                  </a:lnTo>
                  <a:lnTo>
                    <a:pt x="118" y="1059"/>
                  </a:lnTo>
                  <a:lnTo>
                    <a:pt x="341" y="10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267080" y="6291360"/>
              <a:ext cx="208440" cy="248040"/>
            </a:xfrm>
            <a:custGeom>
              <a:avLst/>
              <a:gdLst/>
              <a:ahLst/>
              <a:rect l="0" t="0" r="r" b="b"/>
              <a:pathLst>
                <a:path w="579" h="689">
                  <a:moveTo>
                    <a:pt x="0" y="689"/>
                  </a:moveTo>
                  <a:lnTo>
                    <a:pt x="0" y="689"/>
                  </a:lnTo>
                  <a:lnTo>
                    <a:pt x="201" y="676"/>
                  </a:lnTo>
                  <a:lnTo>
                    <a:pt x="354" y="599"/>
                  </a:lnTo>
                  <a:lnTo>
                    <a:pt x="461" y="481"/>
                  </a:lnTo>
                  <a:lnTo>
                    <a:pt x="532" y="338"/>
                  </a:lnTo>
                  <a:lnTo>
                    <a:pt x="567" y="247"/>
                  </a:lnTo>
                  <a:lnTo>
                    <a:pt x="579" y="116"/>
                  </a:lnTo>
                  <a:lnTo>
                    <a:pt x="579" y="38"/>
                  </a:lnTo>
                  <a:lnTo>
                    <a:pt x="579" y="0"/>
                  </a:lnTo>
                  <a:lnTo>
                    <a:pt x="354" y="0"/>
                  </a:lnTo>
                  <a:lnTo>
                    <a:pt x="354" y="38"/>
                  </a:lnTo>
                  <a:lnTo>
                    <a:pt x="354" y="116"/>
                  </a:lnTo>
                  <a:lnTo>
                    <a:pt x="342" y="182"/>
                  </a:lnTo>
                  <a:lnTo>
                    <a:pt x="319" y="260"/>
                  </a:lnTo>
                  <a:lnTo>
                    <a:pt x="283" y="312"/>
                  </a:lnTo>
                  <a:lnTo>
                    <a:pt x="224" y="377"/>
                  </a:lnTo>
                  <a:lnTo>
                    <a:pt x="141" y="416"/>
                  </a:lnTo>
                  <a:lnTo>
                    <a:pt x="0" y="429"/>
                  </a:lnTo>
                  <a:lnTo>
                    <a:pt x="0" y="429"/>
                  </a:lnTo>
                  <a:lnTo>
                    <a:pt x="0" y="6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3081240" y="6443640"/>
              <a:ext cx="1186200" cy="95760"/>
            </a:xfrm>
            <a:custGeom>
              <a:avLst/>
              <a:gdLst/>
              <a:ahLst/>
              <a:rect l="0" t="0" r="r" b="b"/>
              <a:pathLst>
                <a:path w="3295" h="266">
                  <a:moveTo>
                    <a:pt x="0" y="266"/>
                  </a:moveTo>
                  <a:lnTo>
                    <a:pt x="0" y="266"/>
                  </a:lnTo>
                  <a:lnTo>
                    <a:pt x="3295" y="266"/>
                  </a:lnTo>
                  <a:lnTo>
                    <a:pt x="329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2874960" y="6291360"/>
              <a:ext cx="206640" cy="248040"/>
            </a:xfrm>
            <a:custGeom>
              <a:avLst/>
              <a:gdLst/>
              <a:ahLst/>
              <a:rect l="0" t="0" r="r" b="b"/>
              <a:pathLst>
                <a:path w="574" h="689">
                  <a:moveTo>
                    <a:pt x="0" y="0"/>
                  </a:moveTo>
                  <a:lnTo>
                    <a:pt x="0" y="0"/>
                  </a:lnTo>
                  <a:lnTo>
                    <a:pt x="0" y="38"/>
                  </a:lnTo>
                  <a:lnTo>
                    <a:pt x="0" y="116"/>
                  </a:lnTo>
                  <a:lnTo>
                    <a:pt x="11" y="247"/>
                  </a:lnTo>
                  <a:lnTo>
                    <a:pt x="58" y="364"/>
                  </a:lnTo>
                  <a:lnTo>
                    <a:pt x="116" y="468"/>
                  </a:lnTo>
                  <a:lnTo>
                    <a:pt x="222" y="599"/>
                  </a:lnTo>
                  <a:lnTo>
                    <a:pt x="387" y="676"/>
                  </a:lnTo>
                  <a:lnTo>
                    <a:pt x="574" y="689"/>
                  </a:lnTo>
                  <a:lnTo>
                    <a:pt x="574" y="429"/>
                  </a:lnTo>
                  <a:lnTo>
                    <a:pt x="445" y="416"/>
                  </a:lnTo>
                  <a:lnTo>
                    <a:pt x="351" y="377"/>
                  </a:lnTo>
                  <a:lnTo>
                    <a:pt x="305" y="325"/>
                  </a:lnTo>
                  <a:lnTo>
                    <a:pt x="257" y="247"/>
                  </a:lnTo>
                  <a:lnTo>
                    <a:pt x="233" y="182"/>
                  </a:lnTo>
                  <a:lnTo>
                    <a:pt x="222" y="116"/>
                  </a:lnTo>
                  <a:lnTo>
                    <a:pt x="222" y="38"/>
                  </a:lnTo>
                  <a:lnTo>
                    <a:pt x="222" y="0"/>
                  </a:lnTo>
                  <a:lnTo>
                    <a:pt x="22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874960" y="5910120"/>
              <a:ext cx="128880" cy="381240"/>
            </a:xfrm>
            <a:custGeom>
              <a:avLst/>
              <a:gdLst/>
              <a:ahLst/>
              <a:rect l="0" t="0" r="r" b="b"/>
              <a:pathLst>
                <a:path w="358" h="1059">
                  <a:moveTo>
                    <a:pt x="119" y="0"/>
                  </a:moveTo>
                  <a:lnTo>
                    <a:pt x="119" y="0"/>
                  </a:lnTo>
                  <a:lnTo>
                    <a:pt x="95" y="206"/>
                  </a:lnTo>
                  <a:lnTo>
                    <a:pt x="59" y="543"/>
                  </a:lnTo>
                  <a:lnTo>
                    <a:pt x="23" y="865"/>
                  </a:lnTo>
                  <a:lnTo>
                    <a:pt x="0" y="1059"/>
                  </a:lnTo>
                  <a:lnTo>
                    <a:pt x="227" y="1059"/>
                  </a:lnTo>
                  <a:lnTo>
                    <a:pt x="251" y="891"/>
                  </a:lnTo>
                  <a:lnTo>
                    <a:pt x="298" y="568"/>
                  </a:lnTo>
                  <a:lnTo>
                    <a:pt x="334" y="232"/>
                  </a:lnTo>
                  <a:lnTo>
                    <a:pt x="358" y="0"/>
                  </a:lnTo>
                  <a:lnTo>
                    <a:pt x="358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909880" y="5769000"/>
              <a:ext cx="93960" cy="141480"/>
            </a:xfrm>
            <a:custGeom>
              <a:avLst/>
              <a:gdLst/>
              <a:ahLst/>
              <a:rect l="0" t="0" r="r" b="b"/>
              <a:pathLst>
                <a:path w="261" h="393">
                  <a:moveTo>
                    <a:pt x="0" y="262"/>
                  </a:moveTo>
                  <a:lnTo>
                    <a:pt x="0" y="262"/>
                  </a:lnTo>
                  <a:lnTo>
                    <a:pt x="0" y="262"/>
                  </a:lnTo>
                  <a:lnTo>
                    <a:pt x="0" y="275"/>
                  </a:lnTo>
                  <a:lnTo>
                    <a:pt x="11" y="314"/>
                  </a:lnTo>
                  <a:lnTo>
                    <a:pt x="23" y="393"/>
                  </a:lnTo>
                  <a:lnTo>
                    <a:pt x="261" y="393"/>
                  </a:lnTo>
                  <a:lnTo>
                    <a:pt x="249" y="262"/>
                  </a:lnTo>
                  <a:lnTo>
                    <a:pt x="213" y="156"/>
                  </a:lnTo>
                  <a:lnTo>
                    <a:pt x="131" y="6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2709720" y="5769000"/>
              <a:ext cx="200520" cy="97200"/>
            </a:xfrm>
            <a:custGeom>
              <a:avLst/>
              <a:gdLst/>
              <a:ahLst/>
              <a:rect l="0" t="0" r="r" b="b"/>
              <a:pathLst>
                <a:path w="557" h="270">
                  <a:moveTo>
                    <a:pt x="0" y="270"/>
                  </a:moveTo>
                  <a:lnTo>
                    <a:pt x="0" y="270"/>
                  </a:lnTo>
                  <a:lnTo>
                    <a:pt x="35" y="270"/>
                  </a:lnTo>
                  <a:lnTo>
                    <a:pt x="82" y="270"/>
                  </a:lnTo>
                  <a:lnTo>
                    <a:pt x="154" y="270"/>
                  </a:lnTo>
                  <a:lnTo>
                    <a:pt x="249" y="270"/>
                  </a:lnTo>
                  <a:lnTo>
                    <a:pt x="355" y="270"/>
                  </a:lnTo>
                  <a:lnTo>
                    <a:pt x="439" y="270"/>
                  </a:lnTo>
                  <a:lnTo>
                    <a:pt x="510" y="270"/>
                  </a:lnTo>
                  <a:lnTo>
                    <a:pt x="557" y="270"/>
                  </a:lnTo>
                  <a:lnTo>
                    <a:pt x="557" y="0"/>
                  </a:lnTo>
                  <a:lnTo>
                    <a:pt x="510" y="0"/>
                  </a:lnTo>
                  <a:lnTo>
                    <a:pt x="439" y="0"/>
                  </a:lnTo>
                  <a:lnTo>
                    <a:pt x="355" y="0"/>
                  </a:lnTo>
                  <a:lnTo>
                    <a:pt x="249" y="0"/>
                  </a:lnTo>
                  <a:lnTo>
                    <a:pt x="154" y="0"/>
                  </a:lnTo>
                  <a:lnTo>
                    <a:pt x="82" y="0"/>
                  </a:lnTo>
                  <a:lnTo>
                    <a:pt x="3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2619360" y="5769000"/>
              <a:ext cx="90720" cy="113040"/>
            </a:xfrm>
            <a:custGeom>
              <a:avLst/>
              <a:gdLst/>
              <a:ahLst/>
              <a:rect l="0" t="0" r="r" b="b"/>
              <a:pathLst>
                <a:path w="252" h="314">
                  <a:moveTo>
                    <a:pt x="228" y="301"/>
                  </a:moveTo>
                  <a:lnTo>
                    <a:pt x="216" y="314"/>
                  </a:lnTo>
                  <a:lnTo>
                    <a:pt x="240" y="288"/>
                  </a:lnTo>
                  <a:lnTo>
                    <a:pt x="252" y="261"/>
                  </a:lnTo>
                  <a:lnTo>
                    <a:pt x="240" y="261"/>
                  </a:lnTo>
                  <a:lnTo>
                    <a:pt x="252" y="261"/>
                  </a:lnTo>
                  <a:lnTo>
                    <a:pt x="252" y="0"/>
                  </a:lnTo>
                  <a:lnTo>
                    <a:pt x="168" y="26"/>
                  </a:lnTo>
                  <a:lnTo>
                    <a:pt x="71" y="91"/>
                  </a:lnTo>
                  <a:lnTo>
                    <a:pt x="35" y="170"/>
                  </a:lnTo>
                  <a:lnTo>
                    <a:pt x="11" y="261"/>
                  </a:lnTo>
                  <a:lnTo>
                    <a:pt x="0" y="274"/>
                  </a:lnTo>
                  <a:lnTo>
                    <a:pt x="228" y="3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2529000" y="5869080"/>
              <a:ext cx="171720" cy="601920"/>
            </a:xfrm>
            <a:custGeom>
              <a:avLst/>
              <a:gdLst/>
              <a:ahLst/>
              <a:rect l="0" t="0" r="r" b="b"/>
              <a:pathLst>
                <a:path w="477" h="1672">
                  <a:moveTo>
                    <a:pt x="220" y="1672"/>
                  </a:moveTo>
                  <a:lnTo>
                    <a:pt x="220" y="1672"/>
                  </a:lnTo>
                  <a:lnTo>
                    <a:pt x="268" y="1338"/>
                  </a:lnTo>
                  <a:lnTo>
                    <a:pt x="349" y="809"/>
                  </a:lnTo>
                  <a:lnTo>
                    <a:pt x="430" y="295"/>
                  </a:lnTo>
                  <a:lnTo>
                    <a:pt x="477" y="25"/>
                  </a:lnTo>
                  <a:lnTo>
                    <a:pt x="256" y="0"/>
                  </a:lnTo>
                  <a:lnTo>
                    <a:pt x="197" y="269"/>
                  </a:lnTo>
                  <a:lnTo>
                    <a:pt x="127" y="771"/>
                  </a:lnTo>
                  <a:lnTo>
                    <a:pt x="34" y="1312"/>
                  </a:lnTo>
                  <a:lnTo>
                    <a:pt x="0" y="1672"/>
                  </a:lnTo>
                  <a:lnTo>
                    <a:pt x="0" y="1672"/>
                  </a:lnTo>
                  <a:lnTo>
                    <a:pt x="220" y="16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2529000" y="6470640"/>
              <a:ext cx="324360" cy="386280"/>
            </a:xfrm>
            <a:custGeom>
              <a:avLst/>
              <a:gdLst/>
              <a:ahLst/>
              <a:rect l="0" t="0" r="r" b="b"/>
              <a:pathLst>
                <a:path w="901" h="1073">
                  <a:moveTo>
                    <a:pt x="901" y="815"/>
                  </a:moveTo>
                  <a:lnTo>
                    <a:pt x="901" y="815"/>
                  </a:lnTo>
                  <a:lnTo>
                    <a:pt x="691" y="788"/>
                  </a:lnTo>
                  <a:lnTo>
                    <a:pt x="538" y="711"/>
                  </a:lnTo>
                  <a:lnTo>
                    <a:pt x="421" y="620"/>
                  </a:lnTo>
                  <a:lnTo>
                    <a:pt x="339" y="491"/>
                  </a:lnTo>
                  <a:lnTo>
                    <a:pt x="281" y="349"/>
                  </a:lnTo>
                  <a:lnTo>
                    <a:pt x="258" y="206"/>
                  </a:lnTo>
                  <a:lnTo>
                    <a:pt x="221" y="77"/>
                  </a:lnTo>
                  <a:lnTo>
                    <a:pt x="221" y="0"/>
                  </a:lnTo>
                  <a:lnTo>
                    <a:pt x="0" y="0"/>
                  </a:lnTo>
                  <a:lnTo>
                    <a:pt x="0" y="103"/>
                  </a:lnTo>
                  <a:lnTo>
                    <a:pt x="23" y="258"/>
                  </a:lnTo>
                  <a:lnTo>
                    <a:pt x="70" y="439"/>
                  </a:lnTo>
                  <a:lnTo>
                    <a:pt x="140" y="607"/>
                  </a:lnTo>
                  <a:lnTo>
                    <a:pt x="269" y="788"/>
                  </a:lnTo>
                  <a:lnTo>
                    <a:pt x="433" y="944"/>
                  </a:lnTo>
                  <a:lnTo>
                    <a:pt x="631" y="1047"/>
                  </a:lnTo>
                  <a:lnTo>
                    <a:pt x="901" y="1073"/>
                  </a:lnTo>
                  <a:lnTo>
                    <a:pt x="901" y="1073"/>
                  </a:lnTo>
                  <a:lnTo>
                    <a:pt x="901" y="8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2852640" y="6765840"/>
              <a:ext cx="1646640" cy="90720"/>
            </a:xfrm>
            <a:custGeom>
              <a:avLst/>
              <a:gdLst/>
              <a:ahLst/>
              <a:rect l="0" t="0" r="r" b="b"/>
              <a:pathLst>
                <a:path w="4574" h="252">
                  <a:moveTo>
                    <a:pt x="4574" y="0"/>
                  </a:moveTo>
                  <a:lnTo>
                    <a:pt x="4574" y="0"/>
                  </a:lnTo>
                  <a:lnTo>
                    <a:pt x="0" y="0"/>
                  </a:lnTo>
                  <a:lnTo>
                    <a:pt x="0" y="252"/>
                  </a:lnTo>
                  <a:lnTo>
                    <a:pt x="4574" y="252"/>
                  </a:lnTo>
                  <a:lnTo>
                    <a:pt x="4574" y="252"/>
                  </a:lnTo>
                  <a:lnTo>
                    <a:pt x="457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63520" y="3978360"/>
              <a:ext cx="6942600" cy="1573560"/>
            </a:xfrm>
            <a:custGeom>
              <a:avLst/>
              <a:gdLst/>
              <a:ahLst/>
              <a:rect l="0" t="0" r="r" b="b"/>
              <a:pathLst>
                <a:path w="19285" h="4371">
                  <a:moveTo>
                    <a:pt x="19179" y="3919"/>
                  </a:moveTo>
                  <a:lnTo>
                    <a:pt x="19121" y="3816"/>
                  </a:lnTo>
                  <a:lnTo>
                    <a:pt x="19027" y="3662"/>
                  </a:lnTo>
                  <a:lnTo>
                    <a:pt x="18885" y="3455"/>
                  </a:lnTo>
                  <a:lnTo>
                    <a:pt x="18721" y="3210"/>
                  </a:lnTo>
                  <a:lnTo>
                    <a:pt x="18533" y="2927"/>
                  </a:lnTo>
                  <a:lnTo>
                    <a:pt x="18321" y="2617"/>
                  </a:lnTo>
                  <a:lnTo>
                    <a:pt x="18109" y="2295"/>
                  </a:lnTo>
                  <a:lnTo>
                    <a:pt x="17886" y="1972"/>
                  </a:lnTo>
                  <a:lnTo>
                    <a:pt x="17674" y="1637"/>
                  </a:lnTo>
                  <a:lnTo>
                    <a:pt x="17463" y="1327"/>
                  </a:lnTo>
                  <a:lnTo>
                    <a:pt x="17263" y="1031"/>
                  </a:lnTo>
                  <a:lnTo>
                    <a:pt x="17075" y="773"/>
                  </a:lnTo>
                  <a:lnTo>
                    <a:pt x="16922" y="554"/>
                  </a:lnTo>
                  <a:lnTo>
                    <a:pt x="16816" y="373"/>
                  </a:lnTo>
                  <a:lnTo>
                    <a:pt x="16734" y="257"/>
                  </a:lnTo>
                  <a:lnTo>
                    <a:pt x="16698" y="193"/>
                  </a:lnTo>
                  <a:lnTo>
                    <a:pt x="16651" y="141"/>
                  </a:lnTo>
                  <a:lnTo>
                    <a:pt x="16628" y="90"/>
                  </a:lnTo>
                  <a:lnTo>
                    <a:pt x="16593" y="38"/>
                  </a:lnTo>
                  <a:lnTo>
                    <a:pt x="16557" y="0"/>
                  </a:lnTo>
                  <a:lnTo>
                    <a:pt x="16357" y="141"/>
                  </a:lnTo>
                  <a:lnTo>
                    <a:pt x="19015" y="4074"/>
                  </a:lnTo>
                  <a:lnTo>
                    <a:pt x="446" y="4074"/>
                  </a:lnTo>
                  <a:lnTo>
                    <a:pt x="3104" y="141"/>
                  </a:lnTo>
                  <a:lnTo>
                    <a:pt x="2916" y="0"/>
                  </a:lnTo>
                  <a:lnTo>
                    <a:pt x="2857" y="25"/>
                  </a:lnTo>
                  <a:lnTo>
                    <a:pt x="2822" y="51"/>
                  </a:lnTo>
                  <a:lnTo>
                    <a:pt x="2774" y="103"/>
                  </a:lnTo>
                  <a:lnTo>
                    <a:pt x="2727" y="141"/>
                  </a:lnTo>
                  <a:lnTo>
                    <a:pt x="2692" y="219"/>
                  </a:lnTo>
                  <a:lnTo>
                    <a:pt x="2610" y="335"/>
                  </a:lnTo>
                  <a:lnTo>
                    <a:pt x="2481" y="541"/>
                  </a:lnTo>
                  <a:lnTo>
                    <a:pt x="2304" y="773"/>
                  </a:lnTo>
                  <a:lnTo>
                    <a:pt x="2116" y="1057"/>
                  </a:lnTo>
                  <a:lnTo>
                    <a:pt x="1904" y="1379"/>
                  </a:lnTo>
                  <a:lnTo>
                    <a:pt x="1681" y="1714"/>
                  </a:lnTo>
                  <a:lnTo>
                    <a:pt x="1446" y="2049"/>
                  </a:lnTo>
                  <a:lnTo>
                    <a:pt x="1211" y="2385"/>
                  </a:lnTo>
                  <a:lnTo>
                    <a:pt x="975" y="2733"/>
                  </a:lnTo>
                  <a:lnTo>
                    <a:pt x="764" y="3043"/>
                  </a:lnTo>
                  <a:lnTo>
                    <a:pt x="564" y="3326"/>
                  </a:lnTo>
                  <a:lnTo>
                    <a:pt x="399" y="3571"/>
                  </a:lnTo>
                  <a:lnTo>
                    <a:pt x="258" y="3765"/>
                  </a:lnTo>
                  <a:lnTo>
                    <a:pt x="164" y="3906"/>
                  </a:lnTo>
                  <a:lnTo>
                    <a:pt x="117" y="3971"/>
                  </a:lnTo>
                  <a:lnTo>
                    <a:pt x="47" y="4087"/>
                  </a:lnTo>
                  <a:lnTo>
                    <a:pt x="11" y="4190"/>
                  </a:lnTo>
                  <a:lnTo>
                    <a:pt x="0" y="4255"/>
                  </a:lnTo>
                  <a:lnTo>
                    <a:pt x="0" y="4319"/>
                  </a:lnTo>
                  <a:lnTo>
                    <a:pt x="11" y="4345"/>
                  </a:lnTo>
                  <a:lnTo>
                    <a:pt x="35" y="4358"/>
                  </a:lnTo>
                  <a:lnTo>
                    <a:pt x="58" y="4371"/>
                  </a:lnTo>
                  <a:lnTo>
                    <a:pt x="105" y="4371"/>
                  </a:lnTo>
                  <a:lnTo>
                    <a:pt x="164" y="4371"/>
                  </a:lnTo>
                  <a:lnTo>
                    <a:pt x="317" y="4371"/>
                  </a:lnTo>
                  <a:lnTo>
                    <a:pt x="576" y="4371"/>
                  </a:lnTo>
                  <a:lnTo>
                    <a:pt x="940" y="4371"/>
                  </a:lnTo>
                  <a:lnTo>
                    <a:pt x="1363" y="4371"/>
                  </a:lnTo>
                  <a:lnTo>
                    <a:pt x="1869" y="4371"/>
                  </a:lnTo>
                  <a:lnTo>
                    <a:pt x="2445" y="4371"/>
                  </a:lnTo>
                  <a:lnTo>
                    <a:pt x="3080" y="4371"/>
                  </a:lnTo>
                  <a:lnTo>
                    <a:pt x="3774" y="4371"/>
                  </a:lnTo>
                  <a:lnTo>
                    <a:pt x="4515" y="4371"/>
                  </a:lnTo>
                  <a:lnTo>
                    <a:pt x="5304" y="4371"/>
                  </a:lnTo>
                  <a:lnTo>
                    <a:pt x="6127" y="4371"/>
                  </a:lnTo>
                  <a:lnTo>
                    <a:pt x="6973" y="4371"/>
                  </a:lnTo>
                  <a:lnTo>
                    <a:pt x="7843" y="4371"/>
                  </a:lnTo>
                  <a:lnTo>
                    <a:pt x="8713" y="4371"/>
                  </a:lnTo>
                  <a:lnTo>
                    <a:pt x="9595" y="4371"/>
                  </a:lnTo>
                  <a:lnTo>
                    <a:pt x="10489" y="4371"/>
                  </a:lnTo>
                  <a:lnTo>
                    <a:pt x="11371" y="4371"/>
                  </a:lnTo>
                  <a:lnTo>
                    <a:pt x="12241" y="4371"/>
                  </a:lnTo>
                  <a:lnTo>
                    <a:pt x="13088" y="4371"/>
                  </a:lnTo>
                  <a:lnTo>
                    <a:pt x="13899" y="4371"/>
                  </a:lnTo>
                  <a:lnTo>
                    <a:pt x="14676" y="4371"/>
                  </a:lnTo>
                  <a:lnTo>
                    <a:pt x="15428" y="4371"/>
                  </a:lnTo>
                  <a:lnTo>
                    <a:pt x="16122" y="4371"/>
                  </a:lnTo>
                  <a:lnTo>
                    <a:pt x="16757" y="4371"/>
                  </a:lnTo>
                  <a:lnTo>
                    <a:pt x="17333" y="4371"/>
                  </a:lnTo>
                  <a:lnTo>
                    <a:pt x="17851" y="4371"/>
                  </a:lnTo>
                  <a:lnTo>
                    <a:pt x="18286" y="4371"/>
                  </a:lnTo>
                  <a:lnTo>
                    <a:pt x="18639" y="4371"/>
                  </a:lnTo>
                  <a:lnTo>
                    <a:pt x="18885" y="4371"/>
                  </a:lnTo>
                  <a:lnTo>
                    <a:pt x="19062" y="4371"/>
                  </a:lnTo>
                  <a:lnTo>
                    <a:pt x="19121" y="4371"/>
                  </a:lnTo>
                  <a:lnTo>
                    <a:pt x="19215" y="4358"/>
                  </a:lnTo>
                  <a:lnTo>
                    <a:pt x="19273" y="4319"/>
                  </a:lnTo>
                  <a:lnTo>
                    <a:pt x="19285" y="4177"/>
                  </a:lnTo>
                  <a:lnTo>
                    <a:pt x="19179" y="39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238800" y="4027320"/>
              <a:ext cx="967320" cy="1387800"/>
            </a:xfrm>
            <a:custGeom>
              <a:avLst/>
              <a:gdLst/>
              <a:ahLst/>
              <a:rect l="0" t="0" r="r" b="b"/>
              <a:pathLst>
                <a:path w="2687" h="3855">
                  <a:moveTo>
                    <a:pt x="0" y="141"/>
                  </a:moveTo>
                  <a:lnTo>
                    <a:pt x="0" y="141"/>
                  </a:lnTo>
                  <a:lnTo>
                    <a:pt x="35" y="193"/>
                  </a:lnTo>
                  <a:lnTo>
                    <a:pt x="117" y="309"/>
                  </a:lnTo>
                  <a:lnTo>
                    <a:pt x="235" y="489"/>
                  </a:lnTo>
                  <a:lnTo>
                    <a:pt x="388" y="721"/>
                  </a:lnTo>
                  <a:lnTo>
                    <a:pt x="565" y="979"/>
                  </a:lnTo>
                  <a:lnTo>
                    <a:pt x="778" y="1276"/>
                  </a:lnTo>
                  <a:lnTo>
                    <a:pt x="978" y="1585"/>
                  </a:lnTo>
                  <a:lnTo>
                    <a:pt x="1202" y="1907"/>
                  </a:lnTo>
                  <a:lnTo>
                    <a:pt x="1414" y="2230"/>
                  </a:lnTo>
                  <a:lnTo>
                    <a:pt x="1638" y="2566"/>
                  </a:lnTo>
                  <a:lnTo>
                    <a:pt x="1838" y="2875"/>
                  </a:lnTo>
                  <a:lnTo>
                    <a:pt x="2039" y="3159"/>
                  </a:lnTo>
                  <a:lnTo>
                    <a:pt x="2204" y="3391"/>
                  </a:lnTo>
                  <a:lnTo>
                    <a:pt x="2345" y="3610"/>
                  </a:lnTo>
                  <a:lnTo>
                    <a:pt x="2428" y="3764"/>
                  </a:lnTo>
                  <a:lnTo>
                    <a:pt x="2487" y="3855"/>
                  </a:lnTo>
                  <a:lnTo>
                    <a:pt x="2687" y="3713"/>
                  </a:lnTo>
                  <a:lnTo>
                    <a:pt x="2616" y="3623"/>
                  </a:lnTo>
                  <a:lnTo>
                    <a:pt x="2522" y="3468"/>
                  </a:lnTo>
                  <a:lnTo>
                    <a:pt x="2381" y="3249"/>
                  </a:lnTo>
                  <a:lnTo>
                    <a:pt x="2216" y="3017"/>
                  </a:lnTo>
                  <a:lnTo>
                    <a:pt x="2016" y="2733"/>
                  </a:lnTo>
                  <a:lnTo>
                    <a:pt x="1814" y="2424"/>
                  </a:lnTo>
                  <a:lnTo>
                    <a:pt x="1591" y="2089"/>
                  </a:lnTo>
                  <a:lnTo>
                    <a:pt x="1379" y="1765"/>
                  </a:lnTo>
                  <a:lnTo>
                    <a:pt x="1155" y="1443"/>
                  </a:lnTo>
                  <a:lnTo>
                    <a:pt x="955" y="1134"/>
                  </a:lnTo>
                  <a:lnTo>
                    <a:pt x="743" y="837"/>
                  </a:lnTo>
                  <a:lnTo>
                    <a:pt x="565" y="580"/>
                  </a:lnTo>
                  <a:lnTo>
                    <a:pt x="412" y="348"/>
                  </a:lnTo>
                  <a:lnTo>
                    <a:pt x="294" y="167"/>
                  </a:lnTo>
                  <a:lnTo>
                    <a:pt x="223" y="51"/>
                  </a:lnTo>
                  <a:lnTo>
                    <a:pt x="176" y="0"/>
                  </a:lnTo>
                  <a:lnTo>
                    <a:pt x="176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94520" y="3924360"/>
              <a:ext cx="108360" cy="154440"/>
            </a:xfrm>
            <a:custGeom>
              <a:avLst/>
              <a:gdLst/>
              <a:ahLst/>
              <a:rect l="0" t="0" r="r" b="b"/>
              <a:pathLst>
                <a:path w="301" h="429">
                  <a:moveTo>
                    <a:pt x="132" y="260"/>
                  </a:moveTo>
                  <a:lnTo>
                    <a:pt x="11" y="273"/>
                  </a:lnTo>
                  <a:lnTo>
                    <a:pt x="23" y="286"/>
                  </a:lnTo>
                  <a:lnTo>
                    <a:pt x="59" y="312"/>
                  </a:lnTo>
                  <a:lnTo>
                    <a:pt x="71" y="377"/>
                  </a:lnTo>
                  <a:lnTo>
                    <a:pt x="120" y="429"/>
                  </a:lnTo>
                  <a:lnTo>
                    <a:pt x="301" y="286"/>
                  </a:lnTo>
                  <a:lnTo>
                    <a:pt x="277" y="234"/>
                  </a:lnTo>
                  <a:lnTo>
                    <a:pt x="241" y="169"/>
                  </a:lnTo>
                  <a:lnTo>
                    <a:pt x="192" y="117"/>
                  </a:lnTo>
                  <a:lnTo>
                    <a:pt x="120" y="38"/>
                  </a:lnTo>
                  <a:lnTo>
                    <a:pt x="0" y="51"/>
                  </a:lnTo>
                  <a:lnTo>
                    <a:pt x="120" y="38"/>
                  </a:lnTo>
                  <a:lnTo>
                    <a:pt x="71" y="0"/>
                  </a:lnTo>
                  <a:lnTo>
                    <a:pt x="0" y="51"/>
                  </a:lnTo>
                  <a:lnTo>
                    <a:pt x="132" y="2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091200" y="3943440"/>
              <a:ext cx="152640" cy="124200"/>
            </a:xfrm>
            <a:custGeom>
              <a:avLst/>
              <a:gdLst/>
              <a:ahLst/>
              <a:rect l="0" t="0" r="r" b="b"/>
              <a:pathLst>
                <a:path w="424" h="345">
                  <a:moveTo>
                    <a:pt x="259" y="179"/>
                  </a:moveTo>
                  <a:lnTo>
                    <a:pt x="236" y="345"/>
                  </a:lnTo>
                  <a:lnTo>
                    <a:pt x="424" y="204"/>
                  </a:lnTo>
                  <a:lnTo>
                    <a:pt x="294" y="0"/>
                  </a:lnTo>
                  <a:lnTo>
                    <a:pt x="105" y="141"/>
                  </a:lnTo>
                  <a:lnTo>
                    <a:pt x="82" y="320"/>
                  </a:lnTo>
                  <a:lnTo>
                    <a:pt x="105" y="141"/>
                  </a:lnTo>
                  <a:lnTo>
                    <a:pt x="0" y="217"/>
                  </a:lnTo>
                  <a:lnTo>
                    <a:pt x="82" y="320"/>
                  </a:lnTo>
                  <a:lnTo>
                    <a:pt x="259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119640" y="4008600"/>
              <a:ext cx="1073520" cy="1486440"/>
            </a:xfrm>
            <a:custGeom>
              <a:avLst/>
              <a:gdLst/>
              <a:ahLst/>
              <a:rect l="0" t="0" r="r" b="b"/>
              <a:pathLst>
                <a:path w="2982" h="4129">
                  <a:moveTo>
                    <a:pt x="2747" y="4129"/>
                  </a:moveTo>
                  <a:lnTo>
                    <a:pt x="2841" y="3936"/>
                  </a:lnTo>
                  <a:lnTo>
                    <a:pt x="176" y="0"/>
                  </a:lnTo>
                  <a:lnTo>
                    <a:pt x="0" y="141"/>
                  </a:lnTo>
                  <a:lnTo>
                    <a:pt x="2664" y="4077"/>
                  </a:lnTo>
                  <a:lnTo>
                    <a:pt x="2747" y="3871"/>
                  </a:lnTo>
                  <a:lnTo>
                    <a:pt x="2747" y="4129"/>
                  </a:lnTo>
                  <a:lnTo>
                    <a:pt x="2982" y="4129"/>
                  </a:lnTo>
                  <a:lnTo>
                    <a:pt x="2841" y="3936"/>
                  </a:lnTo>
                  <a:lnTo>
                    <a:pt x="2747" y="4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41280" y="5402160"/>
              <a:ext cx="6766200" cy="92520"/>
            </a:xfrm>
            <a:custGeom>
              <a:avLst/>
              <a:gdLst/>
              <a:ahLst/>
              <a:rect l="0" t="0" r="r" b="b"/>
              <a:pathLst>
                <a:path w="18795" h="257">
                  <a:moveTo>
                    <a:pt x="141" y="63"/>
                  </a:moveTo>
                  <a:lnTo>
                    <a:pt x="223" y="257"/>
                  </a:lnTo>
                  <a:lnTo>
                    <a:pt x="18795" y="257"/>
                  </a:lnTo>
                  <a:lnTo>
                    <a:pt x="18795" y="0"/>
                  </a:lnTo>
                  <a:lnTo>
                    <a:pt x="223" y="0"/>
                  </a:lnTo>
                  <a:lnTo>
                    <a:pt x="317" y="206"/>
                  </a:lnTo>
                  <a:lnTo>
                    <a:pt x="141" y="63"/>
                  </a:lnTo>
                  <a:lnTo>
                    <a:pt x="0" y="257"/>
                  </a:lnTo>
                  <a:lnTo>
                    <a:pt x="223" y="257"/>
                  </a:lnTo>
                  <a:lnTo>
                    <a:pt x="141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96720" y="3995640"/>
              <a:ext cx="1043280" cy="1479960"/>
            </a:xfrm>
            <a:custGeom>
              <a:avLst/>
              <a:gdLst/>
              <a:ahLst/>
              <a:rect l="0" t="0" r="r" b="b"/>
              <a:pathLst>
                <a:path w="2898" h="4111">
                  <a:moveTo>
                    <a:pt x="2675" y="206"/>
                  </a:moveTo>
                  <a:lnTo>
                    <a:pt x="2640" y="38"/>
                  </a:lnTo>
                  <a:lnTo>
                    <a:pt x="0" y="3970"/>
                  </a:lnTo>
                  <a:lnTo>
                    <a:pt x="175" y="4111"/>
                  </a:lnTo>
                  <a:lnTo>
                    <a:pt x="2827" y="180"/>
                  </a:lnTo>
                  <a:lnTo>
                    <a:pt x="2804" y="0"/>
                  </a:lnTo>
                  <a:lnTo>
                    <a:pt x="2827" y="180"/>
                  </a:lnTo>
                  <a:lnTo>
                    <a:pt x="2898" y="77"/>
                  </a:lnTo>
                  <a:lnTo>
                    <a:pt x="2804" y="0"/>
                  </a:lnTo>
                  <a:lnTo>
                    <a:pt x="2675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287360" y="3929040"/>
              <a:ext cx="122760" cy="138600"/>
            </a:xfrm>
            <a:custGeom>
              <a:avLst/>
              <a:gdLst/>
              <a:ahLst/>
              <a:rect l="0" t="0" r="r" b="b"/>
              <a:pathLst>
                <a:path w="341" h="385">
                  <a:moveTo>
                    <a:pt x="110" y="256"/>
                  </a:moveTo>
                  <a:lnTo>
                    <a:pt x="0" y="243"/>
                  </a:lnTo>
                  <a:lnTo>
                    <a:pt x="207" y="385"/>
                  </a:lnTo>
                  <a:lnTo>
                    <a:pt x="341" y="180"/>
                  </a:lnTo>
                  <a:lnTo>
                    <a:pt x="134" y="38"/>
                  </a:lnTo>
                  <a:lnTo>
                    <a:pt x="24" y="25"/>
                  </a:lnTo>
                  <a:lnTo>
                    <a:pt x="134" y="38"/>
                  </a:lnTo>
                  <a:lnTo>
                    <a:pt x="84" y="0"/>
                  </a:lnTo>
                  <a:lnTo>
                    <a:pt x="24" y="25"/>
                  </a:lnTo>
                  <a:lnTo>
                    <a:pt x="110" y="2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1212840" y="3941640"/>
              <a:ext cx="114840" cy="116280"/>
            </a:xfrm>
            <a:custGeom>
              <a:avLst/>
              <a:gdLst/>
              <a:ahLst/>
              <a:rect l="0" t="0" r="r" b="b"/>
              <a:pathLst>
                <a:path w="319" h="323">
                  <a:moveTo>
                    <a:pt x="200" y="299"/>
                  </a:moveTo>
                  <a:lnTo>
                    <a:pt x="189" y="323"/>
                  </a:lnTo>
                  <a:lnTo>
                    <a:pt x="212" y="299"/>
                  </a:lnTo>
                  <a:lnTo>
                    <a:pt x="260" y="262"/>
                  </a:lnTo>
                  <a:lnTo>
                    <a:pt x="284" y="249"/>
                  </a:lnTo>
                  <a:lnTo>
                    <a:pt x="319" y="223"/>
                  </a:lnTo>
                  <a:lnTo>
                    <a:pt x="236" y="0"/>
                  </a:lnTo>
                  <a:lnTo>
                    <a:pt x="177" y="37"/>
                  </a:lnTo>
                  <a:lnTo>
                    <a:pt x="130" y="74"/>
                  </a:lnTo>
                  <a:lnTo>
                    <a:pt x="58" y="112"/>
                  </a:lnTo>
                  <a:lnTo>
                    <a:pt x="11" y="186"/>
                  </a:lnTo>
                  <a:lnTo>
                    <a:pt x="0" y="199"/>
                  </a:lnTo>
                  <a:lnTo>
                    <a:pt x="200" y="2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270000" y="4014720"/>
              <a:ext cx="1014840" cy="1424520"/>
            </a:xfrm>
            <a:custGeom>
              <a:avLst/>
              <a:gdLst/>
              <a:ahLst/>
              <a:rect l="0" t="0" r="r" b="b"/>
              <a:pathLst>
                <a:path w="2819" h="3957">
                  <a:moveTo>
                    <a:pt x="176" y="3944"/>
                  </a:moveTo>
                  <a:lnTo>
                    <a:pt x="176" y="3957"/>
                  </a:lnTo>
                  <a:lnTo>
                    <a:pt x="235" y="3867"/>
                  </a:lnTo>
                  <a:lnTo>
                    <a:pt x="318" y="3726"/>
                  </a:lnTo>
                  <a:lnTo>
                    <a:pt x="459" y="3533"/>
                  </a:lnTo>
                  <a:lnTo>
                    <a:pt x="636" y="3289"/>
                  </a:lnTo>
                  <a:lnTo>
                    <a:pt x="838" y="3007"/>
                  </a:lnTo>
                  <a:lnTo>
                    <a:pt x="1050" y="2697"/>
                  </a:lnTo>
                  <a:lnTo>
                    <a:pt x="1274" y="2364"/>
                  </a:lnTo>
                  <a:lnTo>
                    <a:pt x="1521" y="2030"/>
                  </a:lnTo>
                  <a:lnTo>
                    <a:pt x="1757" y="1683"/>
                  </a:lnTo>
                  <a:lnTo>
                    <a:pt x="1969" y="1349"/>
                  </a:lnTo>
                  <a:lnTo>
                    <a:pt x="2194" y="1041"/>
                  </a:lnTo>
                  <a:lnTo>
                    <a:pt x="2383" y="757"/>
                  </a:lnTo>
                  <a:lnTo>
                    <a:pt x="2548" y="513"/>
                  </a:lnTo>
                  <a:lnTo>
                    <a:pt x="2678" y="321"/>
                  </a:lnTo>
                  <a:lnTo>
                    <a:pt x="2772" y="192"/>
                  </a:lnTo>
                  <a:lnTo>
                    <a:pt x="2819" y="102"/>
                  </a:lnTo>
                  <a:lnTo>
                    <a:pt x="2619" y="0"/>
                  </a:lnTo>
                  <a:lnTo>
                    <a:pt x="2595" y="51"/>
                  </a:lnTo>
                  <a:lnTo>
                    <a:pt x="2501" y="179"/>
                  </a:lnTo>
                  <a:lnTo>
                    <a:pt x="2371" y="372"/>
                  </a:lnTo>
                  <a:lnTo>
                    <a:pt x="2206" y="616"/>
                  </a:lnTo>
                  <a:lnTo>
                    <a:pt x="2005" y="898"/>
                  </a:lnTo>
                  <a:lnTo>
                    <a:pt x="1793" y="1208"/>
                  </a:lnTo>
                  <a:lnTo>
                    <a:pt x="1569" y="1542"/>
                  </a:lnTo>
                  <a:lnTo>
                    <a:pt x="1345" y="1888"/>
                  </a:lnTo>
                  <a:lnTo>
                    <a:pt x="1097" y="2222"/>
                  </a:lnTo>
                  <a:lnTo>
                    <a:pt x="861" y="2556"/>
                  </a:lnTo>
                  <a:lnTo>
                    <a:pt x="660" y="2864"/>
                  </a:lnTo>
                  <a:lnTo>
                    <a:pt x="448" y="3148"/>
                  </a:lnTo>
                  <a:lnTo>
                    <a:pt x="282" y="3392"/>
                  </a:lnTo>
                  <a:lnTo>
                    <a:pt x="141" y="3585"/>
                  </a:lnTo>
                  <a:lnTo>
                    <a:pt x="58" y="3726"/>
                  </a:lnTo>
                  <a:lnTo>
                    <a:pt x="0" y="3790"/>
                  </a:lnTo>
                  <a:lnTo>
                    <a:pt x="0" y="3803"/>
                  </a:lnTo>
                  <a:lnTo>
                    <a:pt x="176" y="39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220680" y="5384880"/>
              <a:ext cx="114840" cy="149760"/>
            </a:xfrm>
            <a:custGeom>
              <a:avLst/>
              <a:gdLst/>
              <a:ahLst/>
              <a:rect l="0" t="0" r="r" b="b"/>
              <a:pathLst>
                <a:path w="319" h="416">
                  <a:moveTo>
                    <a:pt x="236" y="416"/>
                  </a:moveTo>
                  <a:lnTo>
                    <a:pt x="236" y="416"/>
                  </a:lnTo>
                  <a:lnTo>
                    <a:pt x="236" y="364"/>
                  </a:lnTo>
                  <a:lnTo>
                    <a:pt x="248" y="325"/>
                  </a:lnTo>
                  <a:lnTo>
                    <a:pt x="272" y="247"/>
                  </a:lnTo>
                  <a:lnTo>
                    <a:pt x="319" y="143"/>
                  </a:lnTo>
                  <a:lnTo>
                    <a:pt x="142" y="0"/>
                  </a:lnTo>
                  <a:lnTo>
                    <a:pt x="70" y="130"/>
                  </a:lnTo>
                  <a:lnTo>
                    <a:pt x="11" y="247"/>
                  </a:lnTo>
                  <a:lnTo>
                    <a:pt x="0" y="338"/>
                  </a:lnTo>
                  <a:lnTo>
                    <a:pt x="0" y="416"/>
                  </a:lnTo>
                  <a:lnTo>
                    <a:pt x="0" y="416"/>
                  </a:lnTo>
                  <a:lnTo>
                    <a:pt x="236" y="4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220680" y="5506920"/>
              <a:ext cx="87840" cy="93960"/>
            </a:xfrm>
            <a:custGeom>
              <a:avLst/>
              <a:gdLst/>
              <a:ahLst/>
              <a:rect l="0" t="0" r="r" b="b"/>
              <a:pathLst>
                <a:path w="244" h="261">
                  <a:moveTo>
                    <a:pt x="232" y="0"/>
                  </a:moveTo>
                  <a:lnTo>
                    <a:pt x="232" y="0"/>
                  </a:lnTo>
                  <a:lnTo>
                    <a:pt x="208" y="0"/>
                  </a:lnTo>
                  <a:lnTo>
                    <a:pt x="220" y="0"/>
                  </a:lnTo>
                  <a:lnTo>
                    <a:pt x="220" y="13"/>
                  </a:lnTo>
                  <a:lnTo>
                    <a:pt x="244" y="78"/>
                  </a:lnTo>
                  <a:lnTo>
                    <a:pt x="0" y="78"/>
                  </a:lnTo>
                  <a:lnTo>
                    <a:pt x="60" y="183"/>
                  </a:lnTo>
                  <a:lnTo>
                    <a:pt x="110" y="235"/>
                  </a:lnTo>
                  <a:lnTo>
                    <a:pt x="170" y="261"/>
                  </a:lnTo>
                  <a:lnTo>
                    <a:pt x="232" y="261"/>
                  </a:lnTo>
                  <a:lnTo>
                    <a:pt x="232" y="261"/>
                  </a:lnTo>
                  <a:lnTo>
                    <a:pt x="23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01680" y="5506920"/>
              <a:ext cx="6843960" cy="93960"/>
            </a:xfrm>
            <a:custGeom>
              <a:avLst/>
              <a:gdLst/>
              <a:ahLst/>
              <a:rect l="0" t="0" r="r" b="b"/>
              <a:pathLst>
                <a:path w="19011" h="261">
                  <a:moveTo>
                    <a:pt x="19011" y="0"/>
                  </a:moveTo>
                  <a:lnTo>
                    <a:pt x="19011" y="0"/>
                  </a:lnTo>
                  <a:lnTo>
                    <a:pt x="18952" y="0"/>
                  </a:lnTo>
                  <a:lnTo>
                    <a:pt x="18776" y="0"/>
                  </a:lnTo>
                  <a:lnTo>
                    <a:pt x="18529" y="0"/>
                  </a:lnTo>
                  <a:lnTo>
                    <a:pt x="18176" y="0"/>
                  </a:lnTo>
                  <a:lnTo>
                    <a:pt x="17741" y="0"/>
                  </a:lnTo>
                  <a:lnTo>
                    <a:pt x="17224" y="0"/>
                  </a:lnTo>
                  <a:lnTo>
                    <a:pt x="16648" y="0"/>
                  </a:lnTo>
                  <a:lnTo>
                    <a:pt x="16013" y="0"/>
                  </a:lnTo>
                  <a:lnTo>
                    <a:pt x="15319" y="0"/>
                  </a:lnTo>
                  <a:lnTo>
                    <a:pt x="14567" y="0"/>
                  </a:lnTo>
                  <a:lnTo>
                    <a:pt x="13791" y="0"/>
                  </a:lnTo>
                  <a:lnTo>
                    <a:pt x="12980" y="0"/>
                  </a:lnTo>
                  <a:lnTo>
                    <a:pt x="12133" y="0"/>
                  </a:lnTo>
                  <a:lnTo>
                    <a:pt x="11263" y="0"/>
                  </a:lnTo>
                  <a:lnTo>
                    <a:pt x="10382" y="0"/>
                  </a:lnTo>
                  <a:lnTo>
                    <a:pt x="9487" y="0"/>
                  </a:lnTo>
                  <a:lnTo>
                    <a:pt x="8605" y="0"/>
                  </a:lnTo>
                  <a:lnTo>
                    <a:pt x="7735" y="0"/>
                  </a:lnTo>
                  <a:lnTo>
                    <a:pt x="6865" y="0"/>
                  </a:lnTo>
                  <a:lnTo>
                    <a:pt x="6019" y="0"/>
                  </a:lnTo>
                  <a:lnTo>
                    <a:pt x="5196" y="0"/>
                  </a:lnTo>
                  <a:lnTo>
                    <a:pt x="4408" y="0"/>
                  </a:lnTo>
                  <a:lnTo>
                    <a:pt x="3668" y="0"/>
                  </a:lnTo>
                  <a:lnTo>
                    <a:pt x="2974" y="0"/>
                  </a:lnTo>
                  <a:lnTo>
                    <a:pt x="2339" y="0"/>
                  </a:lnTo>
                  <a:lnTo>
                    <a:pt x="1763" y="0"/>
                  </a:lnTo>
                  <a:lnTo>
                    <a:pt x="1257" y="0"/>
                  </a:lnTo>
                  <a:lnTo>
                    <a:pt x="834" y="0"/>
                  </a:lnTo>
                  <a:lnTo>
                    <a:pt x="470" y="0"/>
                  </a:lnTo>
                  <a:lnTo>
                    <a:pt x="211" y="0"/>
                  </a:lnTo>
                  <a:lnTo>
                    <a:pt x="58" y="0"/>
                  </a:lnTo>
                  <a:lnTo>
                    <a:pt x="0" y="0"/>
                  </a:lnTo>
                  <a:lnTo>
                    <a:pt x="0" y="261"/>
                  </a:lnTo>
                  <a:lnTo>
                    <a:pt x="58" y="261"/>
                  </a:lnTo>
                  <a:lnTo>
                    <a:pt x="211" y="261"/>
                  </a:lnTo>
                  <a:lnTo>
                    <a:pt x="470" y="261"/>
                  </a:lnTo>
                  <a:lnTo>
                    <a:pt x="834" y="261"/>
                  </a:lnTo>
                  <a:lnTo>
                    <a:pt x="1257" y="261"/>
                  </a:lnTo>
                  <a:lnTo>
                    <a:pt x="1763" y="261"/>
                  </a:lnTo>
                  <a:lnTo>
                    <a:pt x="2339" y="261"/>
                  </a:lnTo>
                  <a:lnTo>
                    <a:pt x="2974" y="261"/>
                  </a:lnTo>
                  <a:lnTo>
                    <a:pt x="3668" y="261"/>
                  </a:lnTo>
                  <a:lnTo>
                    <a:pt x="4408" y="261"/>
                  </a:lnTo>
                  <a:lnTo>
                    <a:pt x="5196" y="261"/>
                  </a:lnTo>
                  <a:lnTo>
                    <a:pt x="6019" y="261"/>
                  </a:lnTo>
                  <a:lnTo>
                    <a:pt x="6865" y="261"/>
                  </a:lnTo>
                  <a:lnTo>
                    <a:pt x="7735" y="261"/>
                  </a:lnTo>
                  <a:lnTo>
                    <a:pt x="8605" y="261"/>
                  </a:lnTo>
                  <a:lnTo>
                    <a:pt x="9487" y="261"/>
                  </a:lnTo>
                  <a:lnTo>
                    <a:pt x="10382" y="261"/>
                  </a:lnTo>
                  <a:lnTo>
                    <a:pt x="11263" y="261"/>
                  </a:lnTo>
                  <a:lnTo>
                    <a:pt x="12133" y="261"/>
                  </a:lnTo>
                  <a:lnTo>
                    <a:pt x="12980" y="261"/>
                  </a:lnTo>
                  <a:lnTo>
                    <a:pt x="13791" y="261"/>
                  </a:lnTo>
                  <a:lnTo>
                    <a:pt x="14567" y="261"/>
                  </a:lnTo>
                  <a:lnTo>
                    <a:pt x="15319" y="261"/>
                  </a:lnTo>
                  <a:lnTo>
                    <a:pt x="16013" y="261"/>
                  </a:lnTo>
                  <a:lnTo>
                    <a:pt x="16648" y="261"/>
                  </a:lnTo>
                  <a:lnTo>
                    <a:pt x="17224" y="261"/>
                  </a:lnTo>
                  <a:lnTo>
                    <a:pt x="17741" y="261"/>
                  </a:lnTo>
                  <a:lnTo>
                    <a:pt x="18176" y="261"/>
                  </a:lnTo>
                  <a:lnTo>
                    <a:pt x="18529" y="261"/>
                  </a:lnTo>
                  <a:lnTo>
                    <a:pt x="18776" y="261"/>
                  </a:lnTo>
                  <a:lnTo>
                    <a:pt x="18952" y="261"/>
                  </a:lnTo>
                  <a:lnTo>
                    <a:pt x="19011" y="261"/>
                  </a:lnTo>
                  <a:lnTo>
                    <a:pt x="19011" y="261"/>
                  </a:lnTo>
                  <a:lnTo>
                    <a:pt x="190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7132680" y="5364000"/>
              <a:ext cx="114840" cy="236880"/>
            </a:xfrm>
            <a:custGeom>
              <a:avLst/>
              <a:gdLst/>
              <a:ahLst/>
              <a:rect l="0" t="0" r="r" b="b"/>
              <a:pathLst>
                <a:path w="319" h="658">
                  <a:moveTo>
                    <a:pt x="0" y="141"/>
                  </a:moveTo>
                  <a:lnTo>
                    <a:pt x="0" y="128"/>
                  </a:lnTo>
                  <a:lnTo>
                    <a:pt x="83" y="361"/>
                  </a:lnTo>
                  <a:lnTo>
                    <a:pt x="83" y="426"/>
                  </a:lnTo>
                  <a:lnTo>
                    <a:pt x="83" y="387"/>
                  </a:lnTo>
                  <a:lnTo>
                    <a:pt x="35" y="400"/>
                  </a:lnTo>
                  <a:lnTo>
                    <a:pt x="35" y="658"/>
                  </a:lnTo>
                  <a:lnTo>
                    <a:pt x="165" y="645"/>
                  </a:lnTo>
                  <a:lnTo>
                    <a:pt x="295" y="516"/>
                  </a:lnTo>
                  <a:lnTo>
                    <a:pt x="319" y="309"/>
                  </a:lnTo>
                  <a:lnTo>
                    <a:pt x="200" y="25"/>
                  </a:lnTo>
                  <a:lnTo>
                    <a:pt x="200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0" name=""/>
          <p:cNvGrpSpPr/>
          <p:nvPr/>
        </p:nvGrpSpPr>
        <p:grpSpPr>
          <a:xfrm>
            <a:off x="1203480" y="609480"/>
            <a:ext cx="5747040" cy="4756680"/>
            <a:chOff x="1203480" y="609480"/>
            <a:chExt cx="5747040" cy="4756680"/>
          </a:xfrm>
        </p:grpSpPr>
        <p:sp>
          <p:nvSpPr>
            <p:cNvPr id="631" name=""/>
            <p:cNvSpPr/>
            <p:nvPr/>
          </p:nvSpPr>
          <p:spPr>
            <a:xfrm>
              <a:off x="5818320" y="3827520"/>
              <a:ext cx="1132200" cy="1538640"/>
            </a:xfrm>
            <a:custGeom>
              <a:avLst/>
              <a:gdLst/>
              <a:ahLst/>
              <a:rect l="0" t="0" r="r" b="b"/>
              <a:pathLst>
                <a:path w="3145" h="4274">
                  <a:moveTo>
                    <a:pt x="1604" y="4274"/>
                  </a:moveTo>
                  <a:lnTo>
                    <a:pt x="0" y="1498"/>
                  </a:lnTo>
                  <a:lnTo>
                    <a:pt x="1177" y="0"/>
                  </a:lnTo>
                  <a:lnTo>
                    <a:pt x="3145" y="2358"/>
                  </a:lnTo>
                  <a:lnTo>
                    <a:pt x="1604" y="4274"/>
                  </a:lnTo>
                  <a:close/>
                </a:path>
              </a:pathLst>
            </a:custGeom>
            <a:gradFill rotWithShape="0">
              <a:gsLst>
                <a:gs pos="0">
                  <a:srgbClr val="ff5f7f"/>
                </a:gs>
                <a:gs pos="100000">
                  <a:srgbClr val="ff0606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773360" y="3827520"/>
              <a:ext cx="4469040" cy="545040"/>
            </a:xfrm>
            <a:custGeom>
              <a:avLst/>
              <a:gdLst/>
              <a:ahLst/>
              <a:rect l="0" t="0" r="r" b="b"/>
              <a:pathLst>
                <a:path w="12414" h="1514">
                  <a:moveTo>
                    <a:pt x="0" y="1514"/>
                  </a:moveTo>
                  <a:lnTo>
                    <a:pt x="11247" y="1514"/>
                  </a:lnTo>
                  <a:lnTo>
                    <a:pt x="12414" y="0"/>
                  </a:lnTo>
                  <a:lnTo>
                    <a:pt x="2219" y="8"/>
                  </a:lnTo>
                  <a:lnTo>
                    <a:pt x="0" y="1514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03480" y="4365720"/>
              <a:ext cx="5191560" cy="1000440"/>
            </a:xfrm>
            <a:custGeom>
              <a:avLst/>
              <a:gdLst/>
              <a:ahLst/>
              <a:rect l="0" t="0" r="r" b="b"/>
              <a:pathLst>
                <a:path w="14421" h="2779">
                  <a:moveTo>
                    <a:pt x="0" y="2779"/>
                  </a:moveTo>
                  <a:lnTo>
                    <a:pt x="14421" y="2779"/>
                  </a:lnTo>
                  <a:lnTo>
                    <a:pt x="12821" y="0"/>
                  </a:lnTo>
                  <a:lnTo>
                    <a:pt x="1582" y="0"/>
                  </a:lnTo>
                  <a:lnTo>
                    <a:pt x="0" y="2779"/>
                  </a:lnTo>
                  <a:close/>
                </a:path>
              </a:pathLst>
            </a:custGeom>
            <a:gradFill rotWithShape="0">
              <a:gsLst>
                <a:gs pos="0">
                  <a:srgbClr val="ff001f"/>
                </a:gs>
                <a:gs pos="100000">
                  <a:srgbClr val="ff0606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149800" y="2881440"/>
              <a:ext cx="986040" cy="1329120"/>
            </a:xfrm>
            <a:custGeom>
              <a:avLst/>
              <a:gdLst/>
              <a:ahLst/>
              <a:rect l="0" t="0" r="r" b="b"/>
              <a:pathLst>
                <a:path w="2739" h="3692">
                  <a:moveTo>
                    <a:pt x="0" y="1004"/>
                  </a:moveTo>
                  <a:lnTo>
                    <a:pt x="1622" y="3692"/>
                  </a:lnTo>
                  <a:lnTo>
                    <a:pt x="2739" y="2314"/>
                  </a:lnTo>
                  <a:lnTo>
                    <a:pt x="788" y="0"/>
                  </a:lnTo>
                  <a:lnTo>
                    <a:pt x="0" y="1004"/>
                  </a:lnTo>
                  <a:close/>
                </a:path>
              </a:pathLst>
            </a:custGeom>
            <a:solidFill>
              <a:srgbClr val="bf5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2446200" y="2881440"/>
              <a:ext cx="2984760" cy="352800"/>
            </a:xfrm>
            <a:custGeom>
              <a:avLst/>
              <a:gdLst/>
              <a:ahLst/>
              <a:rect l="0" t="0" r="r" b="b"/>
              <a:pathLst>
                <a:path w="8291" h="980">
                  <a:moveTo>
                    <a:pt x="0" y="980"/>
                  </a:moveTo>
                  <a:lnTo>
                    <a:pt x="7504" y="980"/>
                  </a:lnTo>
                  <a:lnTo>
                    <a:pt x="8291" y="0"/>
                  </a:lnTo>
                  <a:lnTo>
                    <a:pt x="2094" y="0"/>
                  </a:lnTo>
                  <a:lnTo>
                    <a:pt x="0" y="980"/>
                  </a:lnTo>
                  <a:close/>
                </a:path>
              </a:pathLst>
            </a:custGeom>
            <a:solidFill>
              <a:srgbClr val="5f009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866960" y="3233880"/>
              <a:ext cx="3872160" cy="978120"/>
            </a:xfrm>
            <a:custGeom>
              <a:avLst/>
              <a:gdLst/>
              <a:ahLst/>
              <a:rect l="0" t="0" r="r" b="b"/>
              <a:pathLst>
                <a:path w="10756" h="2717">
                  <a:moveTo>
                    <a:pt x="0" y="2717"/>
                  </a:moveTo>
                  <a:lnTo>
                    <a:pt x="10756" y="2717"/>
                  </a:lnTo>
                  <a:lnTo>
                    <a:pt x="9126" y="0"/>
                  </a:lnTo>
                  <a:lnTo>
                    <a:pt x="1603" y="0"/>
                  </a:lnTo>
                  <a:lnTo>
                    <a:pt x="0" y="2717"/>
                  </a:lnTo>
                  <a:close/>
                </a:path>
              </a:pathLst>
            </a:custGeom>
            <a:gradFill rotWithShape="0">
              <a:gsLst>
                <a:gs pos="0">
                  <a:srgbClr val="9f3fdf"/>
                </a:gs>
                <a:gs pos="100000">
                  <a:srgbClr val="ff0606"/>
                </a:gs>
              </a:gsLst>
              <a:lin ang="540000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37" name=""/>
            <p:cNvGrpSpPr/>
            <p:nvPr/>
          </p:nvGrpSpPr>
          <p:grpSpPr>
            <a:xfrm>
              <a:off x="2543040" y="1908000"/>
              <a:ext cx="2781720" cy="1172160"/>
              <a:chOff x="2543040" y="1908000"/>
              <a:chExt cx="2781720" cy="1172160"/>
            </a:xfrm>
          </p:grpSpPr>
          <p:sp>
            <p:nvSpPr>
              <p:cNvPr id="638" name=""/>
              <p:cNvSpPr/>
              <p:nvPr/>
            </p:nvSpPr>
            <p:spPr>
              <a:xfrm>
                <a:off x="4476600" y="1913040"/>
                <a:ext cx="848160" cy="1167120"/>
              </a:xfrm>
              <a:custGeom>
                <a:avLst/>
                <a:gdLst/>
                <a:ahLst/>
                <a:rect l="0" t="0" r="r" b="b"/>
                <a:pathLst>
                  <a:path w="2356" h="3242">
                    <a:moveTo>
                      <a:pt x="1612" y="3242"/>
                    </a:moveTo>
                    <a:lnTo>
                      <a:pt x="2356" y="2312"/>
                    </a:lnTo>
                    <a:lnTo>
                      <a:pt x="407" y="0"/>
                    </a:lnTo>
                    <a:lnTo>
                      <a:pt x="0" y="486"/>
                    </a:lnTo>
                    <a:lnTo>
                      <a:pt x="1612" y="3242"/>
                    </a:lnTo>
                    <a:close/>
                  </a:path>
                </a:pathLst>
              </a:custGeom>
              <a:solidFill>
                <a:srgbClr val="ff9f7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3130560" y="1908000"/>
                <a:ext cx="1486440" cy="174960"/>
              </a:xfrm>
              <a:custGeom>
                <a:avLst/>
                <a:gdLst/>
                <a:ahLst/>
                <a:rect l="0" t="0" r="r" b="b"/>
                <a:pathLst>
                  <a:path w="4129" h="486">
                    <a:moveTo>
                      <a:pt x="0" y="486"/>
                    </a:moveTo>
                    <a:lnTo>
                      <a:pt x="3723" y="486"/>
                    </a:lnTo>
                    <a:lnTo>
                      <a:pt x="4129" y="0"/>
                    </a:lnTo>
                    <a:lnTo>
                      <a:pt x="1288" y="0"/>
                    </a:lnTo>
                    <a:lnTo>
                      <a:pt x="0" y="486"/>
                    </a:lnTo>
                    <a:close/>
                  </a:path>
                </a:pathLst>
              </a:custGeom>
              <a:solidFill>
                <a:srgbClr val="bf3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2543040" y="2082960"/>
                <a:ext cx="2511720" cy="997200"/>
              </a:xfrm>
              <a:custGeom>
                <a:avLst/>
                <a:gdLst/>
                <a:ahLst/>
                <a:rect l="0" t="0" r="r" b="b"/>
                <a:pathLst>
                  <a:path w="6977" h="2770">
                    <a:moveTo>
                      <a:pt x="0" y="2770"/>
                    </a:moveTo>
                    <a:lnTo>
                      <a:pt x="6977" y="2770"/>
                    </a:lnTo>
                    <a:lnTo>
                      <a:pt x="5359" y="0"/>
                    </a:lnTo>
                    <a:lnTo>
                      <a:pt x="1618" y="0"/>
                    </a:lnTo>
                    <a:lnTo>
                      <a:pt x="0" y="2770"/>
                    </a:lnTo>
                    <a:close/>
                  </a:path>
                </a:pathLst>
              </a:custGeom>
              <a:solidFill>
                <a:srgbClr val="ff5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1" name=""/>
            <p:cNvGrpSpPr/>
            <p:nvPr/>
          </p:nvGrpSpPr>
          <p:grpSpPr>
            <a:xfrm>
              <a:off x="3218040" y="946080"/>
              <a:ext cx="1293840" cy="989280"/>
              <a:chOff x="3218040" y="946080"/>
              <a:chExt cx="1293840" cy="989280"/>
            </a:xfrm>
          </p:grpSpPr>
          <p:sp>
            <p:nvSpPr>
              <p:cNvPr id="642" name=""/>
              <p:cNvSpPr/>
              <p:nvPr/>
            </p:nvSpPr>
            <p:spPr>
              <a:xfrm>
                <a:off x="3797280" y="946080"/>
                <a:ext cx="714600" cy="989280"/>
              </a:xfrm>
              <a:custGeom>
                <a:avLst/>
                <a:gdLst/>
                <a:ahLst/>
                <a:rect l="0" t="0" r="r" b="b"/>
                <a:pathLst>
                  <a:path w="1985" h="2748">
                    <a:moveTo>
                      <a:pt x="1614" y="2748"/>
                    </a:moveTo>
                    <a:lnTo>
                      <a:pt x="1985" y="2321"/>
                    </a:lnTo>
                    <a:lnTo>
                      <a:pt x="0" y="0"/>
                    </a:lnTo>
                    <a:lnTo>
                      <a:pt x="1614" y="2748"/>
                    </a:lnTo>
                    <a:close/>
                  </a:path>
                </a:pathLst>
              </a:custGeom>
              <a:solidFill>
                <a:srgbClr val="ffbf1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3218040" y="946080"/>
                <a:ext cx="1161000" cy="989280"/>
              </a:xfrm>
              <a:custGeom>
                <a:avLst/>
                <a:gdLst/>
                <a:ahLst/>
                <a:rect l="0" t="0" r="r" b="b"/>
                <a:pathLst>
                  <a:path w="3225" h="2748">
                    <a:moveTo>
                      <a:pt x="0" y="2748"/>
                    </a:moveTo>
                    <a:lnTo>
                      <a:pt x="3225" y="2748"/>
                    </a:lnTo>
                    <a:lnTo>
                      <a:pt x="1612" y="0"/>
                    </a:lnTo>
                    <a:lnTo>
                      <a:pt x="0" y="2748"/>
                    </a:lnTo>
                    <a:close/>
                  </a:path>
                </a:pathLst>
              </a:custGeom>
              <a:solidFill>
                <a:srgbClr val="ff9f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44" name=""/>
            <p:cNvSpPr txBox="1"/>
            <p:nvPr/>
          </p:nvSpPr>
          <p:spPr>
            <a:xfrm>
              <a:off x="2666880" y="3274920"/>
              <a:ext cx="2381400" cy="853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3200" spc="-1" strike="noStrike">
                  <a:solidFill>
                    <a:srgbClr val="0000cc"/>
                  </a:solidFill>
                  <a:latin typeface="Mistral"/>
                  <a:ea typeface="Mistral"/>
                </a:rPr>
                <a:t>e-case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Framewor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 txBox="1"/>
            <p:nvPr/>
          </p:nvSpPr>
          <p:spPr>
            <a:xfrm>
              <a:off x="2801880" y="2279520"/>
              <a:ext cx="2001960" cy="9144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2400" spc="-1" strike="noStrike">
                  <a:solidFill>
                    <a:srgbClr val="0000cc"/>
                  </a:solidFill>
                  <a:latin typeface="Mistral"/>
                  <a:ea typeface="Mistral"/>
                </a:rPr>
                <a:t>Face-To-Fa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Business Solu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 txBox="1"/>
            <p:nvPr/>
          </p:nvSpPr>
          <p:spPr>
            <a:xfrm>
              <a:off x="3376440" y="1415880"/>
              <a:ext cx="89532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st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l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 txBox="1"/>
            <p:nvPr/>
          </p:nvSpPr>
          <p:spPr>
            <a:xfrm>
              <a:off x="2165400" y="4605480"/>
              <a:ext cx="3187800" cy="611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0" i="1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blet PC running DOS or Win9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latfor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48" name=""/>
            <p:cNvGrpSpPr/>
            <p:nvPr/>
          </p:nvGrpSpPr>
          <p:grpSpPr>
            <a:xfrm>
              <a:off x="3195720" y="609480"/>
              <a:ext cx="1248120" cy="635400"/>
              <a:chOff x="3195720" y="609480"/>
              <a:chExt cx="1248120" cy="635400"/>
            </a:xfrm>
          </p:grpSpPr>
          <p:sp>
            <p:nvSpPr>
              <p:cNvPr id="649" name=""/>
              <p:cNvSpPr/>
              <p:nvPr/>
            </p:nvSpPr>
            <p:spPr>
              <a:xfrm>
                <a:off x="3195720" y="1146240"/>
                <a:ext cx="209880" cy="98640"/>
              </a:xfrm>
              <a:custGeom>
                <a:avLst/>
                <a:gdLst/>
                <a:ahLst/>
                <a:rect l="0" t="0" r="r" b="b"/>
                <a:pathLst>
                  <a:path w="583" h="274">
                    <a:moveTo>
                      <a:pt x="490" y="74"/>
                    </a:moveTo>
                    <a:lnTo>
                      <a:pt x="568" y="113"/>
                    </a:lnTo>
                    <a:lnTo>
                      <a:pt x="583" y="192"/>
                    </a:lnTo>
                    <a:lnTo>
                      <a:pt x="540" y="258"/>
                    </a:lnTo>
                    <a:lnTo>
                      <a:pt x="440" y="274"/>
                    </a:lnTo>
                    <a:lnTo>
                      <a:pt x="82" y="200"/>
                    </a:lnTo>
                    <a:lnTo>
                      <a:pt x="14" y="153"/>
                    </a:lnTo>
                    <a:lnTo>
                      <a:pt x="0" y="82"/>
                    </a:lnTo>
                    <a:lnTo>
                      <a:pt x="35" y="19"/>
                    </a:lnTo>
                    <a:lnTo>
                      <a:pt x="117" y="0"/>
                    </a:lnTo>
                    <a:lnTo>
                      <a:pt x="490" y="74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3919680" y="669960"/>
                <a:ext cx="132120" cy="200520"/>
              </a:xfrm>
              <a:custGeom>
                <a:avLst/>
                <a:gdLst/>
                <a:ahLst/>
                <a:rect l="0" t="0" r="r" b="b"/>
                <a:pathLst>
                  <a:path w="367" h="557">
                    <a:moveTo>
                      <a:pt x="7" y="427"/>
                    </a:moveTo>
                    <a:lnTo>
                      <a:pt x="0" y="466"/>
                    </a:lnTo>
                    <a:lnTo>
                      <a:pt x="14" y="506"/>
                    </a:lnTo>
                    <a:lnTo>
                      <a:pt x="44" y="526"/>
                    </a:lnTo>
                    <a:lnTo>
                      <a:pt x="82" y="549"/>
                    </a:lnTo>
                    <a:lnTo>
                      <a:pt x="119" y="557"/>
                    </a:lnTo>
                    <a:lnTo>
                      <a:pt x="160" y="549"/>
                    </a:lnTo>
                    <a:lnTo>
                      <a:pt x="191" y="533"/>
                    </a:lnTo>
                    <a:lnTo>
                      <a:pt x="213" y="498"/>
                    </a:lnTo>
                    <a:lnTo>
                      <a:pt x="367" y="122"/>
                    </a:lnTo>
                    <a:lnTo>
                      <a:pt x="367" y="86"/>
                    </a:lnTo>
                    <a:lnTo>
                      <a:pt x="344" y="47"/>
                    </a:lnTo>
                    <a:lnTo>
                      <a:pt x="318" y="23"/>
                    </a:lnTo>
                    <a:lnTo>
                      <a:pt x="288" y="7"/>
                    </a:lnTo>
                    <a:lnTo>
                      <a:pt x="243" y="0"/>
                    </a:lnTo>
                    <a:lnTo>
                      <a:pt x="206" y="7"/>
                    </a:lnTo>
                    <a:lnTo>
                      <a:pt x="175" y="31"/>
                    </a:lnTo>
                    <a:lnTo>
                      <a:pt x="153" y="70"/>
                    </a:lnTo>
                    <a:lnTo>
                      <a:pt x="7" y="427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587760" y="617400"/>
                <a:ext cx="105120" cy="236880"/>
              </a:xfrm>
              <a:custGeom>
                <a:avLst/>
                <a:gdLst/>
                <a:ahLst/>
                <a:rect l="0" t="0" r="r" b="b"/>
                <a:pathLst>
                  <a:path w="292" h="658">
                    <a:moveTo>
                      <a:pt x="90" y="591"/>
                    </a:moveTo>
                    <a:lnTo>
                      <a:pt x="102" y="630"/>
                    </a:lnTo>
                    <a:lnTo>
                      <a:pt x="132" y="654"/>
                    </a:lnTo>
                    <a:lnTo>
                      <a:pt x="171" y="658"/>
                    </a:lnTo>
                    <a:lnTo>
                      <a:pt x="208" y="654"/>
                    </a:lnTo>
                    <a:lnTo>
                      <a:pt x="246" y="630"/>
                    </a:lnTo>
                    <a:lnTo>
                      <a:pt x="276" y="599"/>
                    </a:lnTo>
                    <a:lnTo>
                      <a:pt x="292" y="552"/>
                    </a:lnTo>
                    <a:lnTo>
                      <a:pt x="292" y="505"/>
                    </a:lnTo>
                    <a:lnTo>
                      <a:pt x="208" y="58"/>
                    </a:lnTo>
                    <a:lnTo>
                      <a:pt x="193" y="23"/>
                    </a:lnTo>
                    <a:lnTo>
                      <a:pt x="163" y="7"/>
                    </a:lnTo>
                    <a:lnTo>
                      <a:pt x="124" y="0"/>
                    </a:lnTo>
                    <a:lnTo>
                      <a:pt x="90" y="7"/>
                    </a:lnTo>
                    <a:lnTo>
                      <a:pt x="52" y="23"/>
                    </a:lnTo>
                    <a:lnTo>
                      <a:pt x="22" y="50"/>
                    </a:lnTo>
                    <a:lnTo>
                      <a:pt x="0" y="89"/>
                    </a:lnTo>
                    <a:lnTo>
                      <a:pt x="0" y="136"/>
                    </a:lnTo>
                    <a:lnTo>
                      <a:pt x="90" y="591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3255840" y="922320"/>
                <a:ext cx="217800" cy="179640"/>
              </a:xfrm>
              <a:custGeom>
                <a:avLst/>
                <a:gdLst/>
                <a:ahLst/>
                <a:rect l="0" t="0" r="r" b="b"/>
                <a:pathLst>
                  <a:path w="605" h="499">
                    <a:moveTo>
                      <a:pt x="36" y="207"/>
                    </a:moveTo>
                    <a:lnTo>
                      <a:pt x="0" y="137"/>
                    </a:lnTo>
                    <a:lnTo>
                      <a:pt x="14" y="51"/>
                    </a:lnTo>
                    <a:lnTo>
                      <a:pt x="61" y="0"/>
                    </a:lnTo>
                    <a:lnTo>
                      <a:pt x="133" y="7"/>
                    </a:lnTo>
                    <a:lnTo>
                      <a:pt x="561" y="275"/>
                    </a:lnTo>
                    <a:lnTo>
                      <a:pt x="605" y="354"/>
                    </a:lnTo>
                    <a:lnTo>
                      <a:pt x="597" y="444"/>
                    </a:lnTo>
                    <a:lnTo>
                      <a:pt x="540" y="499"/>
                    </a:lnTo>
                    <a:lnTo>
                      <a:pt x="474" y="483"/>
                    </a:lnTo>
                    <a:lnTo>
                      <a:pt x="36" y="207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398760" y="755640"/>
                <a:ext cx="162360" cy="194040"/>
              </a:xfrm>
              <a:custGeom>
                <a:avLst/>
                <a:gdLst/>
                <a:ahLst/>
                <a:rect l="0" t="0" r="r" b="b"/>
                <a:pathLst>
                  <a:path w="451" h="539">
                    <a:moveTo>
                      <a:pt x="291" y="492"/>
                    </a:moveTo>
                    <a:lnTo>
                      <a:pt x="326" y="524"/>
                    </a:lnTo>
                    <a:lnTo>
                      <a:pt x="363" y="539"/>
                    </a:lnTo>
                    <a:lnTo>
                      <a:pt x="398" y="532"/>
                    </a:lnTo>
                    <a:lnTo>
                      <a:pt x="426" y="508"/>
                    </a:lnTo>
                    <a:lnTo>
                      <a:pt x="444" y="480"/>
                    </a:lnTo>
                    <a:lnTo>
                      <a:pt x="451" y="440"/>
                    </a:lnTo>
                    <a:lnTo>
                      <a:pt x="444" y="391"/>
                    </a:lnTo>
                    <a:lnTo>
                      <a:pt x="419" y="343"/>
                    </a:lnTo>
                    <a:lnTo>
                      <a:pt x="167" y="39"/>
                    </a:lnTo>
                    <a:lnTo>
                      <a:pt x="132" y="7"/>
                    </a:lnTo>
                    <a:lnTo>
                      <a:pt x="88" y="0"/>
                    </a:lnTo>
                    <a:lnTo>
                      <a:pt x="53" y="0"/>
                    </a:lnTo>
                    <a:lnTo>
                      <a:pt x="28" y="23"/>
                    </a:lnTo>
                    <a:lnTo>
                      <a:pt x="7" y="55"/>
                    </a:lnTo>
                    <a:lnTo>
                      <a:pt x="0" y="83"/>
                    </a:lnTo>
                    <a:lnTo>
                      <a:pt x="7" y="131"/>
                    </a:lnTo>
                    <a:lnTo>
                      <a:pt x="28" y="180"/>
                    </a:lnTo>
                    <a:lnTo>
                      <a:pt x="291" y="492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4064040" y="750960"/>
                <a:ext cx="167040" cy="189360"/>
              </a:xfrm>
              <a:custGeom>
                <a:avLst/>
                <a:gdLst/>
                <a:ahLst/>
                <a:rect l="0" t="0" r="r" b="b"/>
                <a:pathLst>
                  <a:path w="464" h="526">
                    <a:moveTo>
                      <a:pt x="29" y="348"/>
                    </a:moveTo>
                    <a:lnTo>
                      <a:pt x="7" y="396"/>
                    </a:lnTo>
                    <a:lnTo>
                      <a:pt x="0" y="443"/>
                    </a:lnTo>
                    <a:lnTo>
                      <a:pt x="7" y="483"/>
                    </a:lnTo>
                    <a:lnTo>
                      <a:pt x="29" y="510"/>
                    </a:lnTo>
                    <a:lnTo>
                      <a:pt x="66" y="526"/>
                    </a:lnTo>
                    <a:lnTo>
                      <a:pt x="102" y="526"/>
                    </a:lnTo>
                    <a:lnTo>
                      <a:pt x="135" y="518"/>
                    </a:lnTo>
                    <a:lnTo>
                      <a:pt x="172" y="491"/>
                    </a:lnTo>
                    <a:lnTo>
                      <a:pt x="427" y="202"/>
                    </a:lnTo>
                    <a:lnTo>
                      <a:pt x="456" y="154"/>
                    </a:lnTo>
                    <a:lnTo>
                      <a:pt x="464" y="98"/>
                    </a:lnTo>
                    <a:lnTo>
                      <a:pt x="456" y="63"/>
                    </a:lnTo>
                    <a:lnTo>
                      <a:pt x="434" y="31"/>
                    </a:lnTo>
                    <a:lnTo>
                      <a:pt x="405" y="7"/>
                    </a:lnTo>
                    <a:lnTo>
                      <a:pt x="368" y="0"/>
                    </a:lnTo>
                    <a:lnTo>
                      <a:pt x="324" y="15"/>
                    </a:lnTo>
                    <a:lnTo>
                      <a:pt x="291" y="47"/>
                    </a:lnTo>
                    <a:lnTo>
                      <a:pt x="29" y="348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4148280" y="874800"/>
                <a:ext cx="228960" cy="178200"/>
              </a:xfrm>
              <a:custGeom>
                <a:avLst/>
                <a:gdLst/>
                <a:ahLst/>
                <a:rect l="0" t="0" r="r" b="b"/>
                <a:pathLst>
                  <a:path w="636" h="495">
                    <a:moveTo>
                      <a:pt x="469" y="7"/>
                    </a:moveTo>
                    <a:lnTo>
                      <a:pt x="512" y="0"/>
                    </a:lnTo>
                    <a:lnTo>
                      <a:pt x="548" y="7"/>
                    </a:lnTo>
                    <a:lnTo>
                      <a:pt x="585" y="23"/>
                    </a:lnTo>
                    <a:lnTo>
                      <a:pt x="614" y="54"/>
                    </a:lnTo>
                    <a:lnTo>
                      <a:pt x="628" y="94"/>
                    </a:lnTo>
                    <a:lnTo>
                      <a:pt x="636" y="134"/>
                    </a:lnTo>
                    <a:lnTo>
                      <a:pt x="621" y="161"/>
                    </a:lnTo>
                    <a:lnTo>
                      <a:pt x="592" y="193"/>
                    </a:lnTo>
                    <a:lnTo>
                      <a:pt x="177" y="480"/>
                    </a:lnTo>
                    <a:lnTo>
                      <a:pt x="134" y="495"/>
                    </a:lnTo>
                    <a:lnTo>
                      <a:pt x="90" y="488"/>
                    </a:lnTo>
                    <a:lnTo>
                      <a:pt x="58" y="472"/>
                    </a:lnTo>
                    <a:lnTo>
                      <a:pt x="29" y="433"/>
                    </a:lnTo>
                    <a:lnTo>
                      <a:pt x="7" y="401"/>
                    </a:lnTo>
                    <a:lnTo>
                      <a:pt x="0" y="365"/>
                    </a:lnTo>
                    <a:lnTo>
                      <a:pt x="14" y="326"/>
                    </a:lnTo>
                    <a:lnTo>
                      <a:pt x="43" y="302"/>
                    </a:lnTo>
                    <a:lnTo>
                      <a:pt x="469" y="7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4238640" y="1087560"/>
                <a:ext cx="205200" cy="111600"/>
              </a:xfrm>
              <a:custGeom>
                <a:avLst/>
                <a:gdLst/>
                <a:ahLst/>
                <a:rect l="0" t="0" r="r" b="b"/>
                <a:pathLst>
                  <a:path w="570" h="310">
                    <a:moveTo>
                      <a:pt x="74" y="118"/>
                    </a:moveTo>
                    <a:lnTo>
                      <a:pt x="7" y="165"/>
                    </a:lnTo>
                    <a:lnTo>
                      <a:pt x="0" y="240"/>
                    </a:lnTo>
                    <a:lnTo>
                      <a:pt x="45" y="302"/>
                    </a:lnTo>
                    <a:lnTo>
                      <a:pt x="137" y="310"/>
                    </a:lnTo>
                    <a:lnTo>
                      <a:pt x="493" y="200"/>
                    </a:lnTo>
                    <a:lnTo>
                      <a:pt x="563" y="149"/>
                    </a:lnTo>
                    <a:lnTo>
                      <a:pt x="570" y="70"/>
                    </a:lnTo>
                    <a:lnTo>
                      <a:pt x="528" y="15"/>
                    </a:lnTo>
                    <a:lnTo>
                      <a:pt x="443" y="0"/>
                    </a:lnTo>
                    <a:lnTo>
                      <a:pt x="74" y="118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3776760" y="609480"/>
                <a:ext cx="78120" cy="205200"/>
              </a:xfrm>
              <a:custGeom>
                <a:avLst/>
                <a:gdLst/>
                <a:ahLst/>
                <a:rect l="0" t="0" r="r" b="b"/>
                <a:pathLst>
                  <a:path w="217" h="570">
                    <a:moveTo>
                      <a:pt x="209" y="73"/>
                    </a:moveTo>
                    <a:lnTo>
                      <a:pt x="202" y="38"/>
                    </a:lnTo>
                    <a:lnTo>
                      <a:pt x="173" y="15"/>
                    </a:lnTo>
                    <a:lnTo>
                      <a:pt x="143" y="0"/>
                    </a:lnTo>
                    <a:lnTo>
                      <a:pt x="102" y="0"/>
                    </a:lnTo>
                    <a:lnTo>
                      <a:pt x="65" y="7"/>
                    </a:lnTo>
                    <a:lnTo>
                      <a:pt x="29" y="30"/>
                    </a:lnTo>
                    <a:lnTo>
                      <a:pt x="7" y="58"/>
                    </a:lnTo>
                    <a:lnTo>
                      <a:pt x="0" y="96"/>
                    </a:lnTo>
                    <a:lnTo>
                      <a:pt x="7" y="501"/>
                    </a:lnTo>
                    <a:lnTo>
                      <a:pt x="21" y="539"/>
                    </a:lnTo>
                    <a:lnTo>
                      <a:pt x="58" y="563"/>
                    </a:lnTo>
                    <a:lnTo>
                      <a:pt x="87" y="570"/>
                    </a:lnTo>
                    <a:lnTo>
                      <a:pt x="132" y="570"/>
                    </a:lnTo>
                    <a:lnTo>
                      <a:pt x="165" y="555"/>
                    </a:lnTo>
                    <a:lnTo>
                      <a:pt x="195" y="532"/>
                    </a:lnTo>
                    <a:lnTo>
                      <a:pt x="209" y="501"/>
                    </a:lnTo>
                    <a:lnTo>
                      <a:pt x="217" y="458"/>
                    </a:lnTo>
                    <a:lnTo>
                      <a:pt x="209" y="73"/>
                    </a:ln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 txBox="1"/>
          <p:nvPr/>
        </p:nvSpPr>
        <p:spPr>
          <a:xfrm>
            <a:off x="609480" y="51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 txBox="1"/>
          <p:nvPr/>
        </p:nvSpPr>
        <p:spPr>
          <a:xfrm>
            <a:off x="685800" y="2114640"/>
            <a:ext cx="7772400" cy="34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/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-c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f-Contained Solution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aunches from DOS or Win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rder Guide (MP &amp; Decisionwor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ampaign, PIM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nhanced Comm protocol for mobile conne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" descr=""/>
          <p:cNvPicPr/>
          <p:nvPr/>
        </p:nvPicPr>
        <p:blipFill>
          <a:blip r:embed="rId1"/>
          <a:stretch/>
        </p:blipFill>
        <p:spPr>
          <a:xfrm>
            <a:off x="2879640" y="1685880"/>
            <a:ext cx="1920960" cy="19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"/>
          <p:cNvSpPr txBox="1"/>
          <p:nvPr/>
        </p:nvSpPr>
        <p:spPr>
          <a:xfrm>
            <a:off x="609480" y="51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 txBox="1"/>
          <p:nvPr/>
        </p:nvSpPr>
        <p:spPr>
          <a:xfrm>
            <a:off x="1066680" y="2038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0 Sales Re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vg. use: ~3 dialins  day/r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&gt; 1 Year in Pilot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ceived prototype in Nov. 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rrective fixes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roduction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 txBox="1"/>
          <p:nvPr/>
        </p:nvSpPr>
        <p:spPr>
          <a:xfrm>
            <a:off x="609480" y="51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 txBox="1"/>
          <p:nvPr/>
        </p:nvSpPr>
        <p:spPr>
          <a:xfrm>
            <a:off x="1619280" y="2000160"/>
            <a:ext cx="550548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cale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dap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"/>
          <p:cNvSpPr txBox="1"/>
          <p:nvPr/>
        </p:nvSpPr>
        <p:spPr>
          <a:xfrm>
            <a:off x="609480" y="51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ease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 txBox="1"/>
          <p:nvPr/>
        </p:nvSpPr>
        <p:spPr>
          <a:xfrm>
            <a:off x="685800" y="1619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-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1 March ‘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730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der Guide App only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1 Nov. ‘9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ujitsu Stylistic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ampaign, PIM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2.2 Feb. ‘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aleability of Campaign H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"/>
          <p:cNvSpPr txBox="1"/>
          <p:nvPr/>
        </p:nvSpPr>
        <p:spPr>
          <a:xfrm>
            <a:off x="609480" y="51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ease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 txBox="1"/>
          <p:nvPr/>
        </p:nvSpPr>
        <p:spPr>
          <a:xfrm>
            <a:off x="685800" y="1619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GM Order Gu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1 July ‘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-case 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ive fixes (current:1.1.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1.2 Feb. ‘9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ale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 dae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treamline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aptive &amp; Corr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-case 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 txBox="1"/>
          <p:nvPr/>
        </p:nvSpPr>
        <p:spPr>
          <a:xfrm>
            <a:off x="609480" y="51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ollout Pl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 txBox="1"/>
          <p:nvPr/>
        </p:nvSpPr>
        <p:spPr>
          <a:xfrm>
            <a:off x="685800" y="1981080"/>
            <a:ext cx="8305920" cy="310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d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30 us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OG 1.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-case 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Jan.      40 us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OG 1.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-case 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e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60 us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OG 1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-case 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r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90 us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OG 1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-case 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pr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30 users  OG 1.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-case 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a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67 users  OG 1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-case 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 txBox="1"/>
          <p:nvPr/>
        </p:nvSpPr>
        <p:spPr>
          <a:xfrm>
            <a:off x="495360" y="146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sk Ge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3" name="" descr=""/>
          <p:cNvPicPr/>
          <p:nvPr/>
        </p:nvPicPr>
        <p:blipFill>
          <a:blip r:embed="rId1"/>
          <a:stretch/>
        </p:blipFill>
        <p:spPr>
          <a:xfrm>
            <a:off x="1136520" y="2138400"/>
            <a:ext cx="734688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140360" y="3044880"/>
            <a:ext cx="830160" cy="7351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2681280" y="2522520"/>
            <a:ext cx="390600" cy="1013040"/>
            <a:chOff x="2681280" y="2522520"/>
            <a:chExt cx="390600" cy="1013040"/>
          </a:xfrm>
        </p:grpSpPr>
        <p:pic>
          <p:nvPicPr>
            <p:cNvPr id="114" name="" descr=""/>
            <p:cNvPicPr/>
            <p:nvPr/>
          </p:nvPicPr>
          <p:blipFill>
            <a:blip r:embed="rId2"/>
            <a:stretch/>
          </p:blipFill>
          <p:spPr>
            <a:xfrm>
              <a:off x="2739960" y="2522520"/>
              <a:ext cx="277920" cy="68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2681280" y="3198960"/>
              <a:ext cx="390600" cy="336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0" lang="en-US" sz="1600" spc="-1" strike="noStrike">
                  <a:solidFill>
                    <a:srgbClr val="000000"/>
                  </a:solidFill>
                  <a:latin typeface="Mistral"/>
                  <a:ea typeface="Mistral"/>
                </a:rPr>
                <a:t>HQ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5" name="" descr=""/>
          <p:cNvPicPr/>
          <p:nvPr/>
        </p:nvPicPr>
        <p:blipFill>
          <a:blip r:embed="rId1"/>
          <a:stretch/>
        </p:blipFill>
        <p:spPr>
          <a:xfrm>
            <a:off x="266760" y="1874880"/>
            <a:ext cx="7924680" cy="4262400"/>
          </a:xfrm>
          <a:prstGeom prst="rect">
            <a:avLst/>
          </a:prstGeom>
          <a:ln w="0">
            <a:noFill/>
          </a:ln>
        </p:spPr>
      </p:pic>
      <p:sp>
        <p:nvSpPr>
          <p:cNvPr id="676" name=""/>
          <p:cNvSpPr txBox="1"/>
          <p:nvPr/>
        </p:nvSpPr>
        <p:spPr>
          <a:xfrm>
            <a:off x="7335720" y="2868480"/>
            <a:ext cx="1511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nd Orders #1 Prior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mote A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sk Gen  within 24h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 txBox="1"/>
          <p:nvPr/>
        </p:nvSpPr>
        <p:spPr>
          <a:xfrm>
            <a:off x="38160" y="2887560"/>
            <a:ext cx="14400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alin der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i-Stress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igh Expect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chnical Suppo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1"/>
          <a:stretch/>
        </p:blipFill>
        <p:spPr>
          <a:xfrm>
            <a:off x="266760" y="1874880"/>
            <a:ext cx="7924680" cy="4262400"/>
          </a:xfrm>
          <a:prstGeom prst="rect">
            <a:avLst/>
          </a:prstGeom>
          <a:ln w="0">
            <a:noFill/>
          </a:ln>
        </p:spPr>
      </p:pic>
      <p:sp>
        <p:nvSpPr>
          <p:cNvPr id="680" name=""/>
          <p:cNvSpPr txBox="1"/>
          <p:nvPr/>
        </p:nvSpPr>
        <p:spPr>
          <a:xfrm>
            <a:off x="7335720" y="2868480"/>
            <a:ext cx="151128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nd Orders #1 Priorit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mote Acc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sk Gen  within 24h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 txBox="1"/>
          <p:nvPr/>
        </p:nvSpPr>
        <p:spPr>
          <a:xfrm>
            <a:off x="38160" y="2887560"/>
            <a:ext cx="144000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alin derb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i-Stress environ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High Expect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2" name="" descr=""/>
          <p:cNvPicPr/>
          <p:nvPr/>
        </p:nvPicPr>
        <p:blipFill>
          <a:blip r:embed="rId2"/>
          <a:stretch/>
        </p:blipFill>
        <p:spPr>
          <a:xfrm>
            <a:off x="2558880" y="4873680"/>
            <a:ext cx="1928880" cy="120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3" name=""/>
          <p:cNvGrpSpPr/>
          <p:nvPr/>
        </p:nvGrpSpPr>
        <p:grpSpPr>
          <a:xfrm>
            <a:off x="1066680" y="4111560"/>
            <a:ext cx="7030080" cy="1737000"/>
            <a:chOff x="1066680" y="4111560"/>
            <a:chExt cx="7030080" cy="1737000"/>
          </a:xfrm>
        </p:grpSpPr>
        <p:sp>
          <p:nvSpPr>
            <p:cNvPr id="684" name=""/>
            <p:cNvSpPr/>
            <p:nvPr/>
          </p:nvSpPr>
          <p:spPr>
            <a:xfrm>
              <a:off x="6713640" y="4111560"/>
              <a:ext cx="1383120" cy="1737000"/>
            </a:xfrm>
            <a:custGeom>
              <a:avLst/>
              <a:gdLst/>
              <a:ahLst/>
              <a:rect l="0" t="0" r="r" b="b"/>
              <a:pathLst>
                <a:path w="3842" h="4825">
                  <a:moveTo>
                    <a:pt x="1959" y="4825"/>
                  </a:moveTo>
                  <a:lnTo>
                    <a:pt x="0" y="1691"/>
                  </a:lnTo>
                  <a:lnTo>
                    <a:pt x="1439" y="0"/>
                  </a:lnTo>
                  <a:lnTo>
                    <a:pt x="3842" y="2662"/>
                  </a:lnTo>
                  <a:lnTo>
                    <a:pt x="1959" y="4825"/>
                  </a:lnTo>
                  <a:close/>
                </a:path>
              </a:pathLst>
            </a:custGeom>
            <a:solidFill>
              <a:srgbClr val="ff5f7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1763640" y="4111560"/>
              <a:ext cx="5467680" cy="614880"/>
            </a:xfrm>
            <a:custGeom>
              <a:avLst/>
              <a:gdLst/>
              <a:ahLst/>
              <a:rect l="0" t="0" r="r" b="b"/>
              <a:pathLst>
                <a:path w="15188" h="1708">
                  <a:moveTo>
                    <a:pt x="0" y="1708"/>
                  </a:moveTo>
                  <a:lnTo>
                    <a:pt x="13760" y="1708"/>
                  </a:lnTo>
                  <a:lnTo>
                    <a:pt x="15188" y="0"/>
                  </a:lnTo>
                  <a:lnTo>
                    <a:pt x="2715" y="9"/>
                  </a:lnTo>
                  <a:lnTo>
                    <a:pt x="0" y="1708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1066680" y="4719600"/>
              <a:ext cx="6353640" cy="1128960"/>
            </a:xfrm>
            <a:custGeom>
              <a:avLst/>
              <a:gdLst/>
              <a:ahLst/>
              <a:rect l="0" t="0" r="r" b="b"/>
              <a:pathLst>
                <a:path w="17649" h="3136">
                  <a:moveTo>
                    <a:pt x="0" y="3136"/>
                  </a:moveTo>
                  <a:lnTo>
                    <a:pt x="17649" y="3136"/>
                  </a:lnTo>
                  <a:lnTo>
                    <a:pt x="15691" y="0"/>
                  </a:lnTo>
                  <a:lnTo>
                    <a:pt x="1936" y="0"/>
                  </a:lnTo>
                  <a:lnTo>
                    <a:pt x="0" y="3136"/>
                  </a:lnTo>
                  <a:close/>
                </a:path>
              </a:pathLst>
            </a:custGeom>
            <a:solidFill>
              <a:srgbClr val="ff001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7" name=""/>
          <p:cNvGrpSpPr/>
          <p:nvPr/>
        </p:nvGrpSpPr>
        <p:grpSpPr>
          <a:xfrm>
            <a:off x="1878120" y="3041640"/>
            <a:ext cx="5222880" cy="1503720"/>
            <a:chOff x="1878120" y="3041640"/>
            <a:chExt cx="5222880" cy="1503720"/>
          </a:xfrm>
        </p:grpSpPr>
        <p:sp>
          <p:nvSpPr>
            <p:cNvPr id="688" name=""/>
            <p:cNvSpPr/>
            <p:nvPr/>
          </p:nvSpPr>
          <p:spPr>
            <a:xfrm>
              <a:off x="5894280" y="3041640"/>
              <a:ext cx="1206720" cy="1499040"/>
            </a:xfrm>
            <a:custGeom>
              <a:avLst/>
              <a:gdLst/>
              <a:ahLst/>
              <a:rect l="0" t="0" r="r" b="b"/>
              <a:pathLst>
                <a:path w="3352" h="4164">
                  <a:moveTo>
                    <a:pt x="0" y="1132"/>
                  </a:moveTo>
                  <a:lnTo>
                    <a:pt x="1985" y="4164"/>
                  </a:lnTo>
                  <a:lnTo>
                    <a:pt x="3352" y="2609"/>
                  </a:lnTo>
                  <a:lnTo>
                    <a:pt x="965" y="0"/>
                  </a:lnTo>
                  <a:lnTo>
                    <a:pt x="0" y="1132"/>
                  </a:lnTo>
                  <a:close/>
                </a:path>
              </a:pathLst>
            </a:custGeom>
            <a:solidFill>
              <a:srgbClr val="bf5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585880" y="3041640"/>
              <a:ext cx="3650040" cy="402120"/>
            </a:xfrm>
            <a:custGeom>
              <a:avLst/>
              <a:gdLst/>
              <a:ahLst/>
              <a:rect l="0" t="0" r="r" b="b"/>
              <a:pathLst>
                <a:path w="10139" h="1117">
                  <a:moveTo>
                    <a:pt x="0" y="1117"/>
                  </a:moveTo>
                  <a:lnTo>
                    <a:pt x="9178" y="1117"/>
                  </a:lnTo>
                  <a:lnTo>
                    <a:pt x="10139" y="0"/>
                  </a:lnTo>
                  <a:lnTo>
                    <a:pt x="2562" y="0"/>
                  </a:lnTo>
                  <a:lnTo>
                    <a:pt x="0" y="1117"/>
                  </a:lnTo>
                  <a:close/>
                </a:path>
              </a:pathLst>
            </a:custGeom>
            <a:solidFill>
              <a:srgbClr val="5f009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1878120" y="3443400"/>
              <a:ext cx="4732560" cy="1101960"/>
            </a:xfrm>
            <a:custGeom>
              <a:avLst/>
              <a:gdLst/>
              <a:ahLst/>
              <a:rect l="0" t="0" r="r" b="b"/>
              <a:pathLst>
                <a:path w="13146" h="3061">
                  <a:moveTo>
                    <a:pt x="0" y="3061"/>
                  </a:moveTo>
                  <a:lnTo>
                    <a:pt x="13146" y="3061"/>
                  </a:lnTo>
                  <a:lnTo>
                    <a:pt x="11154" y="0"/>
                  </a:lnTo>
                  <a:lnTo>
                    <a:pt x="1959" y="0"/>
                  </a:lnTo>
                  <a:lnTo>
                    <a:pt x="0" y="3061"/>
                  </a:lnTo>
                  <a:close/>
                </a:path>
              </a:pathLst>
            </a:custGeom>
            <a:solidFill>
              <a:srgbClr val="9f3fd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1" name=""/>
          <p:cNvGrpSpPr/>
          <p:nvPr/>
        </p:nvGrpSpPr>
        <p:grpSpPr>
          <a:xfrm>
            <a:off x="2706840" y="1943280"/>
            <a:ext cx="3397680" cy="1319400"/>
            <a:chOff x="2706840" y="1943280"/>
            <a:chExt cx="3397680" cy="1319400"/>
          </a:xfrm>
        </p:grpSpPr>
        <p:sp>
          <p:nvSpPr>
            <p:cNvPr id="692" name=""/>
            <p:cNvSpPr/>
            <p:nvPr/>
          </p:nvSpPr>
          <p:spPr>
            <a:xfrm>
              <a:off x="5070600" y="1946160"/>
              <a:ext cx="1033920" cy="1316520"/>
            </a:xfrm>
            <a:custGeom>
              <a:avLst/>
              <a:gdLst/>
              <a:ahLst/>
              <a:rect l="0" t="0" r="r" b="b"/>
              <a:pathLst>
                <a:path w="2872" h="3657">
                  <a:moveTo>
                    <a:pt x="1965" y="3657"/>
                  </a:moveTo>
                  <a:lnTo>
                    <a:pt x="2872" y="2608"/>
                  </a:lnTo>
                  <a:lnTo>
                    <a:pt x="496" y="0"/>
                  </a:lnTo>
                  <a:lnTo>
                    <a:pt x="0" y="548"/>
                  </a:lnTo>
                  <a:lnTo>
                    <a:pt x="1965" y="3657"/>
                  </a:lnTo>
                  <a:close/>
                </a:path>
              </a:pathLst>
            </a:custGeom>
            <a:solidFill>
              <a:srgbClr val="ff9f7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422520" y="1943280"/>
              <a:ext cx="1822680" cy="197280"/>
            </a:xfrm>
            <a:custGeom>
              <a:avLst/>
              <a:gdLst/>
              <a:ahLst/>
              <a:rect l="0" t="0" r="r" b="b"/>
              <a:pathLst>
                <a:path w="5063" h="548">
                  <a:moveTo>
                    <a:pt x="0" y="548"/>
                  </a:moveTo>
                  <a:lnTo>
                    <a:pt x="4565" y="548"/>
                  </a:lnTo>
                  <a:lnTo>
                    <a:pt x="5063" y="0"/>
                  </a:lnTo>
                  <a:lnTo>
                    <a:pt x="1579" y="0"/>
                  </a:lnTo>
                  <a:lnTo>
                    <a:pt x="0" y="548"/>
                  </a:lnTo>
                  <a:close/>
                </a:path>
              </a:pathLst>
            </a:custGeom>
            <a:solidFill>
              <a:srgbClr val="bf3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706840" y="2139840"/>
              <a:ext cx="3072240" cy="1122840"/>
            </a:xfrm>
            <a:custGeom>
              <a:avLst/>
              <a:gdLst/>
              <a:ahLst/>
              <a:rect l="0" t="0" r="r" b="b"/>
              <a:pathLst>
                <a:path w="8534" h="3119">
                  <a:moveTo>
                    <a:pt x="0" y="3119"/>
                  </a:moveTo>
                  <a:lnTo>
                    <a:pt x="8534" y="3119"/>
                  </a:lnTo>
                  <a:lnTo>
                    <a:pt x="6555" y="0"/>
                  </a:lnTo>
                  <a:lnTo>
                    <a:pt x="1979" y="0"/>
                  </a:lnTo>
                  <a:lnTo>
                    <a:pt x="0" y="3119"/>
                  </a:lnTo>
                  <a:close/>
                </a:path>
              </a:pathLst>
            </a:custGeom>
            <a:solidFill>
              <a:srgbClr val="ff5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5" name=""/>
          <p:cNvGrpSpPr/>
          <p:nvPr/>
        </p:nvGrpSpPr>
        <p:grpSpPr>
          <a:xfrm>
            <a:off x="3527280" y="857160"/>
            <a:ext cx="1591200" cy="1114920"/>
            <a:chOff x="3527280" y="857160"/>
            <a:chExt cx="1591200" cy="1114920"/>
          </a:xfrm>
        </p:grpSpPr>
        <p:sp>
          <p:nvSpPr>
            <p:cNvPr id="696" name=""/>
            <p:cNvSpPr/>
            <p:nvPr/>
          </p:nvSpPr>
          <p:spPr>
            <a:xfrm>
              <a:off x="4240080" y="857160"/>
              <a:ext cx="878400" cy="1114920"/>
            </a:xfrm>
            <a:custGeom>
              <a:avLst/>
              <a:gdLst/>
              <a:ahLst/>
              <a:rect l="0" t="0" r="r" b="b"/>
              <a:pathLst>
                <a:path w="2440" h="3097">
                  <a:moveTo>
                    <a:pt x="1985" y="3097"/>
                  </a:moveTo>
                  <a:lnTo>
                    <a:pt x="2440" y="2616"/>
                  </a:lnTo>
                  <a:lnTo>
                    <a:pt x="0" y="0"/>
                  </a:lnTo>
                  <a:lnTo>
                    <a:pt x="1985" y="3097"/>
                  </a:lnTo>
                  <a:close/>
                </a:path>
              </a:pathLst>
            </a:custGeom>
            <a:solidFill>
              <a:srgbClr val="ffbf1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527280" y="857160"/>
              <a:ext cx="1424520" cy="1114920"/>
            </a:xfrm>
            <a:custGeom>
              <a:avLst/>
              <a:gdLst/>
              <a:ahLst/>
              <a:rect l="0" t="0" r="r" b="b"/>
              <a:pathLst>
                <a:path w="3957" h="3097">
                  <a:moveTo>
                    <a:pt x="0" y="3097"/>
                  </a:moveTo>
                  <a:lnTo>
                    <a:pt x="3957" y="3097"/>
                  </a:lnTo>
                  <a:lnTo>
                    <a:pt x="1978" y="0"/>
                  </a:lnTo>
                  <a:lnTo>
                    <a:pt x="0" y="3097"/>
                  </a:lnTo>
                  <a:close/>
                </a:path>
              </a:pathLst>
            </a:custGeom>
            <a:solidFill>
              <a:srgbClr val="ff9f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8" name=""/>
          <p:cNvSpPr txBox="1"/>
          <p:nvPr/>
        </p:nvSpPr>
        <p:spPr>
          <a:xfrm>
            <a:off x="2271600" y="3576600"/>
            <a:ext cx="40672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-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obile Solution Frame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(Notebook, PIM, Financial Paper, Publications...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 txBox="1"/>
          <p:nvPr/>
        </p:nvSpPr>
        <p:spPr>
          <a:xfrm>
            <a:off x="3646440" y="2455920"/>
            <a:ext cx="1192320" cy="70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T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obileScrip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stom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 txBox="1"/>
          <p:nvPr/>
        </p:nvSpPr>
        <p:spPr>
          <a:xfrm>
            <a:off x="3857760" y="1384200"/>
            <a:ext cx="82692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Yo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lu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2602080" y="4946760"/>
            <a:ext cx="3187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ablet PC running DOS or Win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"/>
          <p:cNvSpPr txBox="1"/>
          <p:nvPr/>
        </p:nvSpPr>
        <p:spPr>
          <a:xfrm>
            <a:off x="685800" y="181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e-c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 MSF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Object-Oriented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atcom C Compiler using Visual C++ W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O Class Manager &amp; Framework (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M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sual Scrip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sual SF Component Custo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 txBox="1"/>
          <p:nvPr/>
        </p:nvSpPr>
        <p:spPr>
          <a:xfrm>
            <a:off x="895320" y="188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VCS Sourc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Virtual Release Reposi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hange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PVCS Tracker (reports week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CB meets period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nge Contro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un Sparc/Solaris 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Progr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tabase and Distribution 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RG maintai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ddleware Serv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09480" y="514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ble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009800" y="2209680"/>
            <a:ext cx="7486560" cy="283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H/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730T IB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jitsu Stylistic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ype III PC Card (170 | 26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ype II Modem (14.4 | 28.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ellular or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0" y="0"/>
            <a:ext cx="9142920" cy="6856920"/>
            <a:chOff x="0" y="0"/>
            <a:chExt cx="9142920" cy="6856920"/>
          </a:xfrm>
        </p:grpSpPr>
        <p:sp>
          <p:nvSpPr>
            <p:cNvPr id="121" name=""/>
            <p:cNvSpPr/>
            <p:nvPr/>
          </p:nvSpPr>
          <p:spPr>
            <a:xfrm>
              <a:off x="65160" y="55440"/>
              <a:ext cx="9012600" cy="6564600"/>
            </a:xfrm>
            <a:custGeom>
              <a:avLst/>
              <a:gdLst/>
              <a:ahLst/>
              <a:rect l="0" t="0" r="r" b="b"/>
              <a:pathLst>
                <a:path w="25035" h="18235">
                  <a:moveTo>
                    <a:pt x="4382" y="0"/>
                  </a:moveTo>
                  <a:lnTo>
                    <a:pt x="4261" y="0"/>
                  </a:lnTo>
                  <a:lnTo>
                    <a:pt x="4169" y="0"/>
                  </a:lnTo>
                  <a:lnTo>
                    <a:pt x="4063" y="12"/>
                  </a:lnTo>
                  <a:lnTo>
                    <a:pt x="3987" y="51"/>
                  </a:lnTo>
                  <a:lnTo>
                    <a:pt x="3926" y="103"/>
                  </a:lnTo>
                  <a:lnTo>
                    <a:pt x="3865" y="193"/>
                  </a:lnTo>
                  <a:lnTo>
                    <a:pt x="3850" y="309"/>
                  </a:lnTo>
                  <a:lnTo>
                    <a:pt x="3834" y="476"/>
                  </a:lnTo>
                  <a:lnTo>
                    <a:pt x="3834" y="2203"/>
                  </a:lnTo>
                  <a:lnTo>
                    <a:pt x="3834" y="5579"/>
                  </a:lnTo>
                  <a:lnTo>
                    <a:pt x="3834" y="8878"/>
                  </a:lnTo>
                  <a:lnTo>
                    <a:pt x="3834" y="10464"/>
                  </a:lnTo>
                  <a:lnTo>
                    <a:pt x="3850" y="10606"/>
                  </a:lnTo>
                  <a:lnTo>
                    <a:pt x="3880" y="10709"/>
                  </a:lnTo>
                  <a:lnTo>
                    <a:pt x="4002" y="10761"/>
                  </a:lnTo>
                  <a:lnTo>
                    <a:pt x="4185" y="10773"/>
                  </a:lnTo>
                  <a:lnTo>
                    <a:pt x="4185" y="10889"/>
                  </a:lnTo>
                  <a:lnTo>
                    <a:pt x="4169" y="10889"/>
                  </a:lnTo>
                  <a:lnTo>
                    <a:pt x="4139" y="10889"/>
                  </a:lnTo>
                  <a:lnTo>
                    <a:pt x="4063" y="10889"/>
                  </a:lnTo>
                  <a:lnTo>
                    <a:pt x="3971" y="10889"/>
                  </a:lnTo>
                  <a:lnTo>
                    <a:pt x="3850" y="10889"/>
                  </a:lnTo>
                  <a:lnTo>
                    <a:pt x="3743" y="10915"/>
                  </a:lnTo>
                  <a:lnTo>
                    <a:pt x="3637" y="10954"/>
                  </a:lnTo>
                  <a:lnTo>
                    <a:pt x="3530" y="11044"/>
                  </a:lnTo>
                  <a:lnTo>
                    <a:pt x="3484" y="11121"/>
                  </a:lnTo>
                  <a:lnTo>
                    <a:pt x="3378" y="11237"/>
                  </a:lnTo>
                  <a:lnTo>
                    <a:pt x="3211" y="11444"/>
                  </a:lnTo>
                  <a:lnTo>
                    <a:pt x="2982" y="11676"/>
                  </a:lnTo>
                  <a:lnTo>
                    <a:pt x="2739" y="11959"/>
                  </a:lnTo>
                  <a:lnTo>
                    <a:pt x="2465" y="12281"/>
                  </a:lnTo>
                  <a:lnTo>
                    <a:pt x="2176" y="12616"/>
                  </a:lnTo>
                  <a:lnTo>
                    <a:pt x="1871" y="12951"/>
                  </a:lnTo>
                  <a:lnTo>
                    <a:pt x="1567" y="13286"/>
                  </a:lnTo>
                  <a:lnTo>
                    <a:pt x="1263" y="13634"/>
                  </a:lnTo>
                  <a:lnTo>
                    <a:pt x="989" y="13944"/>
                  </a:lnTo>
                  <a:lnTo>
                    <a:pt x="730" y="14227"/>
                  </a:lnTo>
                  <a:lnTo>
                    <a:pt x="517" y="14472"/>
                  </a:lnTo>
                  <a:lnTo>
                    <a:pt x="334" y="14665"/>
                  </a:lnTo>
                  <a:lnTo>
                    <a:pt x="213" y="14807"/>
                  </a:lnTo>
                  <a:lnTo>
                    <a:pt x="152" y="14871"/>
                  </a:lnTo>
                  <a:lnTo>
                    <a:pt x="60" y="15000"/>
                  </a:lnTo>
                  <a:lnTo>
                    <a:pt x="15" y="15116"/>
                  </a:lnTo>
                  <a:lnTo>
                    <a:pt x="0" y="15219"/>
                  </a:lnTo>
                  <a:lnTo>
                    <a:pt x="0" y="15284"/>
                  </a:lnTo>
                  <a:lnTo>
                    <a:pt x="0" y="15696"/>
                  </a:lnTo>
                  <a:lnTo>
                    <a:pt x="0" y="16495"/>
                  </a:lnTo>
                  <a:lnTo>
                    <a:pt x="0" y="17333"/>
                  </a:lnTo>
                  <a:lnTo>
                    <a:pt x="0" y="17822"/>
                  </a:lnTo>
                  <a:lnTo>
                    <a:pt x="0" y="17900"/>
                  </a:lnTo>
                  <a:lnTo>
                    <a:pt x="15" y="17977"/>
                  </a:lnTo>
                  <a:lnTo>
                    <a:pt x="45" y="18054"/>
                  </a:lnTo>
                  <a:lnTo>
                    <a:pt x="106" y="18119"/>
                  </a:lnTo>
                  <a:lnTo>
                    <a:pt x="167" y="18170"/>
                  </a:lnTo>
                  <a:lnTo>
                    <a:pt x="258" y="18209"/>
                  </a:lnTo>
                  <a:lnTo>
                    <a:pt x="365" y="18222"/>
                  </a:lnTo>
                  <a:lnTo>
                    <a:pt x="502" y="18235"/>
                  </a:lnTo>
                  <a:lnTo>
                    <a:pt x="593" y="18235"/>
                  </a:lnTo>
                  <a:lnTo>
                    <a:pt x="837" y="18235"/>
                  </a:lnTo>
                  <a:lnTo>
                    <a:pt x="1156" y="18235"/>
                  </a:lnTo>
                  <a:lnTo>
                    <a:pt x="1628" y="18235"/>
                  </a:lnTo>
                  <a:lnTo>
                    <a:pt x="2176" y="18235"/>
                  </a:lnTo>
                  <a:lnTo>
                    <a:pt x="2830" y="18235"/>
                  </a:lnTo>
                  <a:lnTo>
                    <a:pt x="3561" y="18235"/>
                  </a:lnTo>
                  <a:lnTo>
                    <a:pt x="4352" y="18235"/>
                  </a:lnTo>
                  <a:lnTo>
                    <a:pt x="5235" y="18235"/>
                  </a:lnTo>
                  <a:lnTo>
                    <a:pt x="6163" y="18235"/>
                  </a:lnTo>
                  <a:lnTo>
                    <a:pt x="7138" y="18235"/>
                  </a:lnTo>
                  <a:lnTo>
                    <a:pt x="8173" y="18235"/>
                  </a:lnTo>
                  <a:lnTo>
                    <a:pt x="9238" y="18235"/>
                  </a:lnTo>
                  <a:lnTo>
                    <a:pt x="10318" y="18235"/>
                  </a:lnTo>
                  <a:lnTo>
                    <a:pt x="11414" y="18235"/>
                  </a:lnTo>
                  <a:lnTo>
                    <a:pt x="12525" y="18235"/>
                  </a:lnTo>
                  <a:lnTo>
                    <a:pt x="13636" y="18235"/>
                  </a:lnTo>
                  <a:lnTo>
                    <a:pt x="14732" y="18235"/>
                  </a:lnTo>
                  <a:lnTo>
                    <a:pt x="15812" y="18235"/>
                  </a:lnTo>
                  <a:lnTo>
                    <a:pt x="16878" y="18235"/>
                  </a:lnTo>
                  <a:lnTo>
                    <a:pt x="17897" y="18235"/>
                  </a:lnTo>
                  <a:lnTo>
                    <a:pt x="18887" y="18235"/>
                  </a:lnTo>
                  <a:lnTo>
                    <a:pt x="19816" y="18235"/>
                  </a:lnTo>
                  <a:lnTo>
                    <a:pt x="20698" y="18235"/>
                  </a:lnTo>
                  <a:lnTo>
                    <a:pt x="21505" y="18235"/>
                  </a:lnTo>
                  <a:lnTo>
                    <a:pt x="22235" y="18235"/>
                  </a:lnTo>
                  <a:lnTo>
                    <a:pt x="22890" y="18235"/>
                  </a:lnTo>
                  <a:lnTo>
                    <a:pt x="23438" y="18235"/>
                  </a:lnTo>
                  <a:lnTo>
                    <a:pt x="23894" y="18235"/>
                  </a:lnTo>
                  <a:lnTo>
                    <a:pt x="24244" y="18235"/>
                  </a:lnTo>
                  <a:lnTo>
                    <a:pt x="24488" y="18235"/>
                  </a:lnTo>
                  <a:lnTo>
                    <a:pt x="24579" y="18235"/>
                  </a:lnTo>
                  <a:lnTo>
                    <a:pt x="24822" y="18209"/>
                  </a:lnTo>
                  <a:lnTo>
                    <a:pt x="24959" y="18144"/>
                  </a:lnTo>
                  <a:lnTo>
                    <a:pt x="25005" y="18029"/>
                  </a:lnTo>
                  <a:lnTo>
                    <a:pt x="25035" y="17874"/>
                  </a:lnTo>
                  <a:lnTo>
                    <a:pt x="25035" y="17436"/>
                  </a:lnTo>
                  <a:lnTo>
                    <a:pt x="25035" y="16675"/>
                  </a:lnTo>
                  <a:lnTo>
                    <a:pt x="25035" y="15928"/>
                  </a:lnTo>
                  <a:lnTo>
                    <a:pt x="25035" y="15541"/>
                  </a:lnTo>
                  <a:lnTo>
                    <a:pt x="25035" y="15413"/>
                  </a:lnTo>
                  <a:lnTo>
                    <a:pt x="25005" y="15258"/>
                  </a:lnTo>
                  <a:lnTo>
                    <a:pt x="24959" y="15065"/>
                  </a:lnTo>
                  <a:lnTo>
                    <a:pt x="24822" y="14820"/>
                  </a:lnTo>
                  <a:lnTo>
                    <a:pt x="24746" y="14717"/>
                  </a:lnTo>
                  <a:lnTo>
                    <a:pt x="24625" y="14562"/>
                  </a:lnTo>
                  <a:lnTo>
                    <a:pt x="24442" y="14356"/>
                  </a:lnTo>
                  <a:lnTo>
                    <a:pt x="24229" y="14111"/>
                  </a:lnTo>
                  <a:lnTo>
                    <a:pt x="23985" y="13828"/>
                  </a:lnTo>
                  <a:lnTo>
                    <a:pt x="23712" y="13518"/>
                  </a:lnTo>
                  <a:lnTo>
                    <a:pt x="23438" y="13196"/>
                  </a:lnTo>
                  <a:lnTo>
                    <a:pt x="23148" y="12874"/>
                  </a:lnTo>
                  <a:lnTo>
                    <a:pt x="22875" y="12539"/>
                  </a:lnTo>
                  <a:lnTo>
                    <a:pt x="22601" y="12230"/>
                  </a:lnTo>
                  <a:lnTo>
                    <a:pt x="22342" y="11933"/>
                  </a:lnTo>
                  <a:lnTo>
                    <a:pt x="22098" y="11676"/>
                  </a:lnTo>
                  <a:lnTo>
                    <a:pt x="21901" y="11456"/>
                  </a:lnTo>
                  <a:lnTo>
                    <a:pt x="21764" y="11276"/>
                  </a:lnTo>
                  <a:lnTo>
                    <a:pt x="21657" y="11160"/>
                  </a:lnTo>
                  <a:lnTo>
                    <a:pt x="21611" y="11096"/>
                  </a:lnTo>
                  <a:lnTo>
                    <a:pt x="21520" y="11005"/>
                  </a:lnTo>
                  <a:lnTo>
                    <a:pt x="21459" y="10915"/>
                  </a:lnTo>
                  <a:lnTo>
                    <a:pt x="21337" y="10864"/>
                  </a:lnTo>
                  <a:lnTo>
                    <a:pt x="21170" y="10851"/>
                  </a:lnTo>
                  <a:lnTo>
                    <a:pt x="21170" y="10773"/>
                  </a:lnTo>
                  <a:lnTo>
                    <a:pt x="21185" y="10773"/>
                  </a:lnTo>
                  <a:lnTo>
                    <a:pt x="21246" y="10773"/>
                  </a:lnTo>
                  <a:lnTo>
                    <a:pt x="21292" y="10773"/>
                  </a:lnTo>
                  <a:lnTo>
                    <a:pt x="21337" y="10773"/>
                  </a:lnTo>
                  <a:lnTo>
                    <a:pt x="21398" y="10761"/>
                  </a:lnTo>
                  <a:lnTo>
                    <a:pt x="21459" y="10735"/>
                  </a:lnTo>
                  <a:lnTo>
                    <a:pt x="21490" y="10696"/>
                  </a:lnTo>
                  <a:lnTo>
                    <a:pt x="21505" y="10619"/>
                  </a:lnTo>
                  <a:lnTo>
                    <a:pt x="21505" y="8981"/>
                  </a:lnTo>
                  <a:lnTo>
                    <a:pt x="21505" y="5476"/>
                  </a:lnTo>
                  <a:lnTo>
                    <a:pt x="21505" y="1958"/>
                  </a:lnTo>
                  <a:lnTo>
                    <a:pt x="21505" y="283"/>
                  </a:lnTo>
                  <a:lnTo>
                    <a:pt x="21490" y="180"/>
                  </a:lnTo>
                  <a:lnTo>
                    <a:pt x="21429" y="90"/>
                  </a:lnTo>
                  <a:lnTo>
                    <a:pt x="21322" y="38"/>
                  </a:lnTo>
                  <a:lnTo>
                    <a:pt x="21140" y="0"/>
                  </a:lnTo>
                  <a:lnTo>
                    <a:pt x="21079" y="0"/>
                  </a:lnTo>
                  <a:lnTo>
                    <a:pt x="20911" y="0"/>
                  </a:lnTo>
                  <a:lnTo>
                    <a:pt x="20668" y="0"/>
                  </a:lnTo>
                  <a:lnTo>
                    <a:pt x="20348" y="0"/>
                  </a:lnTo>
                  <a:lnTo>
                    <a:pt x="19953" y="0"/>
                  </a:lnTo>
                  <a:lnTo>
                    <a:pt x="19496" y="0"/>
                  </a:lnTo>
                  <a:lnTo>
                    <a:pt x="18979" y="0"/>
                  </a:lnTo>
                  <a:lnTo>
                    <a:pt x="18415" y="0"/>
                  </a:lnTo>
                  <a:lnTo>
                    <a:pt x="17806" y="0"/>
                  </a:lnTo>
                  <a:lnTo>
                    <a:pt x="17151" y="0"/>
                  </a:lnTo>
                  <a:lnTo>
                    <a:pt x="16482" y="0"/>
                  </a:lnTo>
                  <a:lnTo>
                    <a:pt x="15751" y="0"/>
                  </a:lnTo>
                  <a:lnTo>
                    <a:pt x="15021" y="0"/>
                  </a:lnTo>
                  <a:lnTo>
                    <a:pt x="14245" y="0"/>
                  </a:lnTo>
                  <a:lnTo>
                    <a:pt x="13484" y="0"/>
                  </a:lnTo>
                  <a:lnTo>
                    <a:pt x="12723" y="0"/>
                  </a:lnTo>
                  <a:lnTo>
                    <a:pt x="11947" y="0"/>
                  </a:lnTo>
                  <a:lnTo>
                    <a:pt x="11171" y="0"/>
                  </a:lnTo>
                  <a:lnTo>
                    <a:pt x="10410" y="0"/>
                  </a:lnTo>
                  <a:lnTo>
                    <a:pt x="9679" y="0"/>
                  </a:lnTo>
                  <a:lnTo>
                    <a:pt x="8964" y="0"/>
                  </a:lnTo>
                  <a:lnTo>
                    <a:pt x="8294" y="0"/>
                  </a:lnTo>
                  <a:lnTo>
                    <a:pt x="7640" y="0"/>
                  </a:lnTo>
                  <a:lnTo>
                    <a:pt x="7031" y="0"/>
                  </a:lnTo>
                  <a:lnTo>
                    <a:pt x="6483" y="0"/>
                  </a:lnTo>
                  <a:lnTo>
                    <a:pt x="5965" y="0"/>
                  </a:lnTo>
                  <a:lnTo>
                    <a:pt x="5508" y="0"/>
                  </a:lnTo>
                  <a:lnTo>
                    <a:pt x="5128" y="0"/>
                  </a:lnTo>
                  <a:lnTo>
                    <a:pt x="4839" y="0"/>
                  </a:lnTo>
                  <a:lnTo>
                    <a:pt x="4595" y="0"/>
                  </a:lnTo>
                  <a:lnTo>
                    <a:pt x="4443" y="0"/>
                  </a:lnTo>
                  <a:lnTo>
                    <a:pt x="4382" y="0"/>
                  </a:lnTo>
                  <a:close/>
                </a:path>
              </a:pathLst>
            </a:custGeom>
            <a:solidFill>
              <a:srgbClr val="660c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380960" y="0"/>
              <a:ext cx="263880" cy="228960"/>
            </a:xfrm>
            <a:custGeom>
              <a:avLst/>
              <a:gdLst/>
              <a:ahLst/>
              <a:rect l="0" t="0" r="r" b="b"/>
              <a:pathLst>
                <a:path w="733" h="636">
                  <a:moveTo>
                    <a:pt x="367" y="636"/>
                  </a:moveTo>
                  <a:lnTo>
                    <a:pt x="367" y="636"/>
                  </a:lnTo>
                  <a:lnTo>
                    <a:pt x="382" y="494"/>
                  </a:lnTo>
                  <a:lnTo>
                    <a:pt x="397" y="376"/>
                  </a:lnTo>
                  <a:lnTo>
                    <a:pt x="412" y="350"/>
                  </a:lnTo>
                  <a:lnTo>
                    <a:pt x="428" y="337"/>
                  </a:lnTo>
                  <a:lnTo>
                    <a:pt x="473" y="337"/>
                  </a:lnTo>
                  <a:lnTo>
                    <a:pt x="519" y="312"/>
                  </a:lnTo>
                  <a:lnTo>
                    <a:pt x="611" y="312"/>
                  </a:lnTo>
                  <a:lnTo>
                    <a:pt x="733" y="312"/>
                  </a:lnTo>
                  <a:lnTo>
                    <a:pt x="733" y="0"/>
                  </a:lnTo>
                  <a:lnTo>
                    <a:pt x="611" y="0"/>
                  </a:lnTo>
                  <a:lnTo>
                    <a:pt x="519" y="0"/>
                  </a:lnTo>
                  <a:lnTo>
                    <a:pt x="367" y="12"/>
                  </a:lnTo>
                  <a:lnTo>
                    <a:pt x="228" y="77"/>
                  </a:lnTo>
                  <a:lnTo>
                    <a:pt x="122" y="169"/>
                  </a:lnTo>
                  <a:lnTo>
                    <a:pt x="30" y="312"/>
                  </a:lnTo>
                  <a:lnTo>
                    <a:pt x="15" y="454"/>
                  </a:lnTo>
                  <a:lnTo>
                    <a:pt x="0" y="636"/>
                  </a:lnTo>
                  <a:lnTo>
                    <a:pt x="0" y="636"/>
                  </a:lnTo>
                  <a:lnTo>
                    <a:pt x="367" y="6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380960" y="228600"/>
              <a:ext cx="133560" cy="3594600"/>
            </a:xfrm>
            <a:custGeom>
              <a:avLst/>
              <a:gdLst/>
              <a:ahLst/>
              <a:rect l="0" t="0" r="r" b="b"/>
              <a:pathLst>
                <a:path w="371" h="9985">
                  <a:moveTo>
                    <a:pt x="371" y="9985"/>
                  </a:moveTo>
                  <a:lnTo>
                    <a:pt x="371" y="9985"/>
                  </a:lnTo>
                  <a:lnTo>
                    <a:pt x="371" y="8401"/>
                  </a:lnTo>
                  <a:lnTo>
                    <a:pt x="371" y="5102"/>
                  </a:lnTo>
                  <a:lnTo>
                    <a:pt x="371" y="1726"/>
                  </a:lnTo>
                  <a:lnTo>
                    <a:pt x="371" y="0"/>
                  </a:lnTo>
                  <a:lnTo>
                    <a:pt x="0" y="0"/>
                  </a:lnTo>
                  <a:lnTo>
                    <a:pt x="0" y="1726"/>
                  </a:lnTo>
                  <a:lnTo>
                    <a:pt x="0" y="5102"/>
                  </a:lnTo>
                  <a:lnTo>
                    <a:pt x="0" y="8401"/>
                  </a:lnTo>
                  <a:lnTo>
                    <a:pt x="0" y="9985"/>
                  </a:lnTo>
                  <a:lnTo>
                    <a:pt x="0" y="9985"/>
                  </a:lnTo>
                  <a:lnTo>
                    <a:pt x="371" y="99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80960" y="3822840"/>
              <a:ext cx="257400" cy="167040"/>
            </a:xfrm>
            <a:custGeom>
              <a:avLst/>
              <a:gdLst/>
              <a:ahLst/>
              <a:rect l="0" t="0" r="r" b="b"/>
              <a:pathLst>
                <a:path w="715" h="464">
                  <a:moveTo>
                    <a:pt x="715" y="309"/>
                  </a:moveTo>
                  <a:lnTo>
                    <a:pt x="532" y="154"/>
                  </a:lnTo>
                  <a:lnTo>
                    <a:pt x="396" y="141"/>
                  </a:lnTo>
                  <a:lnTo>
                    <a:pt x="365" y="141"/>
                  </a:lnTo>
                  <a:lnTo>
                    <a:pt x="380" y="128"/>
                  </a:lnTo>
                  <a:lnTo>
                    <a:pt x="365" y="0"/>
                  </a:lnTo>
                  <a:lnTo>
                    <a:pt x="0" y="0"/>
                  </a:lnTo>
                  <a:lnTo>
                    <a:pt x="15" y="154"/>
                  </a:lnTo>
                  <a:lnTo>
                    <a:pt x="106" y="335"/>
                  </a:lnTo>
                  <a:lnTo>
                    <a:pt x="303" y="451"/>
                  </a:lnTo>
                  <a:lnTo>
                    <a:pt x="532" y="464"/>
                  </a:lnTo>
                  <a:lnTo>
                    <a:pt x="349" y="309"/>
                  </a:lnTo>
                  <a:lnTo>
                    <a:pt x="715" y="3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504800" y="3921120"/>
              <a:ext cx="133560" cy="109800"/>
            </a:xfrm>
            <a:custGeom>
              <a:avLst/>
              <a:gdLst/>
              <a:ahLst/>
              <a:rect l="0" t="0" r="r" b="b"/>
              <a:pathLst>
                <a:path w="371" h="305">
                  <a:moveTo>
                    <a:pt x="186" y="305"/>
                  </a:moveTo>
                  <a:lnTo>
                    <a:pt x="371" y="153"/>
                  </a:lnTo>
                  <a:lnTo>
                    <a:pt x="371" y="38"/>
                  </a:lnTo>
                  <a:lnTo>
                    <a:pt x="0" y="38"/>
                  </a:lnTo>
                  <a:lnTo>
                    <a:pt x="0" y="153"/>
                  </a:lnTo>
                  <a:lnTo>
                    <a:pt x="186" y="0"/>
                  </a:lnTo>
                  <a:lnTo>
                    <a:pt x="186" y="305"/>
                  </a:lnTo>
                  <a:lnTo>
                    <a:pt x="371" y="305"/>
                  </a:lnTo>
                  <a:lnTo>
                    <a:pt x="371" y="153"/>
                  </a:lnTo>
                  <a:lnTo>
                    <a:pt x="186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95440" y="3921120"/>
              <a:ext cx="86040" cy="109800"/>
            </a:xfrm>
            <a:custGeom>
              <a:avLst/>
              <a:gdLst/>
              <a:ahLst/>
              <a:rect l="0" t="0" r="r" b="b"/>
              <a:pathLst>
                <a:path w="239" h="305">
                  <a:moveTo>
                    <a:pt x="0" y="305"/>
                  </a:moveTo>
                  <a:lnTo>
                    <a:pt x="0" y="305"/>
                  </a:lnTo>
                  <a:lnTo>
                    <a:pt x="102" y="305"/>
                  </a:lnTo>
                  <a:lnTo>
                    <a:pt x="188" y="305"/>
                  </a:lnTo>
                  <a:lnTo>
                    <a:pt x="222" y="305"/>
                  </a:lnTo>
                  <a:lnTo>
                    <a:pt x="239" y="305"/>
                  </a:lnTo>
                  <a:lnTo>
                    <a:pt x="239" y="0"/>
                  </a:lnTo>
                  <a:lnTo>
                    <a:pt x="222" y="0"/>
                  </a:lnTo>
                  <a:lnTo>
                    <a:pt x="188" y="0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287360" y="3921120"/>
              <a:ext cx="208440" cy="146520"/>
            </a:xfrm>
            <a:custGeom>
              <a:avLst/>
              <a:gdLst/>
              <a:ahLst/>
              <a:rect l="0" t="0" r="r" b="b"/>
              <a:pathLst>
                <a:path w="579" h="407">
                  <a:moveTo>
                    <a:pt x="289" y="382"/>
                  </a:moveTo>
                  <a:lnTo>
                    <a:pt x="289" y="407"/>
                  </a:lnTo>
                  <a:lnTo>
                    <a:pt x="350" y="344"/>
                  </a:lnTo>
                  <a:lnTo>
                    <a:pt x="411" y="318"/>
                  </a:lnTo>
                  <a:lnTo>
                    <a:pt x="473" y="306"/>
                  </a:lnTo>
                  <a:lnTo>
                    <a:pt x="579" y="306"/>
                  </a:lnTo>
                  <a:lnTo>
                    <a:pt x="579" y="0"/>
                  </a:lnTo>
                  <a:lnTo>
                    <a:pt x="442" y="0"/>
                  </a:lnTo>
                  <a:lnTo>
                    <a:pt x="274" y="38"/>
                  </a:lnTo>
                  <a:lnTo>
                    <a:pt x="136" y="101"/>
                  </a:lnTo>
                  <a:lnTo>
                    <a:pt x="0" y="203"/>
                  </a:lnTo>
                  <a:lnTo>
                    <a:pt x="0" y="241"/>
                  </a:lnTo>
                  <a:lnTo>
                    <a:pt x="289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5160" y="4008600"/>
              <a:ext cx="1327680" cy="1438560"/>
            </a:xfrm>
            <a:custGeom>
              <a:avLst/>
              <a:gdLst/>
              <a:ahLst/>
              <a:rect l="0" t="0" r="r" b="b"/>
              <a:pathLst>
                <a:path w="3688" h="3996">
                  <a:moveTo>
                    <a:pt x="304" y="3983"/>
                  </a:moveTo>
                  <a:lnTo>
                    <a:pt x="289" y="3996"/>
                  </a:lnTo>
                  <a:lnTo>
                    <a:pt x="365" y="3905"/>
                  </a:lnTo>
                  <a:lnTo>
                    <a:pt x="487" y="3764"/>
                  </a:lnTo>
                  <a:lnTo>
                    <a:pt x="670" y="3583"/>
                  </a:lnTo>
                  <a:lnTo>
                    <a:pt x="883" y="3351"/>
                  </a:lnTo>
                  <a:lnTo>
                    <a:pt x="1143" y="3055"/>
                  </a:lnTo>
                  <a:lnTo>
                    <a:pt x="1417" y="2733"/>
                  </a:lnTo>
                  <a:lnTo>
                    <a:pt x="1707" y="2411"/>
                  </a:lnTo>
                  <a:lnTo>
                    <a:pt x="2027" y="2075"/>
                  </a:lnTo>
                  <a:lnTo>
                    <a:pt x="2331" y="1714"/>
                  </a:lnTo>
                  <a:lnTo>
                    <a:pt x="2605" y="1378"/>
                  </a:lnTo>
                  <a:lnTo>
                    <a:pt x="2896" y="1069"/>
                  </a:lnTo>
                  <a:lnTo>
                    <a:pt x="3140" y="786"/>
                  </a:lnTo>
                  <a:lnTo>
                    <a:pt x="3353" y="541"/>
                  </a:lnTo>
                  <a:lnTo>
                    <a:pt x="3520" y="347"/>
                  </a:lnTo>
                  <a:lnTo>
                    <a:pt x="3642" y="219"/>
                  </a:lnTo>
                  <a:lnTo>
                    <a:pt x="3688" y="141"/>
                  </a:lnTo>
                  <a:lnTo>
                    <a:pt x="3399" y="0"/>
                  </a:lnTo>
                  <a:lnTo>
                    <a:pt x="3338" y="51"/>
                  </a:lnTo>
                  <a:lnTo>
                    <a:pt x="3231" y="180"/>
                  </a:lnTo>
                  <a:lnTo>
                    <a:pt x="3063" y="373"/>
                  </a:lnTo>
                  <a:lnTo>
                    <a:pt x="2850" y="618"/>
                  </a:lnTo>
                  <a:lnTo>
                    <a:pt x="2590" y="902"/>
                  </a:lnTo>
                  <a:lnTo>
                    <a:pt x="2316" y="1211"/>
                  </a:lnTo>
                  <a:lnTo>
                    <a:pt x="2027" y="1546"/>
                  </a:lnTo>
                  <a:lnTo>
                    <a:pt x="1722" y="1868"/>
                  </a:lnTo>
                  <a:lnTo>
                    <a:pt x="1417" y="2217"/>
                  </a:lnTo>
                  <a:lnTo>
                    <a:pt x="1113" y="2565"/>
                  </a:lnTo>
                  <a:lnTo>
                    <a:pt x="853" y="2874"/>
                  </a:lnTo>
                  <a:lnTo>
                    <a:pt x="578" y="3145"/>
                  </a:lnTo>
                  <a:lnTo>
                    <a:pt x="365" y="3390"/>
                  </a:lnTo>
                  <a:lnTo>
                    <a:pt x="182" y="3596"/>
                  </a:lnTo>
                  <a:lnTo>
                    <a:pt x="60" y="3738"/>
                  </a:lnTo>
                  <a:lnTo>
                    <a:pt x="15" y="3802"/>
                  </a:lnTo>
                  <a:lnTo>
                    <a:pt x="0" y="3815"/>
                  </a:lnTo>
                  <a:lnTo>
                    <a:pt x="304" y="39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0" y="5381640"/>
              <a:ext cx="174960" cy="178200"/>
            </a:xfrm>
            <a:custGeom>
              <a:avLst/>
              <a:gdLst/>
              <a:ahLst/>
              <a:rect l="0" t="0" r="r" b="b"/>
              <a:pathLst>
                <a:path w="486" h="495">
                  <a:moveTo>
                    <a:pt x="364" y="495"/>
                  </a:moveTo>
                  <a:lnTo>
                    <a:pt x="364" y="495"/>
                  </a:lnTo>
                  <a:lnTo>
                    <a:pt x="364" y="430"/>
                  </a:lnTo>
                  <a:lnTo>
                    <a:pt x="379" y="351"/>
                  </a:lnTo>
                  <a:lnTo>
                    <a:pt x="410" y="273"/>
                  </a:lnTo>
                  <a:lnTo>
                    <a:pt x="486" y="169"/>
                  </a:lnTo>
                  <a:lnTo>
                    <a:pt x="181" y="0"/>
                  </a:lnTo>
                  <a:lnTo>
                    <a:pt x="75" y="156"/>
                  </a:lnTo>
                  <a:lnTo>
                    <a:pt x="15" y="299"/>
                  </a:lnTo>
                  <a:lnTo>
                    <a:pt x="0" y="430"/>
                  </a:lnTo>
                  <a:lnTo>
                    <a:pt x="0" y="495"/>
                  </a:lnTo>
                  <a:lnTo>
                    <a:pt x="0" y="495"/>
                  </a:lnTo>
                  <a:lnTo>
                    <a:pt x="364" y="4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5559480"/>
              <a:ext cx="133560" cy="913320"/>
            </a:xfrm>
            <a:custGeom>
              <a:avLst/>
              <a:gdLst/>
              <a:ahLst/>
              <a:rect l="0" t="0" r="r" b="b"/>
              <a:pathLst>
                <a:path w="371" h="2537">
                  <a:moveTo>
                    <a:pt x="371" y="2537"/>
                  </a:moveTo>
                  <a:lnTo>
                    <a:pt x="371" y="2537"/>
                  </a:lnTo>
                  <a:lnTo>
                    <a:pt x="371" y="2048"/>
                  </a:lnTo>
                  <a:lnTo>
                    <a:pt x="371" y="1210"/>
                  </a:lnTo>
                  <a:lnTo>
                    <a:pt x="371" y="411"/>
                  </a:lnTo>
                  <a:lnTo>
                    <a:pt x="371" y="0"/>
                  </a:lnTo>
                  <a:lnTo>
                    <a:pt x="0" y="0"/>
                  </a:lnTo>
                  <a:lnTo>
                    <a:pt x="0" y="411"/>
                  </a:lnTo>
                  <a:lnTo>
                    <a:pt x="0" y="1210"/>
                  </a:lnTo>
                  <a:lnTo>
                    <a:pt x="0" y="2048"/>
                  </a:lnTo>
                  <a:lnTo>
                    <a:pt x="0" y="2537"/>
                  </a:lnTo>
                  <a:lnTo>
                    <a:pt x="0" y="2537"/>
                  </a:lnTo>
                  <a:lnTo>
                    <a:pt x="371" y="25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0" y="6472080"/>
              <a:ext cx="248040" cy="203400"/>
            </a:xfrm>
            <a:custGeom>
              <a:avLst/>
              <a:gdLst/>
              <a:ahLst/>
              <a:rect l="0" t="0" r="r" b="b"/>
              <a:pathLst>
                <a:path w="689" h="565">
                  <a:moveTo>
                    <a:pt x="689" y="256"/>
                  </a:moveTo>
                  <a:lnTo>
                    <a:pt x="689" y="256"/>
                  </a:lnTo>
                  <a:lnTo>
                    <a:pt x="567" y="243"/>
                  </a:lnTo>
                  <a:lnTo>
                    <a:pt x="505" y="243"/>
                  </a:lnTo>
                  <a:lnTo>
                    <a:pt x="444" y="218"/>
                  </a:lnTo>
                  <a:lnTo>
                    <a:pt x="413" y="192"/>
                  </a:lnTo>
                  <a:lnTo>
                    <a:pt x="398" y="166"/>
                  </a:lnTo>
                  <a:lnTo>
                    <a:pt x="383" y="102"/>
                  </a:lnTo>
                  <a:lnTo>
                    <a:pt x="367" y="64"/>
                  </a:lnTo>
                  <a:lnTo>
                    <a:pt x="367" y="0"/>
                  </a:lnTo>
                  <a:lnTo>
                    <a:pt x="0" y="0"/>
                  </a:lnTo>
                  <a:lnTo>
                    <a:pt x="0" y="89"/>
                  </a:lnTo>
                  <a:lnTo>
                    <a:pt x="15" y="192"/>
                  </a:lnTo>
                  <a:lnTo>
                    <a:pt x="61" y="308"/>
                  </a:lnTo>
                  <a:lnTo>
                    <a:pt x="152" y="385"/>
                  </a:lnTo>
                  <a:lnTo>
                    <a:pt x="245" y="475"/>
                  </a:lnTo>
                  <a:lnTo>
                    <a:pt x="398" y="526"/>
                  </a:lnTo>
                  <a:lnTo>
                    <a:pt x="537" y="552"/>
                  </a:lnTo>
                  <a:lnTo>
                    <a:pt x="689" y="565"/>
                  </a:lnTo>
                  <a:lnTo>
                    <a:pt x="689" y="565"/>
                  </a:lnTo>
                  <a:lnTo>
                    <a:pt x="689" y="2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47680" y="6562800"/>
              <a:ext cx="8663400" cy="113040"/>
            </a:xfrm>
            <a:custGeom>
              <a:avLst/>
              <a:gdLst/>
              <a:ahLst/>
              <a:rect l="0" t="0" r="r" b="b"/>
              <a:pathLst>
                <a:path w="24065" h="314">
                  <a:moveTo>
                    <a:pt x="24065" y="0"/>
                  </a:moveTo>
                  <a:lnTo>
                    <a:pt x="24065" y="0"/>
                  </a:lnTo>
                  <a:lnTo>
                    <a:pt x="23974" y="0"/>
                  </a:lnTo>
                  <a:lnTo>
                    <a:pt x="23731" y="0"/>
                  </a:lnTo>
                  <a:lnTo>
                    <a:pt x="23381" y="0"/>
                  </a:lnTo>
                  <a:lnTo>
                    <a:pt x="22925" y="0"/>
                  </a:lnTo>
                  <a:lnTo>
                    <a:pt x="22377" y="0"/>
                  </a:lnTo>
                  <a:lnTo>
                    <a:pt x="21723" y="0"/>
                  </a:lnTo>
                  <a:lnTo>
                    <a:pt x="20993" y="0"/>
                  </a:lnTo>
                  <a:lnTo>
                    <a:pt x="20187" y="0"/>
                  </a:lnTo>
                  <a:lnTo>
                    <a:pt x="19304" y="0"/>
                  </a:lnTo>
                  <a:lnTo>
                    <a:pt x="18376" y="0"/>
                  </a:lnTo>
                  <a:lnTo>
                    <a:pt x="17387" y="0"/>
                  </a:lnTo>
                  <a:lnTo>
                    <a:pt x="16368" y="0"/>
                  </a:lnTo>
                  <a:lnTo>
                    <a:pt x="15303" y="0"/>
                  </a:lnTo>
                  <a:lnTo>
                    <a:pt x="14223" y="0"/>
                  </a:lnTo>
                  <a:lnTo>
                    <a:pt x="13128" y="0"/>
                  </a:lnTo>
                  <a:lnTo>
                    <a:pt x="12017" y="0"/>
                  </a:lnTo>
                  <a:lnTo>
                    <a:pt x="10907" y="0"/>
                  </a:lnTo>
                  <a:lnTo>
                    <a:pt x="9812" y="0"/>
                  </a:lnTo>
                  <a:lnTo>
                    <a:pt x="8732" y="0"/>
                  </a:lnTo>
                  <a:lnTo>
                    <a:pt x="7667" y="0"/>
                  </a:lnTo>
                  <a:lnTo>
                    <a:pt x="6633" y="0"/>
                  </a:lnTo>
                  <a:lnTo>
                    <a:pt x="5658" y="0"/>
                  </a:lnTo>
                  <a:lnTo>
                    <a:pt x="4730" y="0"/>
                  </a:lnTo>
                  <a:lnTo>
                    <a:pt x="3848" y="0"/>
                  </a:lnTo>
                  <a:lnTo>
                    <a:pt x="3057" y="0"/>
                  </a:lnTo>
                  <a:lnTo>
                    <a:pt x="2327" y="0"/>
                  </a:lnTo>
                  <a:lnTo>
                    <a:pt x="1673" y="0"/>
                  </a:lnTo>
                  <a:lnTo>
                    <a:pt x="1125" y="0"/>
                  </a:lnTo>
                  <a:lnTo>
                    <a:pt x="654" y="0"/>
                  </a:lnTo>
                  <a:lnTo>
                    <a:pt x="334" y="0"/>
                  </a:lnTo>
                  <a:lnTo>
                    <a:pt x="91" y="0"/>
                  </a:lnTo>
                  <a:lnTo>
                    <a:pt x="0" y="0"/>
                  </a:lnTo>
                  <a:lnTo>
                    <a:pt x="0" y="314"/>
                  </a:lnTo>
                  <a:lnTo>
                    <a:pt x="91" y="314"/>
                  </a:lnTo>
                  <a:lnTo>
                    <a:pt x="334" y="314"/>
                  </a:lnTo>
                  <a:lnTo>
                    <a:pt x="654" y="314"/>
                  </a:lnTo>
                  <a:lnTo>
                    <a:pt x="1125" y="314"/>
                  </a:lnTo>
                  <a:lnTo>
                    <a:pt x="1673" y="314"/>
                  </a:lnTo>
                  <a:lnTo>
                    <a:pt x="2327" y="314"/>
                  </a:lnTo>
                  <a:lnTo>
                    <a:pt x="3057" y="314"/>
                  </a:lnTo>
                  <a:lnTo>
                    <a:pt x="3848" y="314"/>
                  </a:lnTo>
                  <a:lnTo>
                    <a:pt x="4730" y="314"/>
                  </a:lnTo>
                  <a:lnTo>
                    <a:pt x="5658" y="314"/>
                  </a:lnTo>
                  <a:lnTo>
                    <a:pt x="6633" y="314"/>
                  </a:lnTo>
                  <a:lnTo>
                    <a:pt x="7667" y="314"/>
                  </a:lnTo>
                  <a:lnTo>
                    <a:pt x="8732" y="314"/>
                  </a:lnTo>
                  <a:lnTo>
                    <a:pt x="9812" y="314"/>
                  </a:lnTo>
                  <a:lnTo>
                    <a:pt x="10907" y="314"/>
                  </a:lnTo>
                  <a:lnTo>
                    <a:pt x="12017" y="314"/>
                  </a:lnTo>
                  <a:lnTo>
                    <a:pt x="13128" y="314"/>
                  </a:lnTo>
                  <a:lnTo>
                    <a:pt x="14223" y="314"/>
                  </a:lnTo>
                  <a:lnTo>
                    <a:pt x="15303" y="314"/>
                  </a:lnTo>
                  <a:lnTo>
                    <a:pt x="16368" y="314"/>
                  </a:lnTo>
                  <a:lnTo>
                    <a:pt x="17387" y="314"/>
                  </a:lnTo>
                  <a:lnTo>
                    <a:pt x="18376" y="314"/>
                  </a:lnTo>
                  <a:lnTo>
                    <a:pt x="19304" y="314"/>
                  </a:lnTo>
                  <a:lnTo>
                    <a:pt x="20187" y="314"/>
                  </a:lnTo>
                  <a:lnTo>
                    <a:pt x="20993" y="314"/>
                  </a:lnTo>
                  <a:lnTo>
                    <a:pt x="21723" y="314"/>
                  </a:lnTo>
                  <a:lnTo>
                    <a:pt x="22377" y="314"/>
                  </a:lnTo>
                  <a:lnTo>
                    <a:pt x="22925" y="314"/>
                  </a:lnTo>
                  <a:lnTo>
                    <a:pt x="23381" y="314"/>
                  </a:lnTo>
                  <a:lnTo>
                    <a:pt x="23731" y="314"/>
                  </a:lnTo>
                  <a:lnTo>
                    <a:pt x="23974" y="314"/>
                  </a:lnTo>
                  <a:lnTo>
                    <a:pt x="24065" y="314"/>
                  </a:lnTo>
                  <a:lnTo>
                    <a:pt x="24065" y="314"/>
                  </a:lnTo>
                  <a:lnTo>
                    <a:pt x="240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910720" y="6491160"/>
              <a:ext cx="232200" cy="184680"/>
            </a:xfrm>
            <a:custGeom>
              <a:avLst/>
              <a:gdLst/>
              <a:ahLst/>
              <a:rect l="0" t="0" r="r" b="b"/>
              <a:pathLst>
                <a:path w="645" h="513">
                  <a:moveTo>
                    <a:pt x="276" y="0"/>
                  </a:moveTo>
                  <a:lnTo>
                    <a:pt x="276" y="0"/>
                  </a:lnTo>
                  <a:lnTo>
                    <a:pt x="246" y="127"/>
                  </a:lnTo>
                  <a:lnTo>
                    <a:pt x="246" y="167"/>
                  </a:lnTo>
                  <a:lnTo>
                    <a:pt x="200" y="192"/>
                  </a:lnTo>
                  <a:lnTo>
                    <a:pt x="0" y="205"/>
                  </a:lnTo>
                  <a:lnTo>
                    <a:pt x="0" y="513"/>
                  </a:lnTo>
                  <a:lnTo>
                    <a:pt x="307" y="475"/>
                  </a:lnTo>
                  <a:lnTo>
                    <a:pt x="523" y="359"/>
                  </a:lnTo>
                  <a:lnTo>
                    <a:pt x="615" y="180"/>
                  </a:lnTo>
                  <a:lnTo>
                    <a:pt x="645" y="0"/>
                  </a:lnTo>
                  <a:lnTo>
                    <a:pt x="645" y="0"/>
                  </a:lnTo>
                  <a:lnTo>
                    <a:pt x="2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9009000" y="5649840"/>
              <a:ext cx="133560" cy="841680"/>
            </a:xfrm>
            <a:custGeom>
              <a:avLst/>
              <a:gdLst/>
              <a:ahLst/>
              <a:rect l="0" t="0" r="r" b="b"/>
              <a:pathLst>
                <a:path w="371" h="2338">
                  <a:moveTo>
                    <a:pt x="0" y="0"/>
                  </a:moveTo>
                  <a:lnTo>
                    <a:pt x="0" y="0"/>
                  </a:lnTo>
                  <a:lnTo>
                    <a:pt x="0" y="387"/>
                  </a:lnTo>
                  <a:lnTo>
                    <a:pt x="0" y="1136"/>
                  </a:lnTo>
                  <a:lnTo>
                    <a:pt x="0" y="1899"/>
                  </a:lnTo>
                  <a:lnTo>
                    <a:pt x="0" y="2338"/>
                  </a:lnTo>
                  <a:lnTo>
                    <a:pt x="371" y="2338"/>
                  </a:lnTo>
                  <a:lnTo>
                    <a:pt x="371" y="1899"/>
                  </a:lnTo>
                  <a:lnTo>
                    <a:pt x="371" y="1136"/>
                  </a:lnTo>
                  <a:lnTo>
                    <a:pt x="371" y="387"/>
                  </a:lnTo>
                  <a:lnTo>
                    <a:pt x="371" y="0"/>
                  </a:lnTo>
                  <a:lnTo>
                    <a:pt x="371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953560" y="5359320"/>
              <a:ext cx="189360" cy="290880"/>
            </a:xfrm>
            <a:custGeom>
              <a:avLst/>
              <a:gdLst/>
              <a:ahLst/>
              <a:rect l="0" t="0" r="r" b="b"/>
              <a:pathLst>
                <a:path w="526" h="808">
                  <a:moveTo>
                    <a:pt x="0" y="179"/>
                  </a:moveTo>
                  <a:lnTo>
                    <a:pt x="0" y="153"/>
                  </a:lnTo>
                  <a:lnTo>
                    <a:pt x="104" y="372"/>
                  </a:lnTo>
                  <a:lnTo>
                    <a:pt x="135" y="538"/>
                  </a:lnTo>
                  <a:lnTo>
                    <a:pt x="165" y="680"/>
                  </a:lnTo>
                  <a:lnTo>
                    <a:pt x="165" y="808"/>
                  </a:lnTo>
                  <a:lnTo>
                    <a:pt x="526" y="808"/>
                  </a:lnTo>
                  <a:lnTo>
                    <a:pt x="526" y="680"/>
                  </a:lnTo>
                  <a:lnTo>
                    <a:pt x="496" y="513"/>
                  </a:lnTo>
                  <a:lnTo>
                    <a:pt x="436" y="282"/>
                  </a:lnTo>
                  <a:lnTo>
                    <a:pt x="285" y="12"/>
                  </a:lnTo>
                  <a:lnTo>
                    <a:pt x="285" y="0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790040" y="4021200"/>
              <a:ext cx="1265760" cy="1400400"/>
            </a:xfrm>
            <a:custGeom>
              <a:avLst/>
              <a:gdLst/>
              <a:ahLst/>
              <a:rect l="0" t="0" r="r" b="b"/>
              <a:pathLst>
                <a:path w="3516" h="3890">
                  <a:moveTo>
                    <a:pt x="0" y="167"/>
                  </a:moveTo>
                  <a:lnTo>
                    <a:pt x="0" y="167"/>
                  </a:lnTo>
                  <a:lnTo>
                    <a:pt x="45" y="218"/>
                  </a:lnTo>
                  <a:lnTo>
                    <a:pt x="152" y="334"/>
                  </a:lnTo>
                  <a:lnTo>
                    <a:pt x="304" y="515"/>
                  </a:lnTo>
                  <a:lnTo>
                    <a:pt x="502" y="746"/>
                  </a:lnTo>
                  <a:lnTo>
                    <a:pt x="730" y="1017"/>
                  </a:lnTo>
                  <a:lnTo>
                    <a:pt x="989" y="1300"/>
                  </a:lnTo>
                  <a:lnTo>
                    <a:pt x="1263" y="1609"/>
                  </a:lnTo>
                  <a:lnTo>
                    <a:pt x="1537" y="1931"/>
                  </a:lnTo>
                  <a:lnTo>
                    <a:pt x="1826" y="2254"/>
                  </a:lnTo>
                  <a:lnTo>
                    <a:pt x="2115" y="2589"/>
                  </a:lnTo>
                  <a:lnTo>
                    <a:pt x="2374" y="2898"/>
                  </a:lnTo>
                  <a:lnTo>
                    <a:pt x="2617" y="3182"/>
                  </a:lnTo>
                  <a:lnTo>
                    <a:pt x="2847" y="3413"/>
                  </a:lnTo>
                  <a:lnTo>
                    <a:pt x="3029" y="3632"/>
                  </a:lnTo>
                  <a:lnTo>
                    <a:pt x="3136" y="3787"/>
                  </a:lnTo>
                  <a:lnTo>
                    <a:pt x="3227" y="3890"/>
                  </a:lnTo>
                  <a:lnTo>
                    <a:pt x="3516" y="3710"/>
                  </a:lnTo>
                  <a:lnTo>
                    <a:pt x="3440" y="3619"/>
                  </a:lnTo>
                  <a:lnTo>
                    <a:pt x="3318" y="3465"/>
                  </a:lnTo>
                  <a:lnTo>
                    <a:pt x="3136" y="3246"/>
                  </a:lnTo>
                  <a:lnTo>
                    <a:pt x="2923" y="3014"/>
                  </a:lnTo>
                  <a:lnTo>
                    <a:pt x="2679" y="2731"/>
                  </a:lnTo>
                  <a:lnTo>
                    <a:pt x="2404" y="2409"/>
                  </a:lnTo>
                  <a:lnTo>
                    <a:pt x="2131" y="2087"/>
                  </a:lnTo>
                  <a:lnTo>
                    <a:pt x="1841" y="1764"/>
                  </a:lnTo>
                  <a:lnTo>
                    <a:pt x="1568" y="1442"/>
                  </a:lnTo>
                  <a:lnTo>
                    <a:pt x="1294" y="1133"/>
                  </a:lnTo>
                  <a:lnTo>
                    <a:pt x="1035" y="811"/>
                  </a:lnTo>
                  <a:lnTo>
                    <a:pt x="791" y="579"/>
                  </a:lnTo>
                  <a:lnTo>
                    <a:pt x="593" y="347"/>
                  </a:lnTo>
                  <a:lnTo>
                    <a:pt x="441" y="167"/>
                  </a:lnTo>
                  <a:lnTo>
                    <a:pt x="349" y="51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616880" y="3905280"/>
              <a:ext cx="282960" cy="178200"/>
            </a:xfrm>
            <a:custGeom>
              <a:avLst/>
              <a:gdLst/>
              <a:ahLst/>
              <a:rect l="0" t="0" r="r" b="b"/>
              <a:pathLst>
                <a:path w="786" h="495">
                  <a:moveTo>
                    <a:pt x="0" y="156"/>
                  </a:moveTo>
                  <a:lnTo>
                    <a:pt x="184" y="312"/>
                  </a:lnTo>
                  <a:lnTo>
                    <a:pt x="308" y="325"/>
                  </a:lnTo>
                  <a:lnTo>
                    <a:pt x="354" y="338"/>
                  </a:lnTo>
                  <a:lnTo>
                    <a:pt x="385" y="391"/>
                  </a:lnTo>
                  <a:lnTo>
                    <a:pt x="478" y="495"/>
                  </a:lnTo>
                  <a:lnTo>
                    <a:pt x="786" y="325"/>
                  </a:lnTo>
                  <a:lnTo>
                    <a:pt x="694" y="221"/>
                  </a:lnTo>
                  <a:lnTo>
                    <a:pt x="602" y="103"/>
                  </a:lnTo>
                  <a:lnTo>
                    <a:pt x="416" y="12"/>
                  </a:lnTo>
                  <a:lnTo>
                    <a:pt x="184" y="0"/>
                  </a:lnTo>
                  <a:lnTo>
                    <a:pt x="370" y="156"/>
                  </a:lnTo>
                  <a:lnTo>
                    <a:pt x="0" y="1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616880" y="3878280"/>
              <a:ext cx="133560" cy="111600"/>
            </a:xfrm>
            <a:custGeom>
              <a:avLst/>
              <a:gdLst/>
              <a:ahLst/>
              <a:rect l="0" t="0" r="r" b="b"/>
              <a:pathLst>
                <a:path w="371" h="310">
                  <a:moveTo>
                    <a:pt x="186" y="0"/>
                  </a:moveTo>
                  <a:lnTo>
                    <a:pt x="0" y="155"/>
                  </a:lnTo>
                  <a:lnTo>
                    <a:pt x="0" y="233"/>
                  </a:lnTo>
                  <a:lnTo>
                    <a:pt x="371" y="233"/>
                  </a:lnTo>
                  <a:lnTo>
                    <a:pt x="371" y="155"/>
                  </a:lnTo>
                  <a:lnTo>
                    <a:pt x="186" y="310"/>
                  </a:lnTo>
                  <a:lnTo>
                    <a:pt x="186" y="0"/>
                  </a:lnTo>
                  <a:lnTo>
                    <a:pt x="0" y="0"/>
                  </a:lnTo>
                  <a:lnTo>
                    <a:pt x="0" y="155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84920" y="3878280"/>
              <a:ext cx="89280" cy="111600"/>
            </a:xfrm>
            <a:custGeom>
              <a:avLst/>
              <a:gdLst/>
              <a:ahLst/>
              <a:rect l="0" t="0" r="r" b="b"/>
              <a:pathLst>
                <a:path w="248" h="310">
                  <a:moveTo>
                    <a:pt x="248" y="0"/>
                  </a:moveTo>
                  <a:lnTo>
                    <a:pt x="248" y="0"/>
                  </a:lnTo>
                  <a:lnTo>
                    <a:pt x="180" y="0"/>
                  </a:lnTo>
                  <a:lnTo>
                    <a:pt x="113" y="0"/>
                  </a:lnTo>
                  <a:lnTo>
                    <a:pt x="22" y="0"/>
                  </a:lnTo>
                  <a:lnTo>
                    <a:pt x="0" y="0"/>
                  </a:lnTo>
                  <a:lnTo>
                    <a:pt x="0" y="310"/>
                  </a:lnTo>
                  <a:lnTo>
                    <a:pt x="22" y="310"/>
                  </a:lnTo>
                  <a:lnTo>
                    <a:pt x="113" y="310"/>
                  </a:lnTo>
                  <a:lnTo>
                    <a:pt x="180" y="310"/>
                  </a:lnTo>
                  <a:lnTo>
                    <a:pt x="248" y="310"/>
                  </a:lnTo>
                  <a:lnTo>
                    <a:pt x="248" y="310"/>
                  </a:lnTo>
                  <a:lnTo>
                    <a:pt x="2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740720" y="3878280"/>
              <a:ext cx="128880" cy="111600"/>
            </a:xfrm>
            <a:custGeom>
              <a:avLst/>
              <a:gdLst/>
              <a:ahLst/>
              <a:rect l="0" t="0" r="r" b="b"/>
              <a:pathLst>
                <a:path w="358" h="310">
                  <a:moveTo>
                    <a:pt x="0" y="0"/>
                  </a:moveTo>
                  <a:lnTo>
                    <a:pt x="0" y="0"/>
                  </a:lnTo>
                  <a:lnTo>
                    <a:pt x="0" y="25"/>
                  </a:lnTo>
                  <a:lnTo>
                    <a:pt x="14" y="0"/>
                  </a:lnTo>
                  <a:lnTo>
                    <a:pt x="0" y="0"/>
                  </a:lnTo>
                  <a:lnTo>
                    <a:pt x="14" y="0"/>
                  </a:lnTo>
                  <a:lnTo>
                    <a:pt x="14" y="310"/>
                  </a:lnTo>
                  <a:lnTo>
                    <a:pt x="133" y="284"/>
                  </a:lnTo>
                  <a:lnTo>
                    <a:pt x="254" y="233"/>
                  </a:lnTo>
                  <a:lnTo>
                    <a:pt x="328" y="116"/>
                  </a:lnTo>
                  <a:lnTo>
                    <a:pt x="358" y="0"/>
                  </a:lnTo>
                  <a:lnTo>
                    <a:pt x="3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740720" y="155520"/>
              <a:ext cx="128880" cy="3723120"/>
            </a:xfrm>
            <a:custGeom>
              <a:avLst/>
              <a:gdLst/>
              <a:ahLst/>
              <a:rect l="0" t="0" r="r" b="b"/>
              <a:pathLst>
                <a:path w="358" h="10342">
                  <a:moveTo>
                    <a:pt x="0" y="0"/>
                  </a:moveTo>
                  <a:lnTo>
                    <a:pt x="0" y="0"/>
                  </a:lnTo>
                  <a:lnTo>
                    <a:pt x="0" y="1676"/>
                  </a:lnTo>
                  <a:lnTo>
                    <a:pt x="0" y="5197"/>
                  </a:lnTo>
                  <a:lnTo>
                    <a:pt x="0" y="8705"/>
                  </a:lnTo>
                  <a:lnTo>
                    <a:pt x="0" y="10342"/>
                  </a:lnTo>
                  <a:lnTo>
                    <a:pt x="358" y="10342"/>
                  </a:lnTo>
                  <a:lnTo>
                    <a:pt x="358" y="8705"/>
                  </a:lnTo>
                  <a:lnTo>
                    <a:pt x="358" y="5197"/>
                  </a:lnTo>
                  <a:lnTo>
                    <a:pt x="358" y="1676"/>
                  </a:lnTo>
                  <a:lnTo>
                    <a:pt x="358" y="0"/>
                  </a:lnTo>
                  <a:lnTo>
                    <a:pt x="35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675560" y="0"/>
              <a:ext cx="194040" cy="155880"/>
            </a:xfrm>
            <a:custGeom>
              <a:avLst/>
              <a:gdLst/>
              <a:ahLst/>
              <a:rect l="0" t="0" r="r" b="b"/>
              <a:pathLst>
                <a:path w="539" h="433">
                  <a:moveTo>
                    <a:pt x="0" y="306"/>
                  </a:moveTo>
                  <a:lnTo>
                    <a:pt x="0" y="306"/>
                  </a:lnTo>
                  <a:lnTo>
                    <a:pt x="134" y="331"/>
                  </a:lnTo>
                  <a:lnTo>
                    <a:pt x="150" y="356"/>
                  </a:lnTo>
                  <a:lnTo>
                    <a:pt x="180" y="369"/>
                  </a:lnTo>
                  <a:lnTo>
                    <a:pt x="180" y="433"/>
                  </a:lnTo>
                  <a:lnTo>
                    <a:pt x="539" y="433"/>
                  </a:lnTo>
                  <a:lnTo>
                    <a:pt x="510" y="280"/>
                  </a:lnTo>
                  <a:lnTo>
                    <a:pt x="405" y="127"/>
                  </a:lnTo>
                  <a:lnTo>
                    <a:pt x="225" y="5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644480" y="0"/>
              <a:ext cx="6031440" cy="113040"/>
            </a:xfrm>
            <a:custGeom>
              <a:avLst/>
              <a:gdLst/>
              <a:ahLst/>
              <a:rect l="0" t="0" r="r" b="b"/>
              <a:pathLst>
                <a:path w="16754" h="314">
                  <a:moveTo>
                    <a:pt x="0" y="314"/>
                  </a:moveTo>
                  <a:lnTo>
                    <a:pt x="0" y="314"/>
                  </a:lnTo>
                  <a:lnTo>
                    <a:pt x="60" y="314"/>
                  </a:lnTo>
                  <a:lnTo>
                    <a:pt x="213" y="314"/>
                  </a:lnTo>
                  <a:lnTo>
                    <a:pt x="456" y="314"/>
                  </a:lnTo>
                  <a:lnTo>
                    <a:pt x="745" y="314"/>
                  </a:lnTo>
                  <a:lnTo>
                    <a:pt x="1125" y="314"/>
                  </a:lnTo>
                  <a:lnTo>
                    <a:pt x="1582" y="314"/>
                  </a:lnTo>
                  <a:lnTo>
                    <a:pt x="2099" y="314"/>
                  </a:lnTo>
                  <a:lnTo>
                    <a:pt x="2647" y="314"/>
                  </a:lnTo>
                  <a:lnTo>
                    <a:pt x="3256" y="314"/>
                  </a:lnTo>
                  <a:lnTo>
                    <a:pt x="3910" y="314"/>
                  </a:lnTo>
                  <a:lnTo>
                    <a:pt x="4580" y="314"/>
                  </a:lnTo>
                  <a:lnTo>
                    <a:pt x="5296" y="314"/>
                  </a:lnTo>
                  <a:lnTo>
                    <a:pt x="6026" y="314"/>
                  </a:lnTo>
                  <a:lnTo>
                    <a:pt x="6787" y="314"/>
                  </a:lnTo>
                  <a:lnTo>
                    <a:pt x="7563" y="314"/>
                  </a:lnTo>
                  <a:lnTo>
                    <a:pt x="8339" y="314"/>
                  </a:lnTo>
                  <a:lnTo>
                    <a:pt x="9100" y="314"/>
                  </a:lnTo>
                  <a:lnTo>
                    <a:pt x="9860" y="314"/>
                  </a:lnTo>
                  <a:lnTo>
                    <a:pt x="10636" y="314"/>
                  </a:lnTo>
                  <a:lnTo>
                    <a:pt x="11367" y="314"/>
                  </a:lnTo>
                  <a:lnTo>
                    <a:pt x="12097" y="314"/>
                  </a:lnTo>
                  <a:lnTo>
                    <a:pt x="12768" y="314"/>
                  </a:lnTo>
                  <a:lnTo>
                    <a:pt x="13422" y="314"/>
                  </a:lnTo>
                  <a:lnTo>
                    <a:pt x="14030" y="314"/>
                  </a:lnTo>
                  <a:lnTo>
                    <a:pt x="14593" y="314"/>
                  </a:lnTo>
                  <a:lnTo>
                    <a:pt x="15111" y="314"/>
                  </a:lnTo>
                  <a:lnTo>
                    <a:pt x="15567" y="314"/>
                  </a:lnTo>
                  <a:lnTo>
                    <a:pt x="15963" y="314"/>
                  </a:lnTo>
                  <a:lnTo>
                    <a:pt x="16282" y="314"/>
                  </a:lnTo>
                  <a:lnTo>
                    <a:pt x="16526" y="314"/>
                  </a:lnTo>
                  <a:lnTo>
                    <a:pt x="16693" y="314"/>
                  </a:lnTo>
                  <a:lnTo>
                    <a:pt x="16754" y="314"/>
                  </a:lnTo>
                  <a:lnTo>
                    <a:pt x="16754" y="0"/>
                  </a:lnTo>
                  <a:lnTo>
                    <a:pt x="16693" y="0"/>
                  </a:lnTo>
                  <a:lnTo>
                    <a:pt x="16526" y="0"/>
                  </a:lnTo>
                  <a:lnTo>
                    <a:pt x="16282" y="0"/>
                  </a:lnTo>
                  <a:lnTo>
                    <a:pt x="15963" y="0"/>
                  </a:lnTo>
                  <a:lnTo>
                    <a:pt x="15567" y="0"/>
                  </a:lnTo>
                  <a:lnTo>
                    <a:pt x="15111" y="0"/>
                  </a:lnTo>
                  <a:lnTo>
                    <a:pt x="14593" y="0"/>
                  </a:lnTo>
                  <a:lnTo>
                    <a:pt x="14030" y="0"/>
                  </a:lnTo>
                  <a:lnTo>
                    <a:pt x="13422" y="0"/>
                  </a:lnTo>
                  <a:lnTo>
                    <a:pt x="12768" y="0"/>
                  </a:lnTo>
                  <a:lnTo>
                    <a:pt x="12097" y="0"/>
                  </a:lnTo>
                  <a:lnTo>
                    <a:pt x="11367" y="0"/>
                  </a:lnTo>
                  <a:lnTo>
                    <a:pt x="10636" y="0"/>
                  </a:lnTo>
                  <a:lnTo>
                    <a:pt x="9860" y="0"/>
                  </a:lnTo>
                  <a:lnTo>
                    <a:pt x="9100" y="0"/>
                  </a:lnTo>
                  <a:lnTo>
                    <a:pt x="8339" y="0"/>
                  </a:lnTo>
                  <a:lnTo>
                    <a:pt x="7563" y="0"/>
                  </a:lnTo>
                  <a:lnTo>
                    <a:pt x="6787" y="0"/>
                  </a:lnTo>
                  <a:lnTo>
                    <a:pt x="6026" y="0"/>
                  </a:lnTo>
                  <a:lnTo>
                    <a:pt x="5296" y="0"/>
                  </a:lnTo>
                  <a:lnTo>
                    <a:pt x="4580" y="0"/>
                  </a:lnTo>
                  <a:lnTo>
                    <a:pt x="3910" y="0"/>
                  </a:lnTo>
                  <a:lnTo>
                    <a:pt x="3256" y="0"/>
                  </a:lnTo>
                  <a:lnTo>
                    <a:pt x="2647" y="0"/>
                  </a:lnTo>
                  <a:lnTo>
                    <a:pt x="2099" y="0"/>
                  </a:lnTo>
                  <a:lnTo>
                    <a:pt x="1582" y="0"/>
                  </a:lnTo>
                  <a:lnTo>
                    <a:pt x="1125" y="0"/>
                  </a:lnTo>
                  <a:lnTo>
                    <a:pt x="745" y="0"/>
                  </a:lnTo>
                  <a:lnTo>
                    <a:pt x="456" y="0"/>
                  </a:lnTo>
                  <a:lnTo>
                    <a:pt x="213" y="0"/>
                  </a:lnTo>
                  <a:lnTo>
                    <a:pt x="6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3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565280" y="155520"/>
              <a:ext cx="6120000" cy="3716640"/>
            </a:xfrm>
            <a:custGeom>
              <a:avLst/>
              <a:gdLst/>
              <a:ahLst/>
              <a:rect l="0" t="0" r="r" b="b"/>
              <a:pathLst>
                <a:path w="17000" h="10324">
                  <a:moveTo>
                    <a:pt x="17000" y="10324"/>
                  </a:moveTo>
                  <a:lnTo>
                    <a:pt x="17000" y="0"/>
                  </a:lnTo>
                  <a:lnTo>
                    <a:pt x="0" y="0"/>
                  </a:lnTo>
                  <a:lnTo>
                    <a:pt x="0" y="10324"/>
                  </a:lnTo>
                  <a:lnTo>
                    <a:pt x="17000" y="10324"/>
                  </a:lnTo>
                  <a:close/>
                </a:path>
              </a:pathLst>
            </a:custGeom>
            <a:solidFill>
              <a:srgbClr val="c58e5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16880" y="100080"/>
              <a:ext cx="133560" cy="3772080"/>
            </a:xfrm>
            <a:custGeom>
              <a:avLst/>
              <a:gdLst/>
              <a:ahLst/>
              <a:rect l="0" t="0" r="r" b="b"/>
              <a:pathLst>
                <a:path w="371" h="10478">
                  <a:moveTo>
                    <a:pt x="186" y="309"/>
                  </a:moveTo>
                  <a:lnTo>
                    <a:pt x="0" y="154"/>
                  </a:lnTo>
                  <a:lnTo>
                    <a:pt x="0" y="10478"/>
                  </a:lnTo>
                  <a:lnTo>
                    <a:pt x="371" y="10478"/>
                  </a:lnTo>
                  <a:lnTo>
                    <a:pt x="371" y="154"/>
                  </a:lnTo>
                  <a:lnTo>
                    <a:pt x="186" y="0"/>
                  </a:lnTo>
                  <a:lnTo>
                    <a:pt x="371" y="154"/>
                  </a:lnTo>
                  <a:lnTo>
                    <a:pt x="371" y="0"/>
                  </a:lnTo>
                  <a:lnTo>
                    <a:pt x="186" y="0"/>
                  </a:lnTo>
                  <a:lnTo>
                    <a:pt x="186" y="30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00120" y="155520"/>
              <a:ext cx="130680" cy="3775320"/>
            </a:xfrm>
            <a:custGeom>
              <a:avLst/>
              <a:gdLst/>
              <a:ahLst/>
              <a:rect l="0" t="0" r="r" b="b"/>
              <a:pathLst>
                <a:path w="363" h="10487">
                  <a:moveTo>
                    <a:pt x="181" y="10177"/>
                  </a:moveTo>
                  <a:lnTo>
                    <a:pt x="363" y="10332"/>
                  </a:lnTo>
                  <a:lnTo>
                    <a:pt x="363" y="0"/>
                  </a:lnTo>
                  <a:lnTo>
                    <a:pt x="0" y="0"/>
                  </a:lnTo>
                  <a:lnTo>
                    <a:pt x="0" y="10332"/>
                  </a:lnTo>
                  <a:lnTo>
                    <a:pt x="181" y="10487"/>
                  </a:lnTo>
                  <a:lnTo>
                    <a:pt x="0" y="10332"/>
                  </a:lnTo>
                  <a:lnTo>
                    <a:pt x="0" y="10487"/>
                  </a:lnTo>
                  <a:lnTo>
                    <a:pt x="181" y="10487"/>
                  </a:lnTo>
                  <a:lnTo>
                    <a:pt x="181" y="10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565280" y="3816360"/>
              <a:ext cx="6185160" cy="114840"/>
            </a:xfrm>
            <a:custGeom>
              <a:avLst/>
              <a:gdLst/>
              <a:ahLst/>
              <a:rect l="0" t="0" r="r" b="b"/>
              <a:pathLst>
                <a:path w="17181" h="319">
                  <a:moveTo>
                    <a:pt x="16816" y="159"/>
                  </a:moveTo>
                  <a:lnTo>
                    <a:pt x="16998" y="0"/>
                  </a:lnTo>
                  <a:lnTo>
                    <a:pt x="0" y="0"/>
                  </a:lnTo>
                  <a:lnTo>
                    <a:pt x="0" y="319"/>
                  </a:lnTo>
                  <a:lnTo>
                    <a:pt x="16998" y="319"/>
                  </a:lnTo>
                  <a:lnTo>
                    <a:pt x="17181" y="159"/>
                  </a:lnTo>
                  <a:lnTo>
                    <a:pt x="16998" y="319"/>
                  </a:lnTo>
                  <a:lnTo>
                    <a:pt x="17181" y="319"/>
                  </a:lnTo>
                  <a:lnTo>
                    <a:pt x="17181" y="159"/>
                  </a:lnTo>
                  <a:lnTo>
                    <a:pt x="16816" y="1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14520" y="4030560"/>
              <a:ext cx="6171120" cy="682920"/>
            </a:xfrm>
            <a:custGeom>
              <a:avLst/>
              <a:gdLst/>
              <a:ahLst/>
              <a:rect l="0" t="0" r="r" b="b"/>
              <a:pathLst>
                <a:path w="17142" h="1897">
                  <a:moveTo>
                    <a:pt x="0" y="1897"/>
                  </a:moveTo>
                  <a:lnTo>
                    <a:pt x="0" y="0"/>
                  </a:lnTo>
                  <a:lnTo>
                    <a:pt x="17142" y="0"/>
                  </a:lnTo>
                  <a:lnTo>
                    <a:pt x="17142" y="1897"/>
                  </a:lnTo>
                  <a:lnTo>
                    <a:pt x="0" y="1897"/>
                  </a:lnTo>
                  <a:close/>
                </a:path>
              </a:pathLst>
            </a:custGeom>
            <a:solidFill>
              <a:srgbClr val="c58e5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57280" y="3986280"/>
              <a:ext cx="108360" cy="727560"/>
            </a:xfrm>
            <a:custGeom>
              <a:avLst/>
              <a:gdLst/>
              <a:ahLst/>
              <a:rect l="0" t="0" r="r" b="b"/>
              <a:pathLst>
                <a:path w="301" h="2021">
                  <a:moveTo>
                    <a:pt x="150" y="0"/>
                  </a:moveTo>
                  <a:lnTo>
                    <a:pt x="0" y="128"/>
                  </a:lnTo>
                  <a:lnTo>
                    <a:pt x="0" y="2021"/>
                  </a:lnTo>
                  <a:lnTo>
                    <a:pt x="301" y="2021"/>
                  </a:lnTo>
                  <a:lnTo>
                    <a:pt x="301" y="128"/>
                  </a:lnTo>
                  <a:lnTo>
                    <a:pt x="150" y="257"/>
                  </a:lnTo>
                  <a:lnTo>
                    <a:pt x="150" y="0"/>
                  </a:lnTo>
                  <a:lnTo>
                    <a:pt x="0" y="0"/>
                  </a:lnTo>
                  <a:lnTo>
                    <a:pt x="0" y="128"/>
                  </a:lnTo>
                  <a:lnTo>
                    <a:pt x="15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14520" y="3986280"/>
              <a:ext cx="6226560" cy="90720"/>
            </a:xfrm>
            <a:custGeom>
              <a:avLst/>
              <a:gdLst/>
              <a:ahLst/>
              <a:rect l="0" t="0" r="r" b="b"/>
              <a:pathLst>
                <a:path w="17296" h="252">
                  <a:moveTo>
                    <a:pt x="17296" y="125"/>
                  </a:moveTo>
                  <a:lnTo>
                    <a:pt x="17144" y="0"/>
                  </a:lnTo>
                  <a:lnTo>
                    <a:pt x="0" y="0"/>
                  </a:lnTo>
                  <a:lnTo>
                    <a:pt x="0" y="252"/>
                  </a:lnTo>
                  <a:lnTo>
                    <a:pt x="17144" y="252"/>
                  </a:lnTo>
                  <a:lnTo>
                    <a:pt x="17007" y="125"/>
                  </a:lnTo>
                  <a:lnTo>
                    <a:pt x="17296" y="125"/>
                  </a:lnTo>
                  <a:lnTo>
                    <a:pt x="17296" y="0"/>
                  </a:lnTo>
                  <a:lnTo>
                    <a:pt x="17144" y="0"/>
                  </a:lnTo>
                  <a:lnTo>
                    <a:pt x="17296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637400" y="4030560"/>
              <a:ext cx="103680" cy="730440"/>
            </a:xfrm>
            <a:custGeom>
              <a:avLst/>
              <a:gdLst/>
              <a:ahLst/>
              <a:rect l="0" t="0" r="r" b="b"/>
              <a:pathLst>
                <a:path w="288" h="2029">
                  <a:moveTo>
                    <a:pt x="136" y="2029"/>
                  </a:moveTo>
                  <a:lnTo>
                    <a:pt x="288" y="1900"/>
                  </a:lnTo>
                  <a:lnTo>
                    <a:pt x="288" y="0"/>
                  </a:lnTo>
                  <a:lnTo>
                    <a:pt x="0" y="0"/>
                  </a:lnTo>
                  <a:lnTo>
                    <a:pt x="0" y="1900"/>
                  </a:lnTo>
                  <a:lnTo>
                    <a:pt x="136" y="1771"/>
                  </a:lnTo>
                  <a:lnTo>
                    <a:pt x="136" y="2029"/>
                  </a:lnTo>
                  <a:lnTo>
                    <a:pt x="288" y="2029"/>
                  </a:lnTo>
                  <a:lnTo>
                    <a:pt x="288" y="1900"/>
                  </a:lnTo>
                  <a:lnTo>
                    <a:pt x="136" y="20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457280" y="4667400"/>
              <a:ext cx="6228000" cy="93960"/>
            </a:xfrm>
            <a:custGeom>
              <a:avLst/>
              <a:gdLst/>
              <a:ahLst/>
              <a:rect l="0" t="0" r="r" b="b"/>
              <a:pathLst>
                <a:path w="17300" h="261">
                  <a:moveTo>
                    <a:pt x="0" y="131"/>
                  </a:moveTo>
                  <a:lnTo>
                    <a:pt x="152" y="261"/>
                  </a:lnTo>
                  <a:lnTo>
                    <a:pt x="17300" y="261"/>
                  </a:lnTo>
                  <a:lnTo>
                    <a:pt x="17300" y="0"/>
                  </a:lnTo>
                  <a:lnTo>
                    <a:pt x="152" y="0"/>
                  </a:lnTo>
                  <a:lnTo>
                    <a:pt x="304" y="131"/>
                  </a:lnTo>
                  <a:lnTo>
                    <a:pt x="0" y="131"/>
                  </a:lnTo>
                  <a:lnTo>
                    <a:pt x="0" y="261"/>
                  </a:lnTo>
                  <a:lnTo>
                    <a:pt x="152" y="261"/>
                  </a:lnTo>
                  <a:lnTo>
                    <a:pt x="0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71440" y="4030560"/>
              <a:ext cx="1243440" cy="1416240"/>
            </a:xfrm>
            <a:custGeom>
              <a:avLst/>
              <a:gdLst/>
              <a:ahLst/>
              <a:rect l="0" t="0" r="r" b="b"/>
              <a:pathLst>
                <a:path w="3454" h="3934">
                  <a:moveTo>
                    <a:pt x="3454" y="0"/>
                  </a:moveTo>
                  <a:lnTo>
                    <a:pt x="3454" y="1895"/>
                  </a:lnTo>
                  <a:lnTo>
                    <a:pt x="1895" y="3934"/>
                  </a:lnTo>
                  <a:lnTo>
                    <a:pt x="0" y="3934"/>
                  </a:lnTo>
                  <a:lnTo>
                    <a:pt x="3454" y="0"/>
                  </a:lnTo>
                  <a:close/>
                </a:path>
              </a:pathLst>
            </a:custGeom>
            <a:solidFill>
              <a:srgbClr val="c58e5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57280" y="4030560"/>
              <a:ext cx="108360" cy="711720"/>
            </a:xfrm>
            <a:custGeom>
              <a:avLst/>
              <a:gdLst/>
              <a:ahLst/>
              <a:rect l="0" t="0" r="r" b="b"/>
              <a:pathLst>
                <a:path w="301" h="1977">
                  <a:moveTo>
                    <a:pt x="271" y="1977"/>
                  </a:moveTo>
                  <a:lnTo>
                    <a:pt x="301" y="1900"/>
                  </a:lnTo>
                  <a:lnTo>
                    <a:pt x="301" y="0"/>
                  </a:lnTo>
                  <a:lnTo>
                    <a:pt x="0" y="0"/>
                  </a:lnTo>
                  <a:lnTo>
                    <a:pt x="0" y="1900"/>
                  </a:lnTo>
                  <a:lnTo>
                    <a:pt x="29" y="1835"/>
                  </a:lnTo>
                  <a:lnTo>
                    <a:pt x="271" y="1977"/>
                  </a:lnTo>
                  <a:lnTo>
                    <a:pt x="301" y="1925"/>
                  </a:lnTo>
                  <a:lnTo>
                    <a:pt x="301" y="1900"/>
                  </a:lnTo>
                  <a:lnTo>
                    <a:pt x="271" y="19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07920" y="4689360"/>
              <a:ext cx="648000" cy="805320"/>
            </a:xfrm>
            <a:custGeom>
              <a:avLst/>
              <a:gdLst/>
              <a:ahLst/>
              <a:rect l="0" t="0" r="r" b="b"/>
              <a:pathLst>
                <a:path w="1800" h="2237">
                  <a:moveTo>
                    <a:pt x="121" y="2237"/>
                  </a:moveTo>
                  <a:lnTo>
                    <a:pt x="228" y="2186"/>
                  </a:lnTo>
                  <a:lnTo>
                    <a:pt x="1800" y="142"/>
                  </a:lnTo>
                  <a:lnTo>
                    <a:pt x="1556" y="0"/>
                  </a:lnTo>
                  <a:lnTo>
                    <a:pt x="0" y="2043"/>
                  </a:lnTo>
                  <a:lnTo>
                    <a:pt x="121" y="1979"/>
                  </a:lnTo>
                  <a:lnTo>
                    <a:pt x="121" y="2237"/>
                  </a:lnTo>
                  <a:lnTo>
                    <a:pt x="198" y="2237"/>
                  </a:lnTo>
                  <a:lnTo>
                    <a:pt x="228" y="2186"/>
                  </a:lnTo>
                  <a:lnTo>
                    <a:pt x="121" y="22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9920" y="5402160"/>
              <a:ext cx="783000" cy="92520"/>
            </a:xfrm>
            <a:custGeom>
              <a:avLst/>
              <a:gdLst/>
              <a:ahLst/>
              <a:rect l="0" t="0" r="r" b="b"/>
              <a:pathLst>
                <a:path w="2175" h="257">
                  <a:moveTo>
                    <a:pt x="182" y="63"/>
                  </a:moveTo>
                  <a:lnTo>
                    <a:pt x="288" y="257"/>
                  </a:lnTo>
                  <a:lnTo>
                    <a:pt x="2175" y="257"/>
                  </a:lnTo>
                  <a:lnTo>
                    <a:pt x="2175" y="0"/>
                  </a:lnTo>
                  <a:lnTo>
                    <a:pt x="288" y="0"/>
                  </a:lnTo>
                  <a:lnTo>
                    <a:pt x="410" y="206"/>
                  </a:lnTo>
                  <a:lnTo>
                    <a:pt x="182" y="63"/>
                  </a:lnTo>
                  <a:lnTo>
                    <a:pt x="0" y="257"/>
                  </a:lnTo>
                  <a:lnTo>
                    <a:pt x="288" y="257"/>
                  </a:lnTo>
                  <a:lnTo>
                    <a:pt x="182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237960" y="3886200"/>
              <a:ext cx="1327680" cy="1589400"/>
            </a:xfrm>
            <a:custGeom>
              <a:avLst/>
              <a:gdLst/>
              <a:ahLst/>
              <a:rect l="0" t="0" r="r" b="b"/>
              <a:pathLst>
                <a:path w="3688" h="4415">
                  <a:moveTo>
                    <a:pt x="3688" y="400"/>
                  </a:moveTo>
                  <a:lnTo>
                    <a:pt x="3415" y="335"/>
                  </a:lnTo>
                  <a:lnTo>
                    <a:pt x="0" y="4273"/>
                  </a:lnTo>
                  <a:lnTo>
                    <a:pt x="227" y="4415"/>
                  </a:lnTo>
                  <a:lnTo>
                    <a:pt x="3658" y="477"/>
                  </a:lnTo>
                  <a:lnTo>
                    <a:pt x="3385" y="400"/>
                  </a:lnTo>
                  <a:lnTo>
                    <a:pt x="3688" y="400"/>
                  </a:lnTo>
                  <a:lnTo>
                    <a:pt x="3688" y="0"/>
                  </a:lnTo>
                  <a:lnTo>
                    <a:pt x="3415" y="335"/>
                  </a:lnTo>
                  <a:lnTo>
                    <a:pt x="3688" y="4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684920" y="4030560"/>
              <a:ext cx="1236960" cy="1416240"/>
            </a:xfrm>
            <a:custGeom>
              <a:avLst/>
              <a:gdLst/>
              <a:ahLst/>
              <a:rect l="0" t="0" r="r" b="b"/>
              <a:pathLst>
                <a:path w="3436" h="3934">
                  <a:moveTo>
                    <a:pt x="0" y="0"/>
                  </a:moveTo>
                  <a:lnTo>
                    <a:pt x="0" y="1895"/>
                  </a:lnTo>
                  <a:lnTo>
                    <a:pt x="1565" y="3934"/>
                  </a:lnTo>
                  <a:lnTo>
                    <a:pt x="3436" y="393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58e5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637400" y="4030560"/>
              <a:ext cx="103680" cy="711720"/>
            </a:xfrm>
            <a:custGeom>
              <a:avLst/>
              <a:gdLst/>
              <a:ahLst/>
              <a:rect l="0" t="0" r="r" b="b"/>
              <a:pathLst>
                <a:path w="288" h="1977">
                  <a:moveTo>
                    <a:pt x="258" y="1835"/>
                  </a:moveTo>
                  <a:lnTo>
                    <a:pt x="288" y="1900"/>
                  </a:lnTo>
                  <a:lnTo>
                    <a:pt x="288" y="0"/>
                  </a:lnTo>
                  <a:lnTo>
                    <a:pt x="0" y="0"/>
                  </a:lnTo>
                  <a:lnTo>
                    <a:pt x="0" y="1900"/>
                  </a:lnTo>
                  <a:lnTo>
                    <a:pt x="30" y="1977"/>
                  </a:lnTo>
                  <a:lnTo>
                    <a:pt x="0" y="1900"/>
                  </a:lnTo>
                  <a:lnTo>
                    <a:pt x="0" y="1925"/>
                  </a:lnTo>
                  <a:lnTo>
                    <a:pt x="30" y="1977"/>
                  </a:lnTo>
                  <a:lnTo>
                    <a:pt x="258" y="18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47120" y="4689360"/>
              <a:ext cx="646560" cy="805320"/>
            </a:xfrm>
            <a:custGeom>
              <a:avLst/>
              <a:gdLst/>
              <a:ahLst/>
              <a:rect l="0" t="0" r="r" b="b"/>
              <a:pathLst>
                <a:path w="1796" h="2237">
                  <a:moveTo>
                    <a:pt x="1675" y="1979"/>
                  </a:moveTo>
                  <a:lnTo>
                    <a:pt x="1796" y="2043"/>
                  </a:lnTo>
                  <a:lnTo>
                    <a:pt x="228" y="0"/>
                  </a:lnTo>
                  <a:lnTo>
                    <a:pt x="0" y="142"/>
                  </a:lnTo>
                  <a:lnTo>
                    <a:pt x="1553" y="2186"/>
                  </a:lnTo>
                  <a:lnTo>
                    <a:pt x="1675" y="2237"/>
                  </a:lnTo>
                  <a:lnTo>
                    <a:pt x="1553" y="2186"/>
                  </a:lnTo>
                  <a:lnTo>
                    <a:pt x="1583" y="2237"/>
                  </a:lnTo>
                  <a:lnTo>
                    <a:pt x="1675" y="2237"/>
                  </a:lnTo>
                  <a:lnTo>
                    <a:pt x="1675" y="19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250120" y="5402160"/>
              <a:ext cx="784440" cy="92520"/>
            </a:xfrm>
            <a:custGeom>
              <a:avLst/>
              <a:gdLst/>
              <a:ahLst/>
              <a:rect l="0" t="0" r="r" b="b"/>
              <a:pathLst>
                <a:path w="2179" h="257">
                  <a:moveTo>
                    <a:pt x="1768" y="206"/>
                  </a:moveTo>
                  <a:lnTo>
                    <a:pt x="1874" y="0"/>
                  </a:lnTo>
                  <a:lnTo>
                    <a:pt x="0" y="0"/>
                  </a:lnTo>
                  <a:lnTo>
                    <a:pt x="0" y="257"/>
                  </a:lnTo>
                  <a:lnTo>
                    <a:pt x="1874" y="257"/>
                  </a:lnTo>
                  <a:lnTo>
                    <a:pt x="1996" y="63"/>
                  </a:lnTo>
                  <a:lnTo>
                    <a:pt x="1874" y="257"/>
                  </a:lnTo>
                  <a:lnTo>
                    <a:pt x="2179" y="257"/>
                  </a:lnTo>
                  <a:lnTo>
                    <a:pt x="1996" y="63"/>
                  </a:lnTo>
                  <a:lnTo>
                    <a:pt x="1768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37400" y="3886200"/>
              <a:ext cx="1330560" cy="1589400"/>
            </a:xfrm>
            <a:custGeom>
              <a:avLst/>
              <a:gdLst/>
              <a:ahLst/>
              <a:rect l="0" t="0" r="r" b="b"/>
              <a:pathLst>
                <a:path w="3696" h="4415">
                  <a:moveTo>
                    <a:pt x="288" y="400"/>
                  </a:moveTo>
                  <a:lnTo>
                    <a:pt x="30" y="477"/>
                  </a:lnTo>
                  <a:lnTo>
                    <a:pt x="3468" y="4415"/>
                  </a:lnTo>
                  <a:lnTo>
                    <a:pt x="3696" y="4273"/>
                  </a:lnTo>
                  <a:lnTo>
                    <a:pt x="258" y="335"/>
                  </a:lnTo>
                  <a:lnTo>
                    <a:pt x="0" y="400"/>
                  </a:lnTo>
                  <a:lnTo>
                    <a:pt x="258" y="335"/>
                  </a:lnTo>
                  <a:lnTo>
                    <a:pt x="0" y="0"/>
                  </a:lnTo>
                  <a:lnTo>
                    <a:pt x="0" y="400"/>
                  </a:lnTo>
                  <a:lnTo>
                    <a:pt x="288" y="4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942840" y="4713120"/>
              <a:ext cx="7307640" cy="733680"/>
            </a:xfrm>
            <a:custGeom>
              <a:avLst/>
              <a:gdLst/>
              <a:ahLst/>
              <a:rect l="0" t="0" r="r" b="b"/>
              <a:pathLst>
                <a:path w="20299" h="2038">
                  <a:moveTo>
                    <a:pt x="1597" y="0"/>
                  </a:moveTo>
                  <a:lnTo>
                    <a:pt x="0" y="2038"/>
                  </a:lnTo>
                  <a:lnTo>
                    <a:pt x="20299" y="2038"/>
                  </a:lnTo>
                  <a:lnTo>
                    <a:pt x="18732" y="0"/>
                  </a:lnTo>
                  <a:lnTo>
                    <a:pt x="1597" y="0"/>
                  </a:lnTo>
                  <a:close/>
                </a:path>
              </a:pathLst>
            </a:custGeom>
            <a:solidFill>
              <a:srgbClr val="c58e53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942840" y="5402160"/>
              <a:ext cx="7413840" cy="92520"/>
            </a:xfrm>
            <a:custGeom>
              <a:avLst/>
              <a:gdLst/>
              <a:ahLst/>
              <a:rect l="0" t="0" r="r" b="b"/>
              <a:pathLst>
                <a:path w="20594" h="257">
                  <a:moveTo>
                    <a:pt x="20183" y="206"/>
                  </a:moveTo>
                  <a:lnTo>
                    <a:pt x="20305" y="0"/>
                  </a:lnTo>
                  <a:lnTo>
                    <a:pt x="0" y="0"/>
                  </a:lnTo>
                  <a:lnTo>
                    <a:pt x="0" y="257"/>
                  </a:lnTo>
                  <a:lnTo>
                    <a:pt x="20305" y="257"/>
                  </a:lnTo>
                  <a:lnTo>
                    <a:pt x="20426" y="63"/>
                  </a:lnTo>
                  <a:lnTo>
                    <a:pt x="20305" y="257"/>
                  </a:lnTo>
                  <a:lnTo>
                    <a:pt x="20594" y="257"/>
                  </a:lnTo>
                  <a:lnTo>
                    <a:pt x="20426" y="63"/>
                  </a:lnTo>
                  <a:lnTo>
                    <a:pt x="20183" y="2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5160" y="5389560"/>
              <a:ext cx="9012600" cy="1230840"/>
            </a:xfrm>
            <a:custGeom>
              <a:avLst/>
              <a:gdLst/>
              <a:ahLst/>
              <a:rect l="0" t="0" r="r" b="b"/>
              <a:pathLst>
                <a:path w="25035" h="3419">
                  <a:moveTo>
                    <a:pt x="25035" y="722"/>
                  </a:moveTo>
                  <a:lnTo>
                    <a:pt x="25035" y="1110"/>
                  </a:lnTo>
                  <a:lnTo>
                    <a:pt x="25035" y="1858"/>
                  </a:lnTo>
                  <a:lnTo>
                    <a:pt x="25035" y="2619"/>
                  </a:lnTo>
                  <a:lnTo>
                    <a:pt x="25035" y="3058"/>
                  </a:lnTo>
                  <a:lnTo>
                    <a:pt x="25005" y="3213"/>
                  </a:lnTo>
                  <a:lnTo>
                    <a:pt x="24959" y="3329"/>
                  </a:lnTo>
                  <a:lnTo>
                    <a:pt x="24822" y="3393"/>
                  </a:lnTo>
                  <a:lnTo>
                    <a:pt x="24579" y="3419"/>
                  </a:lnTo>
                  <a:lnTo>
                    <a:pt x="24488" y="3419"/>
                  </a:lnTo>
                  <a:lnTo>
                    <a:pt x="24244" y="3419"/>
                  </a:lnTo>
                  <a:lnTo>
                    <a:pt x="23894" y="3419"/>
                  </a:lnTo>
                  <a:lnTo>
                    <a:pt x="23438" y="3419"/>
                  </a:lnTo>
                  <a:lnTo>
                    <a:pt x="22890" y="3419"/>
                  </a:lnTo>
                  <a:lnTo>
                    <a:pt x="22235" y="3419"/>
                  </a:lnTo>
                  <a:lnTo>
                    <a:pt x="21505" y="3419"/>
                  </a:lnTo>
                  <a:lnTo>
                    <a:pt x="20698" y="3419"/>
                  </a:lnTo>
                  <a:lnTo>
                    <a:pt x="19816" y="3419"/>
                  </a:lnTo>
                  <a:lnTo>
                    <a:pt x="18887" y="3419"/>
                  </a:lnTo>
                  <a:lnTo>
                    <a:pt x="17897" y="3419"/>
                  </a:lnTo>
                  <a:lnTo>
                    <a:pt x="16878" y="3419"/>
                  </a:lnTo>
                  <a:lnTo>
                    <a:pt x="15812" y="3419"/>
                  </a:lnTo>
                  <a:lnTo>
                    <a:pt x="14732" y="3419"/>
                  </a:lnTo>
                  <a:lnTo>
                    <a:pt x="13636" y="3419"/>
                  </a:lnTo>
                  <a:lnTo>
                    <a:pt x="12525" y="3419"/>
                  </a:lnTo>
                  <a:lnTo>
                    <a:pt x="11414" y="3419"/>
                  </a:lnTo>
                  <a:lnTo>
                    <a:pt x="10318" y="3419"/>
                  </a:lnTo>
                  <a:lnTo>
                    <a:pt x="9238" y="3419"/>
                  </a:lnTo>
                  <a:lnTo>
                    <a:pt x="8173" y="3419"/>
                  </a:lnTo>
                  <a:lnTo>
                    <a:pt x="7138" y="3419"/>
                  </a:lnTo>
                  <a:lnTo>
                    <a:pt x="6163" y="3419"/>
                  </a:lnTo>
                  <a:lnTo>
                    <a:pt x="5235" y="3419"/>
                  </a:lnTo>
                  <a:lnTo>
                    <a:pt x="4352" y="3419"/>
                  </a:lnTo>
                  <a:lnTo>
                    <a:pt x="3561" y="3419"/>
                  </a:lnTo>
                  <a:lnTo>
                    <a:pt x="2830" y="3419"/>
                  </a:lnTo>
                  <a:lnTo>
                    <a:pt x="2176" y="3419"/>
                  </a:lnTo>
                  <a:lnTo>
                    <a:pt x="1628" y="3419"/>
                  </a:lnTo>
                  <a:lnTo>
                    <a:pt x="1156" y="3419"/>
                  </a:lnTo>
                  <a:lnTo>
                    <a:pt x="837" y="3419"/>
                  </a:lnTo>
                  <a:lnTo>
                    <a:pt x="593" y="3419"/>
                  </a:lnTo>
                  <a:lnTo>
                    <a:pt x="502" y="3419"/>
                  </a:lnTo>
                  <a:lnTo>
                    <a:pt x="365" y="3406"/>
                  </a:lnTo>
                  <a:lnTo>
                    <a:pt x="258" y="3393"/>
                  </a:lnTo>
                  <a:lnTo>
                    <a:pt x="167" y="3355"/>
                  </a:lnTo>
                  <a:lnTo>
                    <a:pt x="106" y="3303"/>
                  </a:lnTo>
                  <a:lnTo>
                    <a:pt x="45" y="3238"/>
                  </a:lnTo>
                  <a:lnTo>
                    <a:pt x="15" y="3161"/>
                  </a:lnTo>
                  <a:lnTo>
                    <a:pt x="0" y="3084"/>
                  </a:lnTo>
                  <a:lnTo>
                    <a:pt x="0" y="3006"/>
                  </a:lnTo>
                  <a:lnTo>
                    <a:pt x="0" y="2515"/>
                  </a:lnTo>
                  <a:lnTo>
                    <a:pt x="0" y="1677"/>
                  </a:lnTo>
                  <a:lnTo>
                    <a:pt x="0" y="877"/>
                  </a:lnTo>
                  <a:lnTo>
                    <a:pt x="0" y="464"/>
                  </a:lnTo>
                  <a:lnTo>
                    <a:pt x="0" y="386"/>
                  </a:lnTo>
                  <a:lnTo>
                    <a:pt x="15" y="283"/>
                  </a:lnTo>
                  <a:lnTo>
                    <a:pt x="60" y="180"/>
                  </a:lnTo>
                  <a:lnTo>
                    <a:pt x="152" y="51"/>
                  </a:lnTo>
                  <a:lnTo>
                    <a:pt x="60" y="167"/>
                  </a:lnTo>
                  <a:lnTo>
                    <a:pt x="15" y="270"/>
                  </a:lnTo>
                  <a:lnTo>
                    <a:pt x="0" y="335"/>
                  </a:lnTo>
                  <a:lnTo>
                    <a:pt x="0" y="399"/>
                  </a:lnTo>
                  <a:lnTo>
                    <a:pt x="15" y="425"/>
                  </a:lnTo>
                  <a:lnTo>
                    <a:pt x="45" y="438"/>
                  </a:lnTo>
                  <a:lnTo>
                    <a:pt x="76" y="451"/>
                  </a:lnTo>
                  <a:lnTo>
                    <a:pt x="136" y="451"/>
                  </a:lnTo>
                  <a:lnTo>
                    <a:pt x="213" y="451"/>
                  </a:lnTo>
                  <a:lnTo>
                    <a:pt x="410" y="451"/>
                  </a:lnTo>
                  <a:lnTo>
                    <a:pt x="745" y="451"/>
                  </a:lnTo>
                  <a:lnTo>
                    <a:pt x="1217" y="451"/>
                  </a:lnTo>
                  <a:lnTo>
                    <a:pt x="1765" y="451"/>
                  </a:lnTo>
                  <a:lnTo>
                    <a:pt x="2419" y="451"/>
                  </a:lnTo>
                  <a:lnTo>
                    <a:pt x="3165" y="451"/>
                  </a:lnTo>
                  <a:lnTo>
                    <a:pt x="3987" y="451"/>
                  </a:lnTo>
                  <a:lnTo>
                    <a:pt x="4885" y="451"/>
                  </a:lnTo>
                  <a:lnTo>
                    <a:pt x="5843" y="451"/>
                  </a:lnTo>
                  <a:lnTo>
                    <a:pt x="6864" y="451"/>
                  </a:lnTo>
                  <a:lnTo>
                    <a:pt x="7929" y="451"/>
                  </a:lnTo>
                  <a:lnTo>
                    <a:pt x="9025" y="451"/>
                  </a:lnTo>
                  <a:lnTo>
                    <a:pt x="10151" y="451"/>
                  </a:lnTo>
                  <a:lnTo>
                    <a:pt x="11277" y="451"/>
                  </a:lnTo>
                  <a:lnTo>
                    <a:pt x="12419" y="451"/>
                  </a:lnTo>
                  <a:lnTo>
                    <a:pt x="13575" y="451"/>
                  </a:lnTo>
                  <a:lnTo>
                    <a:pt x="14717" y="451"/>
                  </a:lnTo>
                  <a:lnTo>
                    <a:pt x="15843" y="451"/>
                  </a:lnTo>
                  <a:lnTo>
                    <a:pt x="16938" y="451"/>
                  </a:lnTo>
                  <a:lnTo>
                    <a:pt x="17988" y="451"/>
                  </a:lnTo>
                  <a:lnTo>
                    <a:pt x="18994" y="451"/>
                  </a:lnTo>
                  <a:lnTo>
                    <a:pt x="19968" y="451"/>
                  </a:lnTo>
                  <a:lnTo>
                    <a:pt x="20866" y="451"/>
                  </a:lnTo>
                  <a:lnTo>
                    <a:pt x="21687" y="451"/>
                  </a:lnTo>
                  <a:lnTo>
                    <a:pt x="22433" y="451"/>
                  </a:lnTo>
                  <a:lnTo>
                    <a:pt x="23103" y="451"/>
                  </a:lnTo>
                  <a:lnTo>
                    <a:pt x="23666" y="451"/>
                  </a:lnTo>
                  <a:lnTo>
                    <a:pt x="24122" y="451"/>
                  </a:lnTo>
                  <a:lnTo>
                    <a:pt x="24442" y="451"/>
                  </a:lnTo>
                  <a:lnTo>
                    <a:pt x="24670" y="451"/>
                  </a:lnTo>
                  <a:lnTo>
                    <a:pt x="24746" y="451"/>
                  </a:lnTo>
                  <a:lnTo>
                    <a:pt x="24868" y="438"/>
                  </a:lnTo>
                  <a:lnTo>
                    <a:pt x="24944" y="399"/>
                  </a:lnTo>
                  <a:lnTo>
                    <a:pt x="24959" y="257"/>
                  </a:lnTo>
                  <a:lnTo>
                    <a:pt x="24822" y="0"/>
                  </a:lnTo>
                  <a:lnTo>
                    <a:pt x="24929" y="180"/>
                  </a:lnTo>
                  <a:lnTo>
                    <a:pt x="24990" y="335"/>
                  </a:lnTo>
                  <a:lnTo>
                    <a:pt x="25035" y="502"/>
                  </a:lnTo>
                  <a:lnTo>
                    <a:pt x="25035" y="722"/>
                  </a:lnTo>
                  <a:close/>
                </a:path>
              </a:pathLst>
            </a:custGeom>
            <a:solidFill>
              <a:srgbClr val="4c130b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020160" y="5649840"/>
              <a:ext cx="105120" cy="841680"/>
            </a:xfrm>
            <a:custGeom>
              <a:avLst/>
              <a:gdLst/>
              <a:ahLst/>
              <a:rect l="0" t="0" r="r" b="b"/>
              <a:pathLst>
                <a:path w="292" h="2338">
                  <a:moveTo>
                    <a:pt x="292" y="2338"/>
                  </a:moveTo>
                  <a:lnTo>
                    <a:pt x="292" y="2338"/>
                  </a:lnTo>
                  <a:lnTo>
                    <a:pt x="292" y="1899"/>
                  </a:lnTo>
                  <a:lnTo>
                    <a:pt x="292" y="1136"/>
                  </a:lnTo>
                  <a:lnTo>
                    <a:pt x="292" y="387"/>
                  </a:lnTo>
                  <a:lnTo>
                    <a:pt x="292" y="0"/>
                  </a:lnTo>
                  <a:lnTo>
                    <a:pt x="0" y="0"/>
                  </a:lnTo>
                  <a:lnTo>
                    <a:pt x="0" y="387"/>
                  </a:lnTo>
                  <a:lnTo>
                    <a:pt x="0" y="1136"/>
                  </a:lnTo>
                  <a:lnTo>
                    <a:pt x="0" y="1899"/>
                  </a:lnTo>
                  <a:lnTo>
                    <a:pt x="0" y="2338"/>
                  </a:lnTo>
                  <a:lnTo>
                    <a:pt x="0" y="2338"/>
                  </a:lnTo>
                  <a:lnTo>
                    <a:pt x="292" y="23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8910720" y="6491160"/>
              <a:ext cx="214560" cy="174960"/>
            </a:xfrm>
            <a:custGeom>
              <a:avLst/>
              <a:gdLst/>
              <a:ahLst/>
              <a:rect l="0" t="0" r="r" b="b"/>
              <a:pathLst>
                <a:path w="596" h="486">
                  <a:moveTo>
                    <a:pt x="0" y="486"/>
                  </a:moveTo>
                  <a:lnTo>
                    <a:pt x="0" y="486"/>
                  </a:lnTo>
                  <a:lnTo>
                    <a:pt x="290" y="460"/>
                  </a:lnTo>
                  <a:lnTo>
                    <a:pt x="504" y="345"/>
                  </a:lnTo>
                  <a:lnTo>
                    <a:pt x="581" y="165"/>
                  </a:lnTo>
                  <a:lnTo>
                    <a:pt x="596" y="0"/>
                  </a:lnTo>
                  <a:lnTo>
                    <a:pt x="306" y="0"/>
                  </a:lnTo>
                  <a:lnTo>
                    <a:pt x="290" y="140"/>
                  </a:lnTo>
                  <a:lnTo>
                    <a:pt x="274" y="178"/>
                  </a:lnTo>
                  <a:lnTo>
                    <a:pt x="213" y="204"/>
                  </a:lnTo>
                  <a:lnTo>
                    <a:pt x="0" y="242"/>
                  </a:lnTo>
                  <a:lnTo>
                    <a:pt x="0" y="242"/>
                  </a:lnTo>
                  <a:lnTo>
                    <a:pt x="0" y="4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47680" y="6578640"/>
              <a:ext cx="8663400" cy="87840"/>
            </a:xfrm>
            <a:custGeom>
              <a:avLst/>
              <a:gdLst/>
              <a:ahLst/>
              <a:rect l="0" t="0" r="r" b="b"/>
              <a:pathLst>
                <a:path w="24065" h="244">
                  <a:moveTo>
                    <a:pt x="0" y="244"/>
                  </a:moveTo>
                  <a:lnTo>
                    <a:pt x="0" y="244"/>
                  </a:lnTo>
                  <a:lnTo>
                    <a:pt x="91" y="244"/>
                  </a:lnTo>
                  <a:lnTo>
                    <a:pt x="334" y="244"/>
                  </a:lnTo>
                  <a:lnTo>
                    <a:pt x="654" y="244"/>
                  </a:lnTo>
                  <a:lnTo>
                    <a:pt x="1125" y="244"/>
                  </a:lnTo>
                  <a:lnTo>
                    <a:pt x="1673" y="244"/>
                  </a:lnTo>
                  <a:lnTo>
                    <a:pt x="2327" y="244"/>
                  </a:lnTo>
                  <a:lnTo>
                    <a:pt x="3057" y="244"/>
                  </a:lnTo>
                  <a:lnTo>
                    <a:pt x="3848" y="244"/>
                  </a:lnTo>
                  <a:lnTo>
                    <a:pt x="4730" y="244"/>
                  </a:lnTo>
                  <a:lnTo>
                    <a:pt x="5658" y="244"/>
                  </a:lnTo>
                  <a:lnTo>
                    <a:pt x="6633" y="244"/>
                  </a:lnTo>
                  <a:lnTo>
                    <a:pt x="7667" y="244"/>
                  </a:lnTo>
                  <a:lnTo>
                    <a:pt x="8732" y="244"/>
                  </a:lnTo>
                  <a:lnTo>
                    <a:pt x="9812" y="244"/>
                  </a:lnTo>
                  <a:lnTo>
                    <a:pt x="10907" y="244"/>
                  </a:lnTo>
                  <a:lnTo>
                    <a:pt x="12017" y="244"/>
                  </a:lnTo>
                  <a:lnTo>
                    <a:pt x="13128" y="244"/>
                  </a:lnTo>
                  <a:lnTo>
                    <a:pt x="14223" y="244"/>
                  </a:lnTo>
                  <a:lnTo>
                    <a:pt x="15303" y="244"/>
                  </a:lnTo>
                  <a:lnTo>
                    <a:pt x="16368" y="244"/>
                  </a:lnTo>
                  <a:lnTo>
                    <a:pt x="17387" y="244"/>
                  </a:lnTo>
                  <a:lnTo>
                    <a:pt x="18376" y="244"/>
                  </a:lnTo>
                  <a:lnTo>
                    <a:pt x="19304" y="244"/>
                  </a:lnTo>
                  <a:lnTo>
                    <a:pt x="20187" y="244"/>
                  </a:lnTo>
                  <a:lnTo>
                    <a:pt x="20993" y="244"/>
                  </a:lnTo>
                  <a:lnTo>
                    <a:pt x="21723" y="244"/>
                  </a:lnTo>
                  <a:lnTo>
                    <a:pt x="22377" y="244"/>
                  </a:lnTo>
                  <a:lnTo>
                    <a:pt x="22925" y="244"/>
                  </a:lnTo>
                  <a:lnTo>
                    <a:pt x="23381" y="244"/>
                  </a:lnTo>
                  <a:lnTo>
                    <a:pt x="23731" y="244"/>
                  </a:lnTo>
                  <a:lnTo>
                    <a:pt x="23974" y="244"/>
                  </a:lnTo>
                  <a:lnTo>
                    <a:pt x="24065" y="244"/>
                  </a:lnTo>
                  <a:lnTo>
                    <a:pt x="24065" y="0"/>
                  </a:lnTo>
                  <a:lnTo>
                    <a:pt x="23974" y="0"/>
                  </a:lnTo>
                  <a:lnTo>
                    <a:pt x="23731" y="0"/>
                  </a:lnTo>
                  <a:lnTo>
                    <a:pt x="23381" y="0"/>
                  </a:lnTo>
                  <a:lnTo>
                    <a:pt x="22925" y="0"/>
                  </a:lnTo>
                  <a:lnTo>
                    <a:pt x="22377" y="0"/>
                  </a:lnTo>
                  <a:lnTo>
                    <a:pt x="21723" y="0"/>
                  </a:lnTo>
                  <a:lnTo>
                    <a:pt x="20993" y="0"/>
                  </a:lnTo>
                  <a:lnTo>
                    <a:pt x="20187" y="0"/>
                  </a:lnTo>
                  <a:lnTo>
                    <a:pt x="19304" y="0"/>
                  </a:lnTo>
                  <a:lnTo>
                    <a:pt x="18376" y="0"/>
                  </a:lnTo>
                  <a:lnTo>
                    <a:pt x="17387" y="0"/>
                  </a:lnTo>
                  <a:lnTo>
                    <a:pt x="16368" y="0"/>
                  </a:lnTo>
                  <a:lnTo>
                    <a:pt x="15303" y="0"/>
                  </a:lnTo>
                  <a:lnTo>
                    <a:pt x="14223" y="0"/>
                  </a:lnTo>
                  <a:lnTo>
                    <a:pt x="13128" y="0"/>
                  </a:lnTo>
                  <a:lnTo>
                    <a:pt x="12017" y="0"/>
                  </a:lnTo>
                  <a:lnTo>
                    <a:pt x="10907" y="0"/>
                  </a:lnTo>
                  <a:lnTo>
                    <a:pt x="9812" y="0"/>
                  </a:lnTo>
                  <a:lnTo>
                    <a:pt x="8732" y="0"/>
                  </a:lnTo>
                  <a:lnTo>
                    <a:pt x="7667" y="0"/>
                  </a:lnTo>
                  <a:lnTo>
                    <a:pt x="6633" y="0"/>
                  </a:lnTo>
                  <a:lnTo>
                    <a:pt x="5658" y="0"/>
                  </a:lnTo>
                  <a:lnTo>
                    <a:pt x="4730" y="0"/>
                  </a:lnTo>
                  <a:lnTo>
                    <a:pt x="3848" y="0"/>
                  </a:lnTo>
                  <a:lnTo>
                    <a:pt x="3057" y="0"/>
                  </a:lnTo>
                  <a:lnTo>
                    <a:pt x="2327" y="0"/>
                  </a:lnTo>
                  <a:lnTo>
                    <a:pt x="1673" y="0"/>
                  </a:lnTo>
                  <a:lnTo>
                    <a:pt x="1125" y="0"/>
                  </a:lnTo>
                  <a:lnTo>
                    <a:pt x="654" y="0"/>
                  </a:lnTo>
                  <a:lnTo>
                    <a:pt x="334" y="0"/>
                  </a:lnTo>
                  <a:lnTo>
                    <a:pt x="9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9360" y="6472080"/>
              <a:ext cx="238320" cy="194040"/>
            </a:xfrm>
            <a:custGeom>
              <a:avLst/>
              <a:gdLst/>
              <a:ahLst/>
              <a:rect l="0" t="0" r="r" b="b"/>
              <a:pathLst>
                <a:path w="662" h="539">
                  <a:moveTo>
                    <a:pt x="0" y="0"/>
                  </a:moveTo>
                  <a:lnTo>
                    <a:pt x="0" y="0"/>
                  </a:lnTo>
                  <a:lnTo>
                    <a:pt x="0" y="76"/>
                  </a:lnTo>
                  <a:lnTo>
                    <a:pt x="15" y="180"/>
                  </a:lnTo>
                  <a:lnTo>
                    <a:pt x="76" y="295"/>
                  </a:lnTo>
                  <a:lnTo>
                    <a:pt x="138" y="372"/>
                  </a:lnTo>
                  <a:lnTo>
                    <a:pt x="230" y="450"/>
                  </a:lnTo>
                  <a:lnTo>
                    <a:pt x="370" y="514"/>
                  </a:lnTo>
                  <a:lnTo>
                    <a:pt x="508" y="527"/>
                  </a:lnTo>
                  <a:lnTo>
                    <a:pt x="662" y="539"/>
                  </a:lnTo>
                  <a:lnTo>
                    <a:pt x="662" y="295"/>
                  </a:lnTo>
                  <a:lnTo>
                    <a:pt x="539" y="269"/>
                  </a:lnTo>
                  <a:lnTo>
                    <a:pt x="477" y="257"/>
                  </a:lnTo>
                  <a:lnTo>
                    <a:pt x="400" y="244"/>
                  </a:lnTo>
                  <a:lnTo>
                    <a:pt x="370" y="205"/>
                  </a:lnTo>
                  <a:lnTo>
                    <a:pt x="339" y="180"/>
                  </a:lnTo>
                  <a:lnTo>
                    <a:pt x="323" y="115"/>
                  </a:lnTo>
                  <a:lnTo>
                    <a:pt x="307" y="76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9360" y="5559480"/>
              <a:ext cx="113040" cy="913320"/>
            </a:xfrm>
            <a:custGeom>
              <a:avLst/>
              <a:gdLst/>
              <a:ahLst/>
              <a:rect l="0" t="0" r="r" b="b"/>
              <a:pathLst>
                <a:path w="314" h="2537">
                  <a:moveTo>
                    <a:pt x="0" y="0"/>
                  </a:moveTo>
                  <a:lnTo>
                    <a:pt x="0" y="0"/>
                  </a:lnTo>
                  <a:lnTo>
                    <a:pt x="0" y="411"/>
                  </a:lnTo>
                  <a:lnTo>
                    <a:pt x="0" y="1210"/>
                  </a:lnTo>
                  <a:lnTo>
                    <a:pt x="0" y="2048"/>
                  </a:lnTo>
                  <a:lnTo>
                    <a:pt x="0" y="2537"/>
                  </a:lnTo>
                  <a:lnTo>
                    <a:pt x="314" y="2537"/>
                  </a:lnTo>
                  <a:lnTo>
                    <a:pt x="314" y="2048"/>
                  </a:lnTo>
                  <a:lnTo>
                    <a:pt x="314" y="1210"/>
                  </a:lnTo>
                  <a:lnTo>
                    <a:pt x="314" y="411"/>
                  </a:lnTo>
                  <a:lnTo>
                    <a:pt x="314" y="0"/>
                  </a:lnTo>
                  <a:lnTo>
                    <a:pt x="314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360" y="5383080"/>
              <a:ext cx="147960" cy="176400"/>
            </a:xfrm>
            <a:custGeom>
              <a:avLst/>
              <a:gdLst/>
              <a:ahLst/>
              <a:rect l="0" t="0" r="r" b="b"/>
              <a:pathLst>
                <a:path w="411" h="490">
                  <a:moveTo>
                    <a:pt x="411" y="145"/>
                  </a:moveTo>
                  <a:lnTo>
                    <a:pt x="182" y="0"/>
                  </a:lnTo>
                  <a:lnTo>
                    <a:pt x="91" y="145"/>
                  </a:lnTo>
                  <a:lnTo>
                    <a:pt x="15" y="278"/>
                  </a:lnTo>
                  <a:lnTo>
                    <a:pt x="0" y="411"/>
                  </a:lnTo>
                  <a:lnTo>
                    <a:pt x="0" y="490"/>
                  </a:lnTo>
                  <a:lnTo>
                    <a:pt x="304" y="490"/>
                  </a:lnTo>
                  <a:lnTo>
                    <a:pt x="304" y="411"/>
                  </a:lnTo>
                  <a:lnTo>
                    <a:pt x="319" y="331"/>
                  </a:lnTo>
                  <a:lnTo>
                    <a:pt x="350" y="265"/>
                  </a:lnTo>
                  <a:lnTo>
                    <a:pt x="411" y="145"/>
                  </a:lnTo>
                  <a:lnTo>
                    <a:pt x="182" y="0"/>
                  </a:lnTo>
                  <a:lnTo>
                    <a:pt x="411" y="1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360" y="5383080"/>
              <a:ext cx="147960" cy="149760"/>
            </a:xfrm>
            <a:custGeom>
              <a:avLst/>
              <a:gdLst/>
              <a:ahLst/>
              <a:rect l="0" t="0" r="r" b="b"/>
              <a:pathLst>
                <a:path w="411" h="416">
                  <a:moveTo>
                    <a:pt x="304" y="416"/>
                  </a:moveTo>
                  <a:lnTo>
                    <a:pt x="304" y="416"/>
                  </a:lnTo>
                  <a:lnTo>
                    <a:pt x="304" y="364"/>
                  </a:lnTo>
                  <a:lnTo>
                    <a:pt x="319" y="325"/>
                  </a:lnTo>
                  <a:lnTo>
                    <a:pt x="350" y="247"/>
                  </a:lnTo>
                  <a:lnTo>
                    <a:pt x="411" y="143"/>
                  </a:lnTo>
                  <a:lnTo>
                    <a:pt x="182" y="0"/>
                  </a:lnTo>
                  <a:lnTo>
                    <a:pt x="91" y="130"/>
                  </a:lnTo>
                  <a:lnTo>
                    <a:pt x="15" y="247"/>
                  </a:lnTo>
                  <a:lnTo>
                    <a:pt x="0" y="338"/>
                  </a:lnTo>
                  <a:lnTo>
                    <a:pt x="0" y="416"/>
                  </a:lnTo>
                  <a:lnTo>
                    <a:pt x="0" y="416"/>
                  </a:lnTo>
                  <a:lnTo>
                    <a:pt x="304" y="4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360" y="5505480"/>
              <a:ext cx="113040" cy="93960"/>
            </a:xfrm>
            <a:custGeom>
              <a:avLst/>
              <a:gdLst/>
              <a:ahLst/>
              <a:rect l="0" t="0" r="r" b="b"/>
              <a:pathLst>
                <a:path w="314" h="261">
                  <a:moveTo>
                    <a:pt x="298" y="0"/>
                  </a:moveTo>
                  <a:lnTo>
                    <a:pt x="298" y="0"/>
                  </a:lnTo>
                  <a:lnTo>
                    <a:pt x="267" y="0"/>
                  </a:lnTo>
                  <a:lnTo>
                    <a:pt x="282" y="0"/>
                  </a:lnTo>
                  <a:lnTo>
                    <a:pt x="282" y="13"/>
                  </a:lnTo>
                  <a:lnTo>
                    <a:pt x="314" y="78"/>
                  </a:lnTo>
                  <a:lnTo>
                    <a:pt x="0" y="78"/>
                  </a:lnTo>
                  <a:lnTo>
                    <a:pt x="78" y="183"/>
                  </a:lnTo>
                  <a:lnTo>
                    <a:pt x="140" y="235"/>
                  </a:lnTo>
                  <a:lnTo>
                    <a:pt x="220" y="261"/>
                  </a:lnTo>
                  <a:lnTo>
                    <a:pt x="298" y="261"/>
                  </a:lnTo>
                  <a:lnTo>
                    <a:pt x="298" y="261"/>
                  </a:lnTo>
                  <a:lnTo>
                    <a:pt x="2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14480" y="5505480"/>
              <a:ext cx="8858520" cy="93960"/>
            </a:xfrm>
            <a:custGeom>
              <a:avLst/>
              <a:gdLst/>
              <a:ahLst/>
              <a:rect l="0" t="0" r="r" b="b"/>
              <a:pathLst>
                <a:path w="24607" h="261">
                  <a:moveTo>
                    <a:pt x="24607" y="0"/>
                  </a:moveTo>
                  <a:lnTo>
                    <a:pt x="24607" y="0"/>
                  </a:lnTo>
                  <a:lnTo>
                    <a:pt x="24531" y="0"/>
                  </a:lnTo>
                  <a:lnTo>
                    <a:pt x="24302" y="0"/>
                  </a:lnTo>
                  <a:lnTo>
                    <a:pt x="23983" y="0"/>
                  </a:lnTo>
                  <a:lnTo>
                    <a:pt x="23526" y="0"/>
                  </a:lnTo>
                  <a:lnTo>
                    <a:pt x="22963" y="0"/>
                  </a:lnTo>
                  <a:lnTo>
                    <a:pt x="22294" y="0"/>
                  </a:lnTo>
                  <a:lnTo>
                    <a:pt x="21548" y="0"/>
                  </a:lnTo>
                  <a:lnTo>
                    <a:pt x="20726" y="0"/>
                  </a:lnTo>
                  <a:lnTo>
                    <a:pt x="19829" y="0"/>
                  </a:lnTo>
                  <a:lnTo>
                    <a:pt x="18855" y="0"/>
                  </a:lnTo>
                  <a:lnTo>
                    <a:pt x="17850" y="0"/>
                  </a:lnTo>
                  <a:lnTo>
                    <a:pt x="16800" y="0"/>
                  </a:lnTo>
                  <a:lnTo>
                    <a:pt x="15705" y="0"/>
                  </a:lnTo>
                  <a:lnTo>
                    <a:pt x="14579" y="0"/>
                  </a:lnTo>
                  <a:lnTo>
                    <a:pt x="13437" y="0"/>
                  </a:lnTo>
                  <a:lnTo>
                    <a:pt x="12280" y="0"/>
                  </a:lnTo>
                  <a:lnTo>
                    <a:pt x="11139" y="0"/>
                  </a:lnTo>
                  <a:lnTo>
                    <a:pt x="10012" y="0"/>
                  </a:lnTo>
                  <a:lnTo>
                    <a:pt x="8886" y="0"/>
                  </a:lnTo>
                  <a:lnTo>
                    <a:pt x="7791" y="0"/>
                  </a:lnTo>
                  <a:lnTo>
                    <a:pt x="6726" y="0"/>
                  </a:lnTo>
                  <a:lnTo>
                    <a:pt x="5706" y="0"/>
                  </a:lnTo>
                  <a:lnTo>
                    <a:pt x="4747" y="0"/>
                  </a:lnTo>
                  <a:lnTo>
                    <a:pt x="3849" y="0"/>
                  </a:lnTo>
                  <a:lnTo>
                    <a:pt x="3028" y="0"/>
                  </a:lnTo>
                  <a:lnTo>
                    <a:pt x="2282" y="0"/>
                  </a:lnTo>
                  <a:lnTo>
                    <a:pt x="1628" y="0"/>
                  </a:lnTo>
                  <a:lnTo>
                    <a:pt x="1080" y="0"/>
                  </a:lnTo>
                  <a:lnTo>
                    <a:pt x="608" y="0"/>
                  </a:lnTo>
                  <a:lnTo>
                    <a:pt x="273" y="0"/>
                  </a:lnTo>
                  <a:lnTo>
                    <a:pt x="76" y="0"/>
                  </a:lnTo>
                  <a:lnTo>
                    <a:pt x="0" y="0"/>
                  </a:lnTo>
                  <a:lnTo>
                    <a:pt x="0" y="261"/>
                  </a:lnTo>
                  <a:lnTo>
                    <a:pt x="76" y="261"/>
                  </a:lnTo>
                  <a:lnTo>
                    <a:pt x="273" y="261"/>
                  </a:lnTo>
                  <a:lnTo>
                    <a:pt x="608" y="261"/>
                  </a:lnTo>
                  <a:lnTo>
                    <a:pt x="1080" y="261"/>
                  </a:lnTo>
                  <a:lnTo>
                    <a:pt x="1628" y="261"/>
                  </a:lnTo>
                  <a:lnTo>
                    <a:pt x="2282" y="261"/>
                  </a:lnTo>
                  <a:lnTo>
                    <a:pt x="3028" y="261"/>
                  </a:lnTo>
                  <a:lnTo>
                    <a:pt x="3849" y="261"/>
                  </a:lnTo>
                  <a:lnTo>
                    <a:pt x="4747" y="261"/>
                  </a:lnTo>
                  <a:lnTo>
                    <a:pt x="5706" y="261"/>
                  </a:lnTo>
                  <a:lnTo>
                    <a:pt x="6726" y="261"/>
                  </a:lnTo>
                  <a:lnTo>
                    <a:pt x="7791" y="261"/>
                  </a:lnTo>
                  <a:lnTo>
                    <a:pt x="8886" y="261"/>
                  </a:lnTo>
                  <a:lnTo>
                    <a:pt x="10012" y="261"/>
                  </a:lnTo>
                  <a:lnTo>
                    <a:pt x="11139" y="261"/>
                  </a:lnTo>
                  <a:lnTo>
                    <a:pt x="12280" y="261"/>
                  </a:lnTo>
                  <a:lnTo>
                    <a:pt x="13437" y="261"/>
                  </a:lnTo>
                  <a:lnTo>
                    <a:pt x="14579" y="261"/>
                  </a:lnTo>
                  <a:lnTo>
                    <a:pt x="15705" y="261"/>
                  </a:lnTo>
                  <a:lnTo>
                    <a:pt x="16800" y="261"/>
                  </a:lnTo>
                  <a:lnTo>
                    <a:pt x="17850" y="261"/>
                  </a:lnTo>
                  <a:lnTo>
                    <a:pt x="18855" y="261"/>
                  </a:lnTo>
                  <a:lnTo>
                    <a:pt x="19829" y="261"/>
                  </a:lnTo>
                  <a:lnTo>
                    <a:pt x="20726" y="261"/>
                  </a:lnTo>
                  <a:lnTo>
                    <a:pt x="21548" y="261"/>
                  </a:lnTo>
                  <a:lnTo>
                    <a:pt x="22294" y="261"/>
                  </a:lnTo>
                  <a:lnTo>
                    <a:pt x="22963" y="261"/>
                  </a:lnTo>
                  <a:lnTo>
                    <a:pt x="23526" y="261"/>
                  </a:lnTo>
                  <a:lnTo>
                    <a:pt x="23983" y="261"/>
                  </a:lnTo>
                  <a:lnTo>
                    <a:pt x="24302" y="261"/>
                  </a:lnTo>
                  <a:lnTo>
                    <a:pt x="24531" y="261"/>
                  </a:lnTo>
                  <a:lnTo>
                    <a:pt x="24607" y="261"/>
                  </a:lnTo>
                  <a:lnTo>
                    <a:pt x="24607" y="261"/>
                  </a:lnTo>
                  <a:lnTo>
                    <a:pt x="246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955000" y="5370480"/>
              <a:ext cx="147960" cy="228960"/>
            </a:xfrm>
            <a:custGeom>
              <a:avLst/>
              <a:gdLst/>
              <a:ahLst/>
              <a:rect l="0" t="0" r="r" b="b"/>
              <a:pathLst>
                <a:path w="411" h="636">
                  <a:moveTo>
                    <a:pt x="259" y="0"/>
                  </a:moveTo>
                  <a:lnTo>
                    <a:pt x="0" y="103"/>
                  </a:lnTo>
                  <a:lnTo>
                    <a:pt x="106" y="337"/>
                  </a:lnTo>
                  <a:lnTo>
                    <a:pt x="106" y="402"/>
                  </a:lnTo>
                  <a:lnTo>
                    <a:pt x="106" y="363"/>
                  </a:lnTo>
                  <a:lnTo>
                    <a:pt x="45" y="376"/>
                  </a:lnTo>
                  <a:lnTo>
                    <a:pt x="45" y="636"/>
                  </a:lnTo>
                  <a:lnTo>
                    <a:pt x="213" y="623"/>
                  </a:lnTo>
                  <a:lnTo>
                    <a:pt x="380" y="493"/>
                  </a:lnTo>
                  <a:lnTo>
                    <a:pt x="411" y="285"/>
                  </a:lnTo>
                  <a:lnTo>
                    <a:pt x="259" y="0"/>
                  </a:lnTo>
                  <a:lnTo>
                    <a:pt x="0" y="103"/>
                  </a:lnTo>
                  <a:lnTo>
                    <a:pt x="2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8955000" y="5370480"/>
              <a:ext cx="170280" cy="279720"/>
            </a:xfrm>
            <a:custGeom>
              <a:avLst/>
              <a:gdLst/>
              <a:ahLst/>
              <a:rect l="0" t="0" r="r" b="b"/>
              <a:pathLst>
                <a:path w="473" h="777">
                  <a:moveTo>
                    <a:pt x="473" y="777"/>
                  </a:moveTo>
                  <a:lnTo>
                    <a:pt x="473" y="777"/>
                  </a:lnTo>
                  <a:lnTo>
                    <a:pt x="473" y="557"/>
                  </a:lnTo>
                  <a:lnTo>
                    <a:pt x="443" y="362"/>
                  </a:lnTo>
                  <a:lnTo>
                    <a:pt x="367" y="194"/>
                  </a:lnTo>
                  <a:lnTo>
                    <a:pt x="259" y="0"/>
                  </a:lnTo>
                  <a:lnTo>
                    <a:pt x="0" y="103"/>
                  </a:lnTo>
                  <a:lnTo>
                    <a:pt x="91" y="284"/>
                  </a:lnTo>
                  <a:lnTo>
                    <a:pt x="153" y="414"/>
                  </a:lnTo>
                  <a:lnTo>
                    <a:pt x="183" y="557"/>
                  </a:lnTo>
                  <a:lnTo>
                    <a:pt x="183" y="777"/>
                  </a:lnTo>
                  <a:lnTo>
                    <a:pt x="183" y="777"/>
                  </a:lnTo>
                  <a:lnTo>
                    <a:pt x="473" y="7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6120" y="5729400"/>
              <a:ext cx="1754640" cy="510120"/>
            </a:xfrm>
            <a:custGeom>
              <a:avLst/>
              <a:gdLst/>
              <a:ahLst/>
              <a:rect l="0" t="0" r="r" b="b"/>
              <a:pathLst>
                <a:path w="4874" h="1417">
                  <a:moveTo>
                    <a:pt x="0" y="1417"/>
                  </a:moveTo>
                  <a:lnTo>
                    <a:pt x="0" y="0"/>
                  </a:lnTo>
                  <a:lnTo>
                    <a:pt x="4874" y="0"/>
                  </a:lnTo>
                  <a:lnTo>
                    <a:pt x="4874" y="1417"/>
                  </a:lnTo>
                  <a:lnTo>
                    <a:pt x="0" y="1417"/>
                  </a:lnTo>
                  <a:close/>
                </a:path>
              </a:pathLst>
            </a:custGeom>
            <a:solidFill>
              <a:srgbClr val="c7be8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00040" y="5688000"/>
              <a:ext cx="103680" cy="551160"/>
            </a:xfrm>
            <a:custGeom>
              <a:avLst/>
              <a:gdLst/>
              <a:ahLst/>
              <a:rect l="0" t="0" r="r" b="b"/>
              <a:pathLst>
                <a:path w="288" h="1531">
                  <a:moveTo>
                    <a:pt x="136" y="0"/>
                  </a:moveTo>
                  <a:lnTo>
                    <a:pt x="0" y="115"/>
                  </a:lnTo>
                  <a:lnTo>
                    <a:pt x="0" y="1531"/>
                  </a:lnTo>
                  <a:lnTo>
                    <a:pt x="288" y="1531"/>
                  </a:lnTo>
                  <a:lnTo>
                    <a:pt x="288" y="115"/>
                  </a:lnTo>
                  <a:lnTo>
                    <a:pt x="136" y="244"/>
                  </a:lnTo>
                  <a:lnTo>
                    <a:pt x="136" y="0"/>
                  </a:lnTo>
                  <a:lnTo>
                    <a:pt x="0" y="0"/>
                  </a:lnTo>
                  <a:lnTo>
                    <a:pt x="0" y="115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6120" y="5688000"/>
              <a:ext cx="1813320" cy="89280"/>
            </a:xfrm>
            <a:custGeom>
              <a:avLst/>
              <a:gdLst/>
              <a:ahLst/>
              <a:rect l="0" t="0" r="r" b="b"/>
              <a:pathLst>
                <a:path w="5037" h="248">
                  <a:moveTo>
                    <a:pt x="5037" y="117"/>
                  </a:moveTo>
                  <a:lnTo>
                    <a:pt x="4885" y="0"/>
                  </a:lnTo>
                  <a:lnTo>
                    <a:pt x="0" y="0"/>
                  </a:lnTo>
                  <a:lnTo>
                    <a:pt x="0" y="248"/>
                  </a:lnTo>
                  <a:lnTo>
                    <a:pt x="4885" y="248"/>
                  </a:lnTo>
                  <a:lnTo>
                    <a:pt x="4732" y="117"/>
                  </a:lnTo>
                  <a:lnTo>
                    <a:pt x="5037" y="117"/>
                  </a:lnTo>
                  <a:lnTo>
                    <a:pt x="5037" y="0"/>
                  </a:lnTo>
                  <a:lnTo>
                    <a:pt x="4885" y="0"/>
                  </a:lnTo>
                  <a:lnTo>
                    <a:pt x="5037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246400" y="5729400"/>
              <a:ext cx="113040" cy="555840"/>
            </a:xfrm>
            <a:custGeom>
              <a:avLst/>
              <a:gdLst/>
              <a:ahLst/>
              <a:rect l="0" t="0" r="r" b="b"/>
              <a:pathLst>
                <a:path w="314" h="1544">
                  <a:moveTo>
                    <a:pt x="156" y="1544"/>
                  </a:moveTo>
                  <a:lnTo>
                    <a:pt x="314" y="1415"/>
                  </a:lnTo>
                  <a:lnTo>
                    <a:pt x="314" y="0"/>
                  </a:lnTo>
                  <a:lnTo>
                    <a:pt x="0" y="0"/>
                  </a:lnTo>
                  <a:lnTo>
                    <a:pt x="0" y="1415"/>
                  </a:lnTo>
                  <a:lnTo>
                    <a:pt x="156" y="1287"/>
                  </a:lnTo>
                  <a:lnTo>
                    <a:pt x="156" y="1544"/>
                  </a:lnTo>
                  <a:lnTo>
                    <a:pt x="314" y="1544"/>
                  </a:lnTo>
                  <a:lnTo>
                    <a:pt x="314" y="1415"/>
                  </a:lnTo>
                  <a:lnTo>
                    <a:pt x="156" y="15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00040" y="6192720"/>
              <a:ext cx="1800720" cy="92520"/>
            </a:xfrm>
            <a:custGeom>
              <a:avLst/>
              <a:gdLst/>
              <a:ahLst/>
              <a:rect l="0" t="0" r="r" b="b"/>
              <a:pathLst>
                <a:path w="5002" h="257">
                  <a:moveTo>
                    <a:pt x="0" y="128"/>
                  </a:moveTo>
                  <a:lnTo>
                    <a:pt x="136" y="257"/>
                  </a:lnTo>
                  <a:lnTo>
                    <a:pt x="5002" y="257"/>
                  </a:lnTo>
                  <a:lnTo>
                    <a:pt x="5002" y="0"/>
                  </a:lnTo>
                  <a:lnTo>
                    <a:pt x="136" y="0"/>
                  </a:lnTo>
                  <a:lnTo>
                    <a:pt x="288" y="128"/>
                  </a:lnTo>
                  <a:lnTo>
                    <a:pt x="0" y="128"/>
                  </a:lnTo>
                  <a:lnTo>
                    <a:pt x="0" y="257"/>
                  </a:lnTo>
                  <a:lnTo>
                    <a:pt x="136" y="257"/>
                  </a:lnTo>
                  <a:lnTo>
                    <a:pt x="0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799320" y="5729400"/>
              <a:ext cx="1751400" cy="510120"/>
            </a:xfrm>
            <a:custGeom>
              <a:avLst/>
              <a:gdLst/>
              <a:ahLst/>
              <a:rect l="0" t="0" r="r" b="b"/>
              <a:pathLst>
                <a:path w="4865" h="1417">
                  <a:moveTo>
                    <a:pt x="4865" y="1417"/>
                  </a:moveTo>
                  <a:lnTo>
                    <a:pt x="4865" y="0"/>
                  </a:lnTo>
                  <a:lnTo>
                    <a:pt x="0" y="0"/>
                  </a:lnTo>
                  <a:lnTo>
                    <a:pt x="0" y="1417"/>
                  </a:lnTo>
                  <a:lnTo>
                    <a:pt x="4865" y="1417"/>
                  </a:lnTo>
                  <a:close/>
                </a:path>
              </a:pathLst>
            </a:custGeom>
            <a:solidFill>
              <a:srgbClr val="c7be8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8496360" y="5688000"/>
              <a:ext cx="105120" cy="551160"/>
            </a:xfrm>
            <a:custGeom>
              <a:avLst/>
              <a:gdLst/>
              <a:ahLst/>
              <a:rect l="0" t="0" r="r" b="b"/>
              <a:pathLst>
                <a:path w="292" h="1531">
                  <a:moveTo>
                    <a:pt x="154" y="244"/>
                  </a:moveTo>
                  <a:lnTo>
                    <a:pt x="0" y="115"/>
                  </a:lnTo>
                  <a:lnTo>
                    <a:pt x="0" y="1531"/>
                  </a:lnTo>
                  <a:lnTo>
                    <a:pt x="292" y="1531"/>
                  </a:lnTo>
                  <a:lnTo>
                    <a:pt x="292" y="115"/>
                  </a:lnTo>
                  <a:lnTo>
                    <a:pt x="154" y="0"/>
                  </a:lnTo>
                  <a:lnTo>
                    <a:pt x="292" y="115"/>
                  </a:lnTo>
                  <a:lnTo>
                    <a:pt x="292" y="0"/>
                  </a:lnTo>
                  <a:lnTo>
                    <a:pt x="154" y="0"/>
                  </a:lnTo>
                  <a:lnTo>
                    <a:pt x="154" y="2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42080" y="5688000"/>
              <a:ext cx="1808640" cy="89280"/>
            </a:xfrm>
            <a:custGeom>
              <a:avLst/>
              <a:gdLst/>
              <a:ahLst/>
              <a:rect l="0" t="0" r="r" b="b"/>
              <a:pathLst>
                <a:path w="5024" h="248">
                  <a:moveTo>
                    <a:pt x="304" y="117"/>
                  </a:moveTo>
                  <a:lnTo>
                    <a:pt x="152" y="248"/>
                  </a:lnTo>
                  <a:lnTo>
                    <a:pt x="5024" y="248"/>
                  </a:lnTo>
                  <a:lnTo>
                    <a:pt x="5024" y="0"/>
                  </a:lnTo>
                  <a:lnTo>
                    <a:pt x="152" y="0"/>
                  </a:lnTo>
                  <a:lnTo>
                    <a:pt x="0" y="117"/>
                  </a:lnTo>
                  <a:lnTo>
                    <a:pt x="152" y="0"/>
                  </a:lnTo>
                  <a:lnTo>
                    <a:pt x="0" y="0"/>
                  </a:lnTo>
                  <a:lnTo>
                    <a:pt x="0" y="117"/>
                  </a:lnTo>
                  <a:lnTo>
                    <a:pt x="304" y="1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4280" bIns="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742080" y="5729400"/>
              <a:ext cx="109800" cy="555840"/>
            </a:xfrm>
            <a:custGeom>
              <a:avLst/>
              <a:gdLst/>
              <a:ahLst/>
              <a:rect l="0" t="0" r="r" b="b"/>
              <a:pathLst>
                <a:path w="305" h="1544">
                  <a:moveTo>
                    <a:pt x="153" y="1287"/>
                  </a:moveTo>
                  <a:lnTo>
                    <a:pt x="305" y="1415"/>
                  </a:lnTo>
                  <a:lnTo>
                    <a:pt x="305" y="0"/>
                  </a:lnTo>
                  <a:lnTo>
                    <a:pt x="0" y="0"/>
                  </a:lnTo>
                  <a:lnTo>
                    <a:pt x="0" y="1415"/>
                  </a:lnTo>
                  <a:lnTo>
                    <a:pt x="153" y="1544"/>
                  </a:lnTo>
                  <a:lnTo>
                    <a:pt x="0" y="1415"/>
                  </a:lnTo>
                  <a:lnTo>
                    <a:pt x="0" y="1544"/>
                  </a:lnTo>
                  <a:lnTo>
                    <a:pt x="153" y="1544"/>
                  </a:lnTo>
                  <a:lnTo>
                    <a:pt x="153" y="1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99320" y="6192720"/>
              <a:ext cx="1802160" cy="92520"/>
            </a:xfrm>
            <a:custGeom>
              <a:avLst/>
              <a:gdLst/>
              <a:ahLst/>
              <a:rect l="0" t="0" r="r" b="b"/>
              <a:pathLst>
                <a:path w="5006" h="257">
                  <a:moveTo>
                    <a:pt x="4716" y="128"/>
                  </a:moveTo>
                  <a:lnTo>
                    <a:pt x="4869" y="0"/>
                  </a:lnTo>
                  <a:lnTo>
                    <a:pt x="0" y="0"/>
                  </a:lnTo>
                  <a:lnTo>
                    <a:pt x="0" y="257"/>
                  </a:lnTo>
                  <a:lnTo>
                    <a:pt x="4869" y="257"/>
                  </a:lnTo>
                  <a:lnTo>
                    <a:pt x="5006" y="128"/>
                  </a:lnTo>
                  <a:lnTo>
                    <a:pt x="4869" y="257"/>
                  </a:lnTo>
                  <a:lnTo>
                    <a:pt x="5006" y="257"/>
                  </a:lnTo>
                  <a:lnTo>
                    <a:pt x="5006" y="128"/>
                  </a:lnTo>
                  <a:lnTo>
                    <a:pt x="4716" y="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050840" y="5897520"/>
              <a:ext cx="149760" cy="120960"/>
            </a:xfrm>
            <a:custGeom>
              <a:avLst/>
              <a:gdLst/>
              <a:ahLst/>
              <a:rect l="0" t="0" r="r" b="b"/>
              <a:pathLst>
                <a:path w="416" h="336">
                  <a:moveTo>
                    <a:pt x="416" y="336"/>
                  </a:moveTo>
                  <a:lnTo>
                    <a:pt x="416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416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287360" y="5897520"/>
              <a:ext cx="143280" cy="120960"/>
            </a:xfrm>
            <a:custGeom>
              <a:avLst/>
              <a:gdLst/>
              <a:ahLst/>
              <a:rect l="0" t="0" r="r" b="b"/>
              <a:pathLst>
                <a:path w="398" h="336">
                  <a:moveTo>
                    <a:pt x="398" y="336"/>
                  </a:moveTo>
                  <a:lnTo>
                    <a:pt x="398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398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514520" y="5897520"/>
              <a:ext cx="146520" cy="120960"/>
            </a:xfrm>
            <a:custGeom>
              <a:avLst/>
              <a:gdLst/>
              <a:ahLst/>
              <a:rect l="0" t="0" r="r" b="b"/>
              <a:pathLst>
                <a:path w="407" h="336">
                  <a:moveTo>
                    <a:pt x="407" y="336"/>
                  </a:moveTo>
                  <a:lnTo>
                    <a:pt x="407" y="0"/>
                  </a:lnTo>
                  <a:lnTo>
                    <a:pt x="0" y="0"/>
                  </a:lnTo>
                  <a:lnTo>
                    <a:pt x="0" y="336"/>
                  </a:lnTo>
                  <a:lnTo>
                    <a:pt x="407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817640" y="5830920"/>
              <a:ext cx="93960" cy="246600"/>
            </a:xfrm>
            <a:custGeom>
              <a:avLst/>
              <a:gdLst/>
              <a:ahLst/>
              <a:rect l="0" t="0" r="r" b="b"/>
              <a:pathLst>
                <a:path w="261" h="685">
                  <a:moveTo>
                    <a:pt x="261" y="685"/>
                  </a:moveTo>
                  <a:lnTo>
                    <a:pt x="261" y="0"/>
                  </a:lnTo>
                  <a:lnTo>
                    <a:pt x="0" y="0"/>
                  </a:lnTo>
                  <a:lnTo>
                    <a:pt x="0" y="685"/>
                  </a:lnTo>
                  <a:lnTo>
                    <a:pt x="261" y="6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899480" y="5897520"/>
              <a:ext cx="143280" cy="120960"/>
            </a:xfrm>
            <a:custGeom>
              <a:avLst/>
              <a:gdLst/>
              <a:ahLst/>
              <a:rect l="0" t="0" r="r" b="b"/>
              <a:pathLst>
                <a:path w="398" h="336">
                  <a:moveTo>
                    <a:pt x="0" y="336"/>
                  </a:moveTo>
                  <a:lnTo>
                    <a:pt x="0" y="0"/>
                  </a:lnTo>
                  <a:lnTo>
                    <a:pt x="398" y="0"/>
                  </a:lnTo>
                  <a:lnTo>
                    <a:pt x="398" y="336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661160" y="5897520"/>
              <a:ext cx="152640" cy="120960"/>
            </a:xfrm>
            <a:custGeom>
              <a:avLst/>
              <a:gdLst/>
              <a:ahLst/>
              <a:rect l="0" t="0" r="r" b="b"/>
              <a:pathLst>
                <a:path w="424" h="336">
                  <a:moveTo>
                    <a:pt x="0" y="336"/>
                  </a:moveTo>
                  <a:lnTo>
                    <a:pt x="0" y="0"/>
                  </a:lnTo>
                  <a:lnTo>
                    <a:pt x="424" y="0"/>
                  </a:lnTo>
                  <a:lnTo>
                    <a:pt x="424" y="336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439040" y="5897520"/>
              <a:ext cx="147960" cy="120960"/>
            </a:xfrm>
            <a:custGeom>
              <a:avLst/>
              <a:gdLst/>
              <a:ahLst/>
              <a:rect l="0" t="0" r="r" b="b"/>
              <a:pathLst>
                <a:path w="411" h="336">
                  <a:moveTo>
                    <a:pt x="0" y="336"/>
                  </a:moveTo>
                  <a:lnTo>
                    <a:pt x="0" y="0"/>
                  </a:lnTo>
                  <a:lnTo>
                    <a:pt x="411" y="0"/>
                  </a:lnTo>
                  <a:lnTo>
                    <a:pt x="411" y="336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88120" y="5830920"/>
              <a:ext cx="93960" cy="246600"/>
            </a:xfrm>
            <a:custGeom>
              <a:avLst/>
              <a:gdLst/>
              <a:ahLst/>
              <a:rect l="0" t="0" r="r" b="b"/>
              <a:pathLst>
                <a:path w="261" h="685">
                  <a:moveTo>
                    <a:pt x="0" y="685"/>
                  </a:moveTo>
                  <a:lnTo>
                    <a:pt x="0" y="0"/>
                  </a:lnTo>
                  <a:lnTo>
                    <a:pt x="261" y="0"/>
                  </a:lnTo>
                  <a:lnTo>
                    <a:pt x="261" y="685"/>
                  </a:lnTo>
                  <a:lnTo>
                    <a:pt x="0" y="6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975040" y="5751360"/>
              <a:ext cx="784440" cy="284400"/>
            </a:xfrm>
            <a:custGeom>
              <a:avLst/>
              <a:gdLst/>
              <a:ahLst/>
              <a:rect l="0" t="0" r="r" b="b"/>
              <a:pathLst>
                <a:path w="2179" h="790">
                  <a:moveTo>
                    <a:pt x="2179" y="790"/>
                  </a:moveTo>
                  <a:lnTo>
                    <a:pt x="2179" y="0"/>
                  </a:lnTo>
                  <a:lnTo>
                    <a:pt x="0" y="0"/>
                  </a:lnTo>
                  <a:lnTo>
                    <a:pt x="0" y="790"/>
                  </a:lnTo>
                  <a:lnTo>
                    <a:pt x="2179" y="790"/>
                  </a:lnTo>
                  <a:close/>
                </a:path>
              </a:pathLst>
            </a:custGeom>
            <a:solidFill>
              <a:srgbClr val="c7be8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710160" y="5705640"/>
              <a:ext cx="101880" cy="330480"/>
            </a:xfrm>
            <a:custGeom>
              <a:avLst/>
              <a:gdLst/>
              <a:ahLst/>
              <a:rect l="0" t="0" r="r" b="b"/>
              <a:pathLst>
                <a:path w="283" h="918">
                  <a:moveTo>
                    <a:pt x="133" y="258"/>
                  </a:moveTo>
                  <a:lnTo>
                    <a:pt x="0" y="129"/>
                  </a:lnTo>
                  <a:lnTo>
                    <a:pt x="0" y="918"/>
                  </a:lnTo>
                  <a:lnTo>
                    <a:pt x="283" y="918"/>
                  </a:lnTo>
                  <a:lnTo>
                    <a:pt x="283" y="129"/>
                  </a:lnTo>
                  <a:lnTo>
                    <a:pt x="133" y="0"/>
                  </a:lnTo>
                  <a:lnTo>
                    <a:pt x="283" y="129"/>
                  </a:lnTo>
                  <a:lnTo>
                    <a:pt x="283" y="0"/>
                  </a:lnTo>
                  <a:lnTo>
                    <a:pt x="133" y="0"/>
                  </a:lnTo>
                  <a:lnTo>
                    <a:pt x="133" y="2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925720" y="5705640"/>
              <a:ext cx="833760" cy="93960"/>
            </a:xfrm>
            <a:custGeom>
              <a:avLst/>
              <a:gdLst/>
              <a:ahLst/>
              <a:rect l="0" t="0" r="r" b="b"/>
              <a:pathLst>
                <a:path w="2316" h="261">
                  <a:moveTo>
                    <a:pt x="289" y="131"/>
                  </a:moveTo>
                  <a:lnTo>
                    <a:pt x="137" y="261"/>
                  </a:lnTo>
                  <a:lnTo>
                    <a:pt x="2316" y="261"/>
                  </a:lnTo>
                  <a:lnTo>
                    <a:pt x="2316" y="0"/>
                  </a:lnTo>
                  <a:lnTo>
                    <a:pt x="137" y="0"/>
                  </a:lnTo>
                  <a:lnTo>
                    <a:pt x="0" y="131"/>
                  </a:lnTo>
                  <a:lnTo>
                    <a:pt x="137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289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925720" y="5751360"/>
              <a:ext cx="105120" cy="327240"/>
            </a:xfrm>
            <a:custGeom>
              <a:avLst/>
              <a:gdLst/>
              <a:ahLst/>
              <a:rect l="0" t="0" r="r" b="b"/>
              <a:pathLst>
                <a:path w="292" h="909">
                  <a:moveTo>
                    <a:pt x="137" y="653"/>
                  </a:moveTo>
                  <a:lnTo>
                    <a:pt x="292" y="781"/>
                  </a:lnTo>
                  <a:lnTo>
                    <a:pt x="292" y="0"/>
                  </a:lnTo>
                  <a:lnTo>
                    <a:pt x="0" y="0"/>
                  </a:lnTo>
                  <a:lnTo>
                    <a:pt x="0" y="781"/>
                  </a:lnTo>
                  <a:lnTo>
                    <a:pt x="137" y="909"/>
                  </a:lnTo>
                  <a:lnTo>
                    <a:pt x="0" y="781"/>
                  </a:lnTo>
                  <a:lnTo>
                    <a:pt x="0" y="909"/>
                  </a:lnTo>
                  <a:lnTo>
                    <a:pt x="137" y="909"/>
                  </a:lnTo>
                  <a:lnTo>
                    <a:pt x="137" y="6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975040" y="5987880"/>
              <a:ext cx="837000" cy="90720"/>
            </a:xfrm>
            <a:custGeom>
              <a:avLst/>
              <a:gdLst/>
              <a:ahLst/>
              <a:rect l="0" t="0" r="r" b="b"/>
              <a:pathLst>
                <a:path w="2325" h="252">
                  <a:moveTo>
                    <a:pt x="2037" y="125"/>
                  </a:moveTo>
                  <a:lnTo>
                    <a:pt x="2174" y="0"/>
                  </a:lnTo>
                  <a:lnTo>
                    <a:pt x="0" y="0"/>
                  </a:lnTo>
                  <a:lnTo>
                    <a:pt x="0" y="252"/>
                  </a:lnTo>
                  <a:lnTo>
                    <a:pt x="2174" y="252"/>
                  </a:lnTo>
                  <a:lnTo>
                    <a:pt x="2325" y="125"/>
                  </a:lnTo>
                  <a:lnTo>
                    <a:pt x="2174" y="252"/>
                  </a:lnTo>
                  <a:lnTo>
                    <a:pt x="2325" y="252"/>
                  </a:lnTo>
                  <a:lnTo>
                    <a:pt x="2325" y="125"/>
                  </a:lnTo>
                  <a:lnTo>
                    <a:pt x="2037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226120" y="5751360"/>
              <a:ext cx="778320" cy="284400"/>
            </a:xfrm>
            <a:custGeom>
              <a:avLst/>
              <a:gdLst/>
              <a:ahLst/>
              <a:rect l="0" t="0" r="r" b="b"/>
              <a:pathLst>
                <a:path w="2162" h="790">
                  <a:moveTo>
                    <a:pt x="2162" y="790"/>
                  </a:moveTo>
                  <a:lnTo>
                    <a:pt x="2162" y="0"/>
                  </a:lnTo>
                  <a:lnTo>
                    <a:pt x="0" y="0"/>
                  </a:lnTo>
                  <a:lnTo>
                    <a:pt x="0" y="790"/>
                  </a:lnTo>
                  <a:lnTo>
                    <a:pt x="2162" y="790"/>
                  </a:lnTo>
                  <a:close/>
                </a:path>
              </a:pathLst>
            </a:custGeom>
            <a:solidFill>
              <a:srgbClr val="c7be8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946840" y="5705640"/>
              <a:ext cx="106560" cy="330480"/>
            </a:xfrm>
            <a:custGeom>
              <a:avLst/>
              <a:gdLst/>
              <a:ahLst/>
              <a:rect l="0" t="0" r="r" b="b"/>
              <a:pathLst>
                <a:path w="296" h="918">
                  <a:moveTo>
                    <a:pt x="156" y="258"/>
                  </a:moveTo>
                  <a:lnTo>
                    <a:pt x="0" y="129"/>
                  </a:lnTo>
                  <a:lnTo>
                    <a:pt x="0" y="918"/>
                  </a:lnTo>
                  <a:lnTo>
                    <a:pt x="296" y="918"/>
                  </a:lnTo>
                  <a:lnTo>
                    <a:pt x="296" y="129"/>
                  </a:lnTo>
                  <a:lnTo>
                    <a:pt x="156" y="0"/>
                  </a:lnTo>
                  <a:lnTo>
                    <a:pt x="296" y="129"/>
                  </a:lnTo>
                  <a:lnTo>
                    <a:pt x="296" y="0"/>
                  </a:lnTo>
                  <a:lnTo>
                    <a:pt x="156" y="0"/>
                  </a:lnTo>
                  <a:lnTo>
                    <a:pt x="156" y="2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168880" y="5705640"/>
              <a:ext cx="835560" cy="93960"/>
            </a:xfrm>
            <a:custGeom>
              <a:avLst/>
              <a:gdLst/>
              <a:ahLst/>
              <a:rect l="0" t="0" r="r" b="b"/>
              <a:pathLst>
                <a:path w="2321" h="261">
                  <a:moveTo>
                    <a:pt x="305" y="131"/>
                  </a:moveTo>
                  <a:lnTo>
                    <a:pt x="152" y="261"/>
                  </a:lnTo>
                  <a:lnTo>
                    <a:pt x="2321" y="261"/>
                  </a:lnTo>
                  <a:lnTo>
                    <a:pt x="2321" y="0"/>
                  </a:lnTo>
                  <a:lnTo>
                    <a:pt x="152" y="0"/>
                  </a:lnTo>
                  <a:lnTo>
                    <a:pt x="0" y="131"/>
                  </a:lnTo>
                  <a:lnTo>
                    <a:pt x="152" y="0"/>
                  </a:lnTo>
                  <a:lnTo>
                    <a:pt x="0" y="0"/>
                  </a:lnTo>
                  <a:lnTo>
                    <a:pt x="0" y="131"/>
                  </a:lnTo>
                  <a:lnTo>
                    <a:pt x="305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168880" y="5751360"/>
              <a:ext cx="114840" cy="327240"/>
            </a:xfrm>
            <a:custGeom>
              <a:avLst/>
              <a:gdLst/>
              <a:ahLst/>
              <a:rect l="0" t="0" r="r" b="b"/>
              <a:pathLst>
                <a:path w="319" h="909">
                  <a:moveTo>
                    <a:pt x="159" y="653"/>
                  </a:moveTo>
                  <a:lnTo>
                    <a:pt x="319" y="781"/>
                  </a:lnTo>
                  <a:lnTo>
                    <a:pt x="319" y="0"/>
                  </a:lnTo>
                  <a:lnTo>
                    <a:pt x="0" y="0"/>
                  </a:lnTo>
                  <a:lnTo>
                    <a:pt x="0" y="781"/>
                  </a:lnTo>
                  <a:lnTo>
                    <a:pt x="159" y="909"/>
                  </a:lnTo>
                  <a:lnTo>
                    <a:pt x="0" y="781"/>
                  </a:lnTo>
                  <a:lnTo>
                    <a:pt x="0" y="909"/>
                  </a:lnTo>
                  <a:lnTo>
                    <a:pt x="159" y="909"/>
                  </a:lnTo>
                  <a:lnTo>
                    <a:pt x="159" y="6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226120" y="5987880"/>
              <a:ext cx="827280" cy="90720"/>
            </a:xfrm>
            <a:custGeom>
              <a:avLst/>
              <a:gdLst/>
              <a:ahLst/>
              <a:rect l="0" t="0" r="r" b="b"/>
              <a:pathLst>
                <a:path w="2298" h="252">
                  <a:moveTo>
                    <a:pt x="2009" y="125"/>
                  </a:moveTo>
                  <a:lnTo>
                    <a:pt x="2161" y="0"/>
                  </a:lnTo>
                  <a:lnTo>
                    <a:pt x="0" y="0"/>
                  </a:lnTo>
                  <a:lnTo>
                    <a:pt x="0" y="252"/>
                  </a:lnTo>
                  <a:lnTo>
                    <a:pt x="2161" y="252"/>
                  </a:lnTo>
                  <a:lnTo>
                    <a:pt x="2298" y="125"/>
                  </a:lnTo>
                  <a:lnTo>
                    <a:pt x="2161" y="252"/>
                  </a:lnTo>
                  <a:lnTo>
                    <a:pt x="2298" y="252"/>
                  </a:lnTo>
                  <a:lnTo>
                    <a:pt x="2298" y="125"/>
                  </a:lnTo>
                  <a:lnTo>
                    <a:pt x="2009" y="1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049560" y="5816520"/>
              <a:ext cx="2865960" cy="993960"/>
            </a:xfrm>
            <a:custGeom>
              <a:avLst/>
              <a:gdLst/>
              <a:ahLst/>
              <a:rect l="0" t="0" r="r" b="b"/>
              <a:pathLst>
                <a:path w="7961" h="2761">
                  <a:moveTo>
                    <a:pt x="6941" y="2761"/>
                  </a:moveTo>
                  <a:lnTo>
                    <a:pt x="7246" y="2735"/>
                  </a:lnTo>
                  <a:lnTo>
                    <a:pt x="7489" y="2645"/>
                  </a:lnTo>
                  <a:lnTo>
                    <a:pt x="7672" y="2516"/>
                  </a:lnTo>
                  <a:lnTo>
                    <a:pt x="7794" y="2361"/>
                  </a:lnTo>
                  <a:lnTo>
                    <a:pt x="7885" y="2206"/>
                  </a:lnTo>
                  <a:lnTo>
                    <a:pt x="7931" y="2052"/>
                  </a:lnTo>
                  <a:lnTo>
                    <a:pt x="7961" y="1910"/>
                  </a:lnTo>
                  <a:lnTo>
                    <a:pt x="7961" y="1819"/>
                  </a:lnTo>
                  <a:lnTo>
                    <a:pt x="7915" y="1471"/>
                  </a:lnTo>
                  <a:lnTo>
                    <a:pt x="7794" y="928"/>
                  </a:lnTo>
                  <a:lnTo>
                    <a:pt x="7687" y="425"/>
                  </a:lnTo>
                  <a:lnTo>
                    <a:pt x="7611" y="154"/>
                  </a:lnTo>
                  <a:lnTo>
                    <a:pt x="7596" y="103"/>
                  </a:lnTo>
                  <a:lnTo>
                    <a:pt x="7550" y="38"/>
                  </a:lnTo>
                  <a:lnTo>
                    <a:pt x="7504" y="12"/>
                  </a:lnTo>
                  <a:lnTo>
                    <a:pt x="7428" y="0"/>
                  </a:lnTo>
                  <a:lnTo>
                    <a:pt x="7398" y="0"/>
                  </a:lnTo>
                  <a:lnTo>
                    <a:pt x="7337" y="0"/>
                  </a:lnTo>
                  <a:lnTo>
                    <a:pt x="7231" y="0"/>
                  </a:lnTo>
                  <a:lnTo>
                    <a:pt x="7124" y="0"/>
                  </a:lnTo>
                  <a:lnTo>
                    <a:pt x="6987" y="0"/>
                  </a:lnTo>
                  <a:lnTo>
                    <a:pt x="6865" y="0"/>
                  </a:lnTo>
                  <a:lnTo>
                    <a:pt x="6789" y="0"/>
                  </a:lnTo>
                  <a:lnTo>
                    <a:pt x="6728" y="0"/>
                  </a:lnTo>
                  <a:lnTo>
                    <a:pt x="6652" y="25"/>
                  </a:lnTo>
                  <a:lnTo>
                    <a:pt x="6607" y="90"/>
                  </a:lnTo>
                  <a:lnTo>
                    <a:pt x="6576" y="154"/>
                  </a:lnTo>
                  <a:lnTo>
                    <a:pt x="6561" y="257"/>
                  </a:lnTo>
                  <a:lnTo>
                    <a:pt x="6576" y="477"/>
                  </a:lnTo>
                  <a:lnTo>
                    <a:pt x="6637" y="812"/>
                  </a:lnTo>
                  <a:lnTo>
                    <a:pt x="6683" y="1135"/>
                  </a:lnTo>
                  <a:lnTo>
                    <a:pt x="6698" y="1315"/>
                  </a:lnTo>
                  <a:lnTo>
                    <a:pt x="6698" y="1354"/>
                  </a:lnTo>
                  <a:lnTo>
                    <a:pt x="6698" y="1432"/>
                  </a:lnTo>
                  <a:lnTo>
                    <a:pt x="6683" y="1536"/>
                  </a:lnTo>
                  <a:lnTo>
                    <a:pt x="6652" y="1613"/>
                  </a:lnTo>
                  <a:lnTo>
                    <a:pt x="6591" y="1716"/>
                  </a:lnTo>
                  <a:lnTo>
                    <a:pt x="6470" y="1794"/>
                  </a:lnTo>
                  <a:lnTo>
                    <a:pt x="6317" y="1858"/>
                  </a:lnTo>
                  <a:lnTo>
                    <a:pt x="6104" y="1871"/>
                  </a:lnTo>
                  <a:lnTo>
                    <a:pt x="1841" y="1871"/>
                  </a:lnTo>
                  <a:lnTo>
                    <a:pt x="1643" y="1858"/>
                  </a:lnTo>
                  <a:lnTo>
                    <a:pt x="1476" y="1794"/>
                  </a:lnTo>
                  <a:lnTo>
                    <a:pt x="1369" y="1716"/>
                  </a:lnTo>
                  <a:lnTo>
                    <a:pt x="1308" y="1613"/>
                  </a:lnTo>
                  <a:lnTo>
                    <a:pt x="1247" y="1536"/>
                  </a:lnTo>
                  <a:lnTo>
                    <a:pt x="1232" y="1432"/>
                  </a:lnTo>
                  <a:lnTo>
                    <a:pt x="1232" y="1354"/>
                  </a:lnTo>
                  <a:lnTo>
                    <a:pt x="1232" y="1315"/>
                  </a:lnTo>
                  <a:lnTo>
                    <a:pt x="1278" y="1135"/>
                  </a:lnTo>
                  <a:lnTo>
                    <a:pt x="1324" y="812"/>
                  </a:lnTo>
                  <a:lnTo>
                    <a:pt x="1369" y="477"/>
                  </a:lnTo>
                  <a:lnTo>
                    <a:pt x="1400" y="257"/>
                  </a:lnTo>
                  <a:lnTo>
                    <a:pt x="1384" y="154"/>
                  </a:lnTo>
                  <a:lnTo>
                    <a:pt x="1354" y="90"/>
                  </a:lnTo>
                  <a:lnTo>
                    <a:pt x="1308" y="25"/>
                  </a:lnTo>
                  <a:lnTo>
                    <a:pt x="1217" y="0"/>
                  </a:lnTo>
                  <a:lnTo>
                    <a:pt x="1156" y="0"/>
                  </a:lnTo>
                  <a:lnTo>
                    <a:pt x="1065" y="0"/>
                  </a:lnTo>
                  <a:lnTo>
                    <a:pt x="958" y="0"/>
                  </a:lnTo>
                  <a:lnTo>
                    <a:pt x="821" y="0"/>
                  </a:lnTo>
                  <a:lnTo>
                    <a:pt x="700" y="0"/>
                  </a:lnTo>
                  <a:lnTo>
                    <a:pt x="608" y="0"/>
                  </a:lnTo>
                  <a:lnTo>
                    <a:pt x="547" y="0"/>
                  </a:lnTo>
                  <a:lnTo>
                    <a:pt x="502" y="0"/>
                  </a:lnTo>
                  <a:lnTo>
                    <a:pt x="441" y="12"/>
                  </a:lnTo>
                  <a:lnTo>
                    <a:pt x="395" y="38"/>
                  </a:lnTo>
                  <a:lnTo>
                    <a:pt x="365" y="103"/>
                  </a:lnTo>
                  <a:lnTo>
                    <a:pt x="319" y="154"/>
                  </a:lnTo>
                  <a:lnTo>
                    <a:pt x="258" y="425"/>
                  </a:lnTo>
                  <a:lnTo>
                    <a:pt x="152" y="928"/>
                  </a:lnTo>
                  <a:lnTo>
                    <a:pt x="45" y="1471"/>
                  </a:lnTo>
                  <a:lnTo>
                    <a:pt x="0" y="1819"/>
                  </a:lnTo>
                  <a:lnTo>
                    <a:pt x="0" y="1910"/>
                  </a:lnTo>
                  <a:lnTo>
                    <a:pt x="30" y="2052"/>
                  </a:lnTo>
                  <a:lnTo>
                    <a:pt x="76" y="2206"/>
                  </a:lnTo>
                  <a:lnTo>
                    <a:pt x="152" y="2361"/>
                  </a:lnTo>
                  <a:lnTo>
                    <a:pt x="289" y="2516"/>
                  </a:lnTo>
                  <a:lnTo>
                    <a:pt x="471" y="2645"/>
                  </a:lnTo>
                  <a:lnTo>
                    <a:pt x="700" y="2735"/>
                  </a:lnTo>
                  <a:lnTo>
                    <a:pt x="1019" y="2761"/>
                  </a:lnTo>
                  <a:lnTo>
                    <a:pt x="6941" y="27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548320" y="6472080"/>
              <a:ext cx="422640" cy="384480"/>
            </a:xfrm>
            <a:custGeom>
              <a:avLst/>
              <a:gdLst/>
              <a:ahLst/>
              <a:rect l="0" t="0" r="r" b="b"/>
              <a:pathLst>
                <a:path w="1174" h="1068">
                  <a:moveTo>
                    <a:pt x="885" y="0"/>
                  </a:moveTo>
                  <a:lnTo>
                    <a:pt x="885" y="0"/>
                  </a:lnTo>
                  <a:lnTo>
                    <a:pt x="885" y="77"/>
                  </a:lnTo>
                  <a:lnTo>
                    <a:pt x="838" y="205"/>
                  </a:lnTo>
                  <a:lnTo>
                    <a:pt x="808" y="347"/>
                  </a:lnTo>
                  <a:lnTo>
                    <a:pt x="732" y="488"/>
                  </a:lnTo>
                  <a:lnTo>
                    <a:pt x="625" y="618"/>
                  </a:lnTo>
                  <a:lnTo>
                    <a:pt x="473" y="708"/>
                  </a:lnTo>
                  <a:lnTo>
                    <a:pt x="274" y="785"/>
                  </a:lnTo>
                  <a:lnTo>
                    <a:pt x="0" y="811"/>
                  </a:lnTo>
                  <a:lnTo>
                    <a:pt x="0" y="1068"/>
                  </a:lnTo>
                  <a:lnTo>
                    <a:pt x="351" y="1042"/>
                  </a:lnTo>
                  <a:lnTo>
                    <a:pt x="610" y="939"/>
                  </a:lnTo>
                  <a:lnTo>
                    <a:pt x="823" y="785"/>
                  </a:lnTo>
                  <a:lnTo>
                    <a:pt x="992" y="605"/>
                  </a:lnTo>
                  <a:lnTo>
                    <a:pt x="1083" y="437"/>
                  </a:lnTo>
                  <a:lnTo>
                    <a:pt x="1144" y="257"/>
                  </a:lnTo>
                  <a:lnTo>
                    <a:pt x="1174" y="102"/>
                  </a:lnTo>
                  <a:lnTo>
                    <a:pt x="1174" y="0"/>
                  </a:lnTo>
                  <a:lnTo>
                    <a:pt x="1174" y="0"/>
                  </a:lnTo>
                  <a:lnTo>
                    <a:pt x="88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742000" y="5864400"/>
              <a:ext cx="228960" cy="608400"/>
            </a:xfrm>
            <a:custGeom>
              <a:avLst/>
              <a:gdLst/>
              <a:ahLst/>
              <a:rect l="0" t="0" r="r" b="b"/>
              <a:pathLst>
                <a:path w="636" h="1690">
                  <a:moveTo>
                    <a:pt x="0" y="38"/>
                  </a:moveTo>
                  <a:lnTo>
                    <a:pt x="0" y="51"/>
                  </a:lnTo>
                  <a:lnTo>
                    <a:pt x="60" y="309"/>
                  </a:lnTo>
                  <a:lnTo>
                    <a:pt x="181" y="826"/>
                  </a:lnTo>
                  <a:lnTo>
                    <a:pt x="287" y="1355"/>
                  </a:lnTo>
                  <a:lnTo>
                    <a:pt x="348" y="1690"/>
                  </a:lnTo>
                  <a:lnTo>
                    <a:pt x="636" y="1690"/>
                  </a:lnTo>
                  <a:lnTo>
                    <a:pt x="590" y="1329"/>
                  </a:lnTo>
                  <a:lnTo>
                    <a:pt x="469" y="787"/>
                  </a:lnTo>
                  <a:lnTo>
                    <a:pt x="363" y="283"/>
                  </a:lnTo>
                  <a:lnTo>
                    <a:pt x="287" y="0"/>
                  </a:lnTo>
                  <a:lnTo>
                    <a:pt x="287" y="12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726160" y="5770440"/>
              <a:ext cx="117720" cy="106560"/>
            </a:xfrm>
            <a:custGeom>
              <a:avLst/>
              <a:gdLst/>
              <a:ahLst/>
              <a:rect l="0" t="0" r="r" b="b"/>
              <a:pathLst>
                <a:path w="327" h="296">
                  <a:moveTo>
                    <a:pt x="0" y="257"/>
                  </a:moveTo>
                  <a:lnTo>
                    <a:pt x="0" y="257"/>
                  </a:lnTo>
                  <a:lnTo>
                    <a:pt x="29" y="257"/>
                  </a:lnTo>
                  <a:lnTo>
                    <a:pt x="29" y="257"/>
                  </a:lnTo>
                  <a:lnTo>
                    <a:pt x="44" y="283"/>
                  </a:lnTo>
                  <a:lnTo>
                    <a:pt x="44" y="296"/>
                  </a:lnTo>
                  <a:lnTo>
                    <a:pt x="327" y="270"/>
                  </a:lnTo>
                  <a:lnTo>
                    <a:pt x="297" y="167"/>
                  </a:lnTo>
                  <a:lnTo>
                    <a:pt x="223" y="89"/>
                  </a:lnTo>
                  <a:lnTo>
                    <a:pt x="118" y="2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473800" y="5770440"/>
              <a:ext cx="252720" cy="93960"/>
            </a:xfrm>
            <a:custGeom>
              <a:avLst/>
              <a:gdLst/>
              <a:ahLst/>
              <a:rect l="0" t="0" r="r" b="b"/>
              <a:pathLst>
                <a:path w="702" h="261">
                  <a:moveTo>
                    <a:pt x="0" y="261"/>
                  </a:moveTo>
                  <a:lnTo>
                    <a:pt x="0" y="261"/>
                  </a:lnTo>
                  <a:lnTo>
                    <a:pt x="60" y="261"/>
                  </a:lnTo>
                  <a:lnTo>
                    <a:pt x="137" y="261"/>
                  </a:lnTo>
                  <a:lnTo>
                    <a:pt x="259" y="261"/>
                  </a:lnTo>
                  <a:lnTo>
                    <a:pt x="397" y="261"/>
                  </a:lnTo>
                  <a:lnTo>
                    <a:pt x="503" y="261"/>
                  </a:lnTo>
                  <a:lnTo>
                    <a:pt x="610" y="261"/>
                  </a:lnTo>
                  <a:lnTo>
                    <a:pt x="671" y="261"/>
                  </a:lnTo>
                  <a:lnTo>
                    <a:pt x="702" y="261"/>
                  </a:lnTo>
                  <a:lnTo>
                    <a:pt x="702" y="0"/>
                  </a:lnTo>
                  <a:lnTo>
                    <a:pt x="671" y="0"/>
                  </a:lnTo>
                  <a:lnTo>
                    <a:pt x="610" y="0"/>
                  </a:lnTo>
                  <a:lnTo>
                    <a:pt x="503" y="0"/>
                  </a:lnTo>
                  <a:lnTo>
                    <a:pt x="397" y="0"/>
                  </a:lnTo>
                  <a:lnTo>
                    <a:pt x="259" y="0"/>
                  </a:lnTo>
                  <a:lnTo>
                    <a:pt x="137" y="0"/>
                  </a:lnTo>
                  <a:lnTo>
                    <a:pt x="6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357880" y="5770440"/>
              <a:ext cx="125640" cy="141480"/>
            </a:xfrm>
            <a:custGeom>
              <a:avLst/>
              <a:gdLst/>
              <a:ahLst/>
              <a:rect l="0" t="0" r="r" b="b"/>
              <a:pathLst>
                <a:path w="349" h="393">
                  <a:moveTo>
                    <a:pt x="288" y="393"/>
                  </a:moveTo>
                  <a:lnTo>
                    <a:pt x="288" y="393"/>
                  </a:lnTo>
                  <a:lnTo>
                    <a:pt x="319" y="314"/>
                  </a:lnTo>
                  <a:lnTo>
                    <a:pt x="334" y="275"/>
                  </a:lnTo>
                  <a:lnTo>
                    <a:pt x="349" y="262"/>
                  </a:lnTo>
                  <a:lnTo>
                    <a:pt x="319" y="262"/>
                  </a:lnTo>
                  <a:lnTo>
                    <a:pt x="319" y="0"/>
                  </a:lnTo>
                  <a:lnTo>
                    <a:pt x="151" y="65"/>
                  </a:lnTo>
                  <a:lnTo>
                    <a:pt x="60" y="156"/>
                  </a:lnTo>
                  <a:lnTo>
                    <a:pt x="15" y="262"/>
                  </a:lnTo>
                  <a:lnTo>
                    <a:pt x="0" y="393"/>
                  </a:lnTo>
                  <a:lnTo>
                    <a:pt x="0" y="393"/>
                  </a:lnTo>
                  <a:lnTo>
                    <a:pt x="288" y="3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357880" y="5911920"/>
              <a:ext cx="157680" cy="379800"/>
            </a:xfrm>
            <a:custGeom>
              <a:avLst/>
              <a:gdLst/>
              <a:ahLst/>
              <a:rect l="0" t="0" r="r" b="b"/>
              <a:pathLst>
                <a:path w="438" h="1055">
                  <a:moveTo>
                    <a:pt x="438" y="1055"/>
                  </a:moveTo>
                  <a:lnTo>
                    <a:pt x="438" y="1055"/>
                  </a:lnTo>
                  <a:lnTo>
                    <a:pt x="423" y="863"/>
                  </a:lnTo>
                  <a:lnTo>
                    <a:pt x="378" y="540"/>
                  </a:lnTo>
                  <a:lnTo>
                    <a:pt x="317" y="205"/>
                  </a:lnTo>
                  <a:lnTo>
                    <a:pt x="287" y="0"/>
                  </a:lnTo>
                  <a:lnTo>
                    <a:pt x="0" y="0"/>
                  </a:lnTo>
                  <a:lnTo>
                    <a:pt x="15" y="231"/>
                  </a:lnTo>
                  <a:lnTo>
                    <a:pt x="75" y="566"/>
                  </a:lnTo>
                  <a:lnTo>
                    <a:pt x="136" y="888"/>
                  </a:lnTo>
                  <a:lnTo>
                    <a:pt x="151" y="1055"/>
                  </a:lnTo>
                  <a:lnTo>
                    <a:pt x="151" y="1055"/>
                  </a:lnTo>
                  <a:lnTo>
                    <a:pt x="438" y="10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48440" y="6291360"/>
              <a:ext cx="267120" cy="248040"/>
            </a:xfrm>
            <a:custGeom>
              <a:avLst/>
              <a:gdLst/>
              <a:ahLst/>
              <a:rect l="0" t="0" r="r" b="b"/>
              <a:pathLst>
                <a:path w="742" h="689">
                  <a:moveTo>
                    <a:pt x="0" y="689"/>
                  </a:moveTo>
                  <a:lnTo>
                    <a:pt x="0" y="689"/>
                  </a:lnTo>
                  <a:lnTo>
                    <a:pt x="258" y="676"/>
                  </a:lnTo>
                  <a:lnTo>
                    <a:pt x="454" y="599"/>
                  </a:lnTo>
                  <a:lnTo>
                    <a:pt x="591" y="481"/>
                  </a:lnTo>
                  <a:lnTo>
                    <a:pt x="682" y="338"/>
                  </a:lnTo>
                  <a:lnTo>
                    <a:pt x="727" y="247"/>
                  </a:lnTo>
                  <a:lnTo>
                    <a:pt x="742" y="116"/>
                  </a:lnTo>
                  <a:lnTo>
                    <a:pt x="742" y="38"/>
                  </a:lnTo>
                  <a:lnTo>
                    <a:pt x="742" y="0"/>
                  </a:lnTo>
                  <a:lnTo>
                    <a:pt x="454" y="0"/>
                  </a:lnTo>
                  <a:lnTo>
                    <a:pt x="454" y="38"/>
                  </a:lnTo>
                  <a:lnTo>
                    <a:pt x="454" y="116"/>
                  </a:lnTo>
                  <a:lnTo>
                    <a:pt x="439" y="182"/>
                  </a:lnTo>
                  <a:lnTo>
                    <a:pt x="409" y="260"/>
                  </a:lnTo>
                  <a:lnTo>
                    <a:pt x="363" y="312"/>
                  </a:lnTo>
                  <a:lnTo>
                    <a:pt x="288" y="377"/>
                  </a:lnTo>
                  <a:lnTo>
                    <a:pt x="181" y="416"/>
                  </a:lnTo>
                  <a:lnTo>
                    <a:pt x="0" y="429"/>
                  </a:lnTo>
                  <a:lnTo>
                    <a:pt x="0" y="429"/>
                  </a:lnTo>
                  <a:lnTo>
                    <a:pt x="0" y="6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713040" y="6445080"/>
              <a:ext cx="1535400" cy="93960"/>
            </a:xfrm>
            <a:custGeom>
              <a:avLst/>
              <a:gdLst/>
              <a:ahLst/>
              <a:rect l="0" t="0" r="r" b="b"/>
              <a:pathLst>
                <a:path w="4265" h="261">
                  <a:moveTo>
                    <a:pt x="0" y="261"/>
                  </a:moveTo>
                  <a:lnTo>
                    <a:pt x="0" y="261"/>
                  </a:lnTo>
                  <a:lnTo>
                    <a:pt x="4265" y="261"/>
                  </a:lnTo>
                  <a:lnTo>
                    <a:pt x="426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448080" y="6291360"/>
              <a:ext cx="265320" cy="248040"/>
            </a:xfrm>
            <a:custGeom>
              <a:avLst/>
              <a:gdLst/>
              <a:ahLst/>
              <a:rect l="0" t="0" r="r" b="b"/>
              <a:pathLst>
                <a:path w="737" h="689">
                  <a:moveTo>
                    <a:pt x="0" y="0"/>
                  </a:moveTo>
                  <a:lnTo>
                    <a:pt x="0" y="0"/>
                  </a:lnTo>
                  <a:lnTo>
                    <a:pt x="0" y="38"/>
                  </a:lnTo>
                  <a:lnTo>
                    <a:pt x="0" y="116"/>
                  </a:lnTo>
                  <a:lnTo>
                    <a:pt x="15" y="247"/>
                  </a:lnTo>
                  <a:lnTo>
                    <a:pt x="75" y="364"/>
                  </a:lnTo>
                  <a:lnTo>
                    <a:pt x="150" y="468"/>
                  </a:lnTo>
                  <a:lnTo>
                    <a:pt x="285" y="599"/>
                  </a:lnTo>
                  <a:lnTo>
                    <a:pt x="496" y="676"/>
                  </a:lnTo>
                  <a:lnTo>
                    <a:pt x="737" y="689"/>
                  </a:lnTo>
                  <a:lnTo>
                    <a:pt x="737" y="429"/>
                  </a:lnTo>
                  <a:lnTo>
                    <a:pt x="572" y="416"/>
                  </a:lnTo>
                  <a:lnTo>
                    <a:pt x="451" y="377"/>
                  </a:lnTo>
                  <a:lnTo>
                    <a:pt x="391" y="325"/>
                  </a:lnTo>
                  <a:lnTo>
                    <a:pt x="330" y="247"/>
                  </a:lnTo>
                  <a:lnTo>
                    <a:pt x="300" y="182"/>
                  </a:lnTo>
                  <a:lnTo>
                    <a:pt x="285" y="116"/>
                  </a:lnTo>
                  <a:lnTo>
                    <a:pt x="285" y="38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48080" y="5911920"/>
              <a:ext cx="163800" cy="379800"/>
            </a:xfrm>
            <a:custGeom>
              <a:avLst/>
              <a:gdLst/>
              <a:ahLst/>
              <a:rect l="0" t="0" r="r" b="b"/>
              <a:pathLst>
                <a:path w="455" h="1055">
                  <a:moveTo>
                    <a:pt x="151" y="0"/>
                  </a:moveTo>
                  <a:lnTo>
                    <a:pt x="151" y="0"/>
                  </a:lnTo>
                  <a:lnTo>
                    <a:pt x="121" y="205"/>
                  </a:lnTo>
                  <a:lnTo>
                    <a:pt x="75" y="540"/>
                  </a:lnTo>
                  <a:lnTo>
                    <a:pt x="30" y="863"/>
                  </a:lnTo>
                  <a:lnTo>
                    <a:pt x="0" y="1055"/>
                  </a:lnTo>
                  <a:lnTo>
                    <a:pt x="288" y="1055"/>
                  </a:lnTo>
                  <a:lnTo>
                    <a:pt x="318" y="888"/>
                  </a:lnTo>
                  <a:lnTo>
                    <a:pt x="379" y="566"/>
                  </a:lnTo>
                  <a:lnTo>
                    <a:pt x="424" y="231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15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89480" y="5770440"/>
              <a:ext cx="122760" cy="141480"/>
            </a:xfrm>
            <a:custGeom>
              <a:avLst/>
              <a:gdLst/>
              <a:ahLst/>
              <a:rect l="0" t="0" r="r" b="b"/>
              <a:pathLst>
                <a:path w="341" h="393">
                  <a:moveTo>
                    <a:pt x="0" y="262"/>
                  </a:moveTo>
                  <a:lnTo>
                    <a:pt x="0" y="262"/>
                  </a:lnTo>
                  <a:lnTo>
                    <a:pt x="0" y="262"/>
                  </a:lnTo>
                  <a:lnTo>
                    <a:pt x="0" y="275"/>
                  </a:lnTo>
                  <a:lnTo>
                    <a:pt x="15" y="314"/>
                  </a:lnTo>
                  <a:lnTo>
                    <a:pt x="30" y="393"/>
                  </a:lnTo>
                  <a:lnTo>
                    <a:pt x="341" y="393"/>
                  </a:lnTo>
                  <a:lnTo>
                    <a:pt x="326" y="262"/>
                  </a:lnTo>
                  <a:lnTo>
                    <a:pt x="279" y="156"/>
                  </a:lnTo>
                  <a:lnTo>
                    <a:pt x="170" y="6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32080" y="5770440"/>
              <a:ext cx="257400" cy="93960"/>
            </a:xfrm>
            <a:custGeom>
              <a:avLst/>
              <a:gdLst/>
              <a:ahLst/>
              <a:rect l="0" t="0" r="r" b="b"/>
              <a:pathLst>
                <a:path w="715" h="261">
                  <a:moveTo>
                    <a:pt x="0" y="261"/>
                  </a:moveTo>
                  <a:lnTo>
                    <a:pt x="0" y="261"/>
                  </a:lnTo>
                  <a:lnTo>
                    <a:pt x="45" y="261"/>
                  </a:lnTo>
                  <a:lnTo>
                    <a:pt x="106" y="261"/>
                  </a:lnTo>
                  <a:lnTo>
                    <a:pt x="197" y="261"/>
                  </a:lnTo>
                  <a:lnTo>
                    <a:pt x="319" y="261"/>
                  </a:lnTo>
                  <a:lnTo>
                    <a:pt x="456" y="261"/>
                  </a:lnTo>
                  <a:lnTo>
                    <a:pt x="563" y="261"/>
                  </a:lnTo>
                  <a:lnTo>
                    <a:pt x="654" y="261"/>
                  </a:lnTo>
                  <a:lnTo>
                    <a:pt x="715" y="261"/>
                  </a:lnTo>
                  <a:lnTo>
                    <a:pt x="715" y="0"/>
                  </a:lnTo>
                  <a:lnTo>
                    <a:pt x="654" y="0"/>
                  </a:lnTo>
                  <a:lnTo>
                    <a:pt x="563" y="0"/>
                  </a:lnTo>
                  <a:lnTo>
                    <a:pt x="456" y="0"/>
                  </a:lnTo>
                  <a:lnTo>
                    <a:pt x="319" y="0"/>
                  </a:lnTo>
                  <a:lnTo>
                    <a:pt x="197" y="0"/>
                  </a:lnTo>
                  <a:lnTo>
                    <a:pt x="106" y="0"/>
                  </a:lnTo>
                  <a:lnTo>
                    <a:pt x="45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14720" y="5770440"/>
              <a:ext cx="117720" cy="111600"/>
            </a:xfrm>
            <a:custGeom>
              <a:avLst/>
              <a:gdLst/>
              <a:ahLst/>
              <a:rect l="0" t="0" r="r" b="b"/>
              <a:pathLst>
                <a:path w="327" h="310">
                  <a:moveTo>
                    <a:pt x="296" y="297"/>
                  </a:moveTo>
                  <a:lnTo>
                    <a:pt x="280" y="310"/>
                  </a:lnTo>
                  <a:lnTo>
                    <a:pt x="311" y="284"/>
                  </a:lnTo>
                  <a:lnTo>
                    <a:pt x="327" y="259"/>
                  </a:lnTo>
                  <a:lnTo>
                    <a:pt x="311" y="259"/>
                  </a:lnTo>
                  <a:lnTo>
                    <a:pt x="327" y="259"/>
                  </a:lnTo>
                  <a:lnTo>
                    <a:pt x="327" y="0"/>
                  </a:lnTo>
                  <a:lnTo>
                    <a:pt x="218" y="25"/>
                  </a:lnTo>
                  <a:lnTo>
                    <a:pt x="93" y="91"/>
                  </a:lnTo>
                  <a:lnTo>
                    <a:pt x="46" y="168"/>
                  </a:lnTo>
                  <a:lnTo>
                    <a:pt x="15" y="259"/>
                  </a:lnTo>
                  <a:lnTo>
                    <a:pt x="0" y="272"/>
                  </a:lnTo>
                  <a:lnTo>
                    <a:pt x="296" y="2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997360" y="5867280"/>
              <a:ext cx="222480" cy="605160"/>
            </a:xfrm>
            <a:custGeom>
              <a:avLst/>
              <a:gdLst/>
              <a:ahLst/>
              <a:rect l="0" t="0" r="r" b="b"/>
              <a:pathLst>
                <a:path w="618" h="1681">
                  <a:moveTo>
                    <a:pt x="286" y="1681"/>
                  </a:moveTo>
                  <a:lnTo>
                    <a:pt x="286" y="1681"/>
                  </a:lnTo>
                  <a:lnTo>
                    <a:pt x="347" y="1345"/>
                  </a:lnTo>
                  <a:lnTo>
                    <a:pt x="452" y="814"/>
                  </a:lnTo>
                  <a:lnTo>
                    <a:pt x="558" y="297"/>
                  </a:lnTo>
                  <a:lnTo>
                    <a:pt x="618" y="25"/>
                  </a:lnTo>
                  <a:lnTo>
                    <a:pt x="332" y="0"/>
                  </a:lnTo>
                  <a:lnTo>
                    <a:pt x="255" y="271"/>
                  </a:lnTo>
                  <a:lnTo>
                    <a:pt x="165" y="775"/>
                  </a:lnTo>
                  <a:lnTo>
                    <a:pt x="45" y="1319"/>
                  </a:lnTo>
                  <a:lnTo>
                    <a:pt x="0" y="1681"/>
                  </a:lnTo>
                  <a:lnTo>
                    <a:pt x="0" y="1681"/>
                  </a:lnTo>
                  <a:lnTo>
                    <a:pt x="286" y="16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997360" y="6472080"/>
              <a:ext cx="419400" cy="384480"/>
            </a:xfrm>
            <a:custGeom>
              <a:avLst/>
              <a:gdLst/>
              <a:ahLst/>
              <a:rect l="0" t="0" r="r" b="b"/>
              <a:pathLst>
                <a:path w="1165" h="1068">
                  <a:moveTo>
                    <a:pt x="1165" y="811"/>
                  </a:moveTo>
                  <a:lnTo>
                    <a:pt x="1165" y="811"/>
                  </a:lnTo>
                  <a:lnTo>
                    <a:pt x="893" y="785"/>
                  </a:lnTo>
                  <a:lnTo>
                    <a:pt x="696" y="708"/>
                  </a:lnTo>
                  <a:lnTo>
                    <a:pt x="544" y="618"/>
                  </a:lnTo>
                  <a:lnTo>
                    <a:pt x="438" y="488"/>
                  </a:lnTo>
                  <a:lnTo>
                    <a:pt x="362" y="347"/>
                  </a:lnTo>
                  <a:lnTo>
                    <a:pt x="332" y="205"/>
                  </a:lnTo>
                  <a:lnTo>
                    <a:pt x="287" y="77"/>
                  </a:lnTo>
                  <a:lnTo>
                    <a:pt x="287" y="0"/>
                  </a:lnTo>
                  <a:lnTo>
                    <a:pt x="0" y="0"/>
                  </a:lnTo>
                  <a:lnTo>
                    <a:pt x="0" y="102"/>
                  </a:lnTo>
                  <a:lnTo>
                    <a:pt x="30" y="257"/>
                  </a:lnTo>
                  <a:lnTo>
                    <a:pt x="90" y="437"/>
                  </a:lnTo>
                  <a:lnTo>
                    <a:pt x="181" y="605"/>
                  </a:lnTo>
                  <a:lnTo>
                    <a:pt x="347" y="785"/>
                  </a:lnTo>
                  <a:lnTo>
                    <a:pt x="559" y="939"/>
                  </a:lnTo>
                  <a:lnTo>
                    <a:pt x="817" y="1042"/>
                  </a:lnTo>
                  <a:lnTo>
                    <a:pt x="1165" y="1068"/>
                  </a:lnTo>
                  <a:lnTo>
                    <a:pt x="1165" y="1068"/>
                  </a:lnTo>
                  <a:lnTo>
                    <a:pt x="1165" y="8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416400" y="6764400"/>
              <a:ext cx="2132280" cy="92520"/>
            </a:xfrm>
            <a:custGeom>
              <a:avLst/>
              <a:gdLst/>
              <a:ahLst/>
              <a:rect l="0" t="0" r="r" b="b"/>
              <a:pathLst>
                <a:path w="5923" h="257">
                  <a:moveTo>
                    <a:pt x="5923" y="0"/>
                  </a:moveTo>
                  <a:lnTo>
                    <a:pt x="5923" y="0"/>
                  </a:lnTo>
                  <a:lnTo>
                    <a:pt x="0" y="0"/>
                  </a:lnTo>
                  <a:lnTo>
                    <a:pt x="0" y="257"/>
                  </a:lnTo>
                  <a:lnTo>
                    <a:pt x="5923" y="257"/>
                  </a:lnTo>
                  <a:lnTo>
                    <a:pt x="5923" y="257"/>
                  </a:lnTo>
                  <a:lnTo>
                    <a:pt x="59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5160" y="3979800"/>
              <a:ext cx="8985600" cy="1572120"/>
            </a:xfrm>
            <a:custGeom>
              <a:avLst/>
              <a:gdLst/>
              <a:ahLst/>
              <a:rect l="0" t="0" r="r" b="b"/>
              <a:pathLst>
                <a:path w="24960" h="4367">
                  <a:moveTo>
                    <a:pt x="24823" y="3916"/>
                  </a:moveTo>
                  <a:lnTo>
                    <a:pt x="24746" y="3813"/>
                  </a:lnTo>
                  <a:lnTo>
                    <a:pt x="24625" y="3659"/>
                  </a:lnTo>
                  <a:lnTo>
                    <a:pt x="24442" y="3453"/>
                  </a:lnTo>
                  <a:lnTo>
                    <a:pt x="24229" y="3207"/>
                  </a:lnTo>
                  <a:lnTo>
                    <a:pt x="23986" y="2924"/>
                  </a:lnTo>
                  <a:lnTo>
                    <a:pt x="23712" y="2615"/>
                  </a:lnTo>
                  <a:lnTo>
                    <a:pt x="23438" y="2293"/>
                  </a:lnTo>
                  <a:lnTo>
                    <a:pt x="23148" y="1971"/>
                  </a:lnTo>
                  <a:lnTo>
                    <a:pt x="22875" y="1636"/>
                  </a:lnTo>
                  <a:lnTo>
                    <a:pt x="22601" y="1327"/>
                  </a:lnTo>
                  <a:lnTo>
                    <a:pt x="22342" y="1030"/>
                  </a:lnTo>
                  <a:lnTo>
                    <a:pt x="22098" y="772"/>
                  </a:lnTo>
                  <a:lnTo>
                    <a:pt x="21901" y="553"/>
                  </a:lnTo>
                  <a:lnTo>
                    <a:pt x="21764" y="373"/>
                  </a:lnTo>
                  <a:lnTo>
                    <a:pt x="21657" y="257"/>
                  </a:lnTo>
                  <a:lnTo>
                    <a:pt x="21611" y="193"/>
                  </a:lnTo>
                  <a:lnTo>
                    <a:pt x="21550" y="141"/>
                  </a:lnTo>
                  <a:lnTo>
                    <a:pt x="21520" y="90"/>
                  </a:lnTo>
                  <a:lnTo>
                    <a:pt x="21474" y="38"/>
                  </a:lnTo>
                  <a:lnTo>
                    <a:pt x="21429" y="0"/>
                  </a:lnTo>
                  <a:lnTo>
                    <a:pt x="21170" y="141"/>
                  </a:lnTo>
                  <a:lnTo>
                    <a:pt x="24609" y="4071"/>
                  </a:lnTo>
                  <a:lnTo>
                    <a:pt x="578" y="4071"/>
                  </a:lnTo>
                  <a:lnTo>
                    <a:pt x="4017" y="141"/>
                  </a:lnTo>
                  <a:lnTo>
                    <a:pt x="3774" y="0"/>
                  </a:lnTo>
                  <a:lnTo>
                    <a:pt x="3698" y="25"/>
                  </a:lnTo>
                  <a:lnTo>
                    <a:pt x="3652" y="51"/>
                  </a:lnTo>
                  <a:lnTo>
                    <a:pt x="3591" y="103"/>
                  </a:lnTo>
                  <a:lnTo>
                    <a:pt x="3530" y="141"/>
                  </a:lnTo>
                  <a:lnTo>
                    <a:pt x="3485" y="218"/>
                  </a:lnTo>
                  <a:lnTo>
                    <a:pt x="3378" y="334"/>
                  </a:lnTo>
                  <a:lnTo>
                    <a:pt x="3211" y="540"/>
                  </a:lnTo>
                  <a:lnTo>
                    <a:pt x="2982" y="772"/>
                  </a:lnTo>
                  <a:lnTo>
                    <a:pt x="2739" y="1055"/>
                  </a:lnTo>
                  <a:lnTo>
                    <a:pt x="2465" y="1378"/>
                  </a:lnTo>
                  <a:lnTo>
                    <a:pt x="2176" y="1713"/>
                  </a:lnTo>
                  <a:lnTo>
                    <a:pt x="1871" y="2048"/>
                  </a:lnTo>
                  <a:lnTo>
                    <a:pt x="1567" y="2383"/>
                  </a:lnTo>
                  <a:lnTo>
                    <a:pt x="1263" y="2731"/>
                  </a:lnTo>
                  <a:lnTo>
                    <a:pt x="989" y="3040"/>
                  </a:lnTo>
                  <a:lnTo>
                    <a:pt x="730" y="3324"/>
                  </a:lnTo>
                  <a:lnTo>
                    <a:pt x="517" y="3569"/>
                  </a:lnTo>
                  <a:lnTo>
                    <a:pt x="334" y="3762"/>
                  </a:lnTo>
                  <a:lnTo>
                    <a:pt x="213" y="3904"/>
                  </a:lnTo>
                  <a:lnTo>
                    <a:pt x="152" y="3968"/>
                  </a:lnTo>
                  <a:lnTo>
                    <a:pt x="60" y="4084"/>
                  </a:lnTo>
                  <a:lnTo>
                    <a:pt x="15" y="4187"/>
                  </a:lnTo>
                  <a:lnTo>
                    <a:pt x="0" y="4251"/>
                  </a:lnTo>
                  <a:lnTo>
                    <a:pt x="0" y="4316"/>
                  </a:lnTo>
                  <a:lnTo>
                    <a:pt x="15" y="4341"/>
                  </a:lnTo>
                  <a:lnTo>
                    <a:pt x="45" y="4354"/>
                  </a:lnTo>
                  <a:lnTo>
                    <a:pt x="76" y="4367"/>
                  </a:lnTo>
                  <a:lnTo>
                    <a:pt x="136" y="4367"/>
                  </a:lnTo>
                  <a:lnTo>
                    <a:pt x="213" y="4367"/>
                  </a:lnTo>
                  <a:lnTo>
                    <a:pt x="410" y="4367"/>
                  </a:lnTo>
                  <a:lnTo>
                    <a:pt x="745" y="4367"/>
                  </a:lnTo>
                  <a:lnTo>
                    <a:pt x="1217" y="4367"/>
                  </a:lnTo>
                  <a:lnTo>
                    <a:pt x="1765" y="4367"/>
                  </a:lnTo>
                  <a:lnTo>
                    <a:pt x="2419" y="4367"/>
                  </a:lnTo>
                  <a:lnTo>
                    <a:pt x="3165" y="4367"/>
                  </a:lnTo>
                  <a:lnTo>
                    <a:pt x="3987" y="4367"/>
                  </a:lnTo>
                  <a:lnTo>
                    <a:pt x="4885" y="4367"/>
                  </a:lnTo>
                  <a:lnTo>
                    <a:pt x="5844" y="4367"/>
                  </a:lnTo>
                  <a:lnTo>
                    <a:pt x="6863" y="4367"/>
                  </a:lnTo>
                  <a:lnTo>
                    <a:pt x="7929" y="4367"/>
                  </a:lnTo>
                  <a:lnTo>
                    <a:pt x="9024" y="4367"/>
                  </a:lnTo>
                  <a:lnTo>
                    <a:pt x="10151" y="4367"/>
                  </a:lnTo>
                  <a:lnTo>
                    <a:pt x="11277" y="4367"/>
                  </a:lnTo>
                  <a:lnTo>
                    <a:pt x="12418" y="4367"/>
                  </a:lnTo>
                  <a:lnTo>
                    <a:pt x="13576" y="4367"/>
                  </a:lnTo>
                  <a:lnTo>
                    <a:pt x="14717" y="4367"/>
                  </a:lnTo>
                  <a:lnTo>
                    <a:pt x="15843" y="4367"/>
                  </a:lnTo>
                  <a:lnTo>
                    <a:pt x="16939" y="4367"/>
                  </a:lnTo>
                  <a:lnTo>
                    <a:pt x="17989" y="4367"/>
                  </a:lnTo>
                  <a:lnTo>
                    <a:pt x="18994" y="4367"/>
                  </a:lnTo>
                  <a:lnTo>
                    <a:pt x="19968" y="4367"/>
                  </a:lnTo>
                  <a:lnTo>
                    <a:pt x="20866" y="4367"/>
                  </a:lnTo>
                  <a:lnTo>
                    <a:pt x="21687" y="4367"/>
                  </a:lnTo>
                  <a:lnTo>
                    <a:pt x="22433" y="4367"/>
                  </a:lnTo>
                  <a:lnTo>
                    <a:pt x="23103" y="4367"/>
                  </a:lnTo>
                  <a:lnTo>
                    <a:pt x="23666" y="4367"/>
                  </a:lnTo>
                  <a:lnTo>
                    <a:pt x="24122" y="4367"/>
                  </a:lnTo>
                  <a:lnTo>
                    <a:pt x="24442" y="4367"/>
                  </a:lnTo>
                  <a:lnTo>
                    <a:pt x="24670" y="4367"/>
                  </a:lnTo>
                  <a:lnTo>
                    <a:pt x="24746" y="4367"/>
                  </a:lnTo>
                  <a:lnTo>
                    <a:pt x="24868" y="4354"/>
                  </a:lnTo>
                  <a:lnTo>
                    <a:pt x="24944" y="4316"/>
                  </a:lnTo>
                  <a:lnTo>
                    <a:pt x="24960" y="4174"/>
                  </a:lnTo>
                  <a:lnTo>
                    <a:pt x="24823" y="39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799400" y="4027320"/>
              <a:ext cx="1251360" cy="1387800"/>
            </a:xfrm>
            <a:custGeom>
              <a:avLst/>
              <a:gdLst/>
              <a:ahLst/>
              <a:rect l="0" t="0" r="r" b="b"/>
              <a:pathLst>
                <a:path w="3476" h="3855">
                  <a:moveTo>
                    <a:pt x="0" y="141"/>
                  </a:moveTo>
                  <a:lnTo>
                    <a:pt x="0" y="141"/>
                  </a:lnTo>
                  <a:lnTo>
                    <a:pt x="45" y="193"/>
                  </a:lnTo>
                  <a:lnTo>
                    <a:pt x="152" y="309"/>
                  </a:lnTo>
                  <a:lnTo>
                    <a:pt x="304" y="489"/>
                  </a:lnTo>
                  <a:lnTo>
                    <a:pt x="502" y="721"/>
                  </a:lnTo>
                  <a:lnTo>
                    <a:pt x="731" y="979"/>
                  </a:lnTo>
                  <a:lnTo>
                    <a:pt x="1006" y="1276"/>
                  </a:lnTo>
                  <a:lnTo>
                    <a:pt x="1265" y="1585"/>
                  </a:lnTo>
                  <a:lnTo>
                    <a:pt x="1555" y="1907"/>
                  </a:lnTo>
                  <a:lnTo>
                    <a:pt x="1829" y="2230"/>
                  </a:lnTo>
                  <a:lnTo>
                    <a:pt x="2119" y="2566"/>
                  </a:lnTo>
                  <a:lnTo>
                    <a:pt x="2378" y="2875"/>
                  </a:lnTo>
                  <a:lnTo>
                    <a:pt x="2638" y="3159"/>
                  </a:lnTo>
                  <a:lnTo>
                    <a:pt x="2851" y="3391"/>
                  </a:lnTo>
                  <a:lnTo>
                    <a:pt x="3034" y="3610"/>
                  </a:lnTo>
                  <a:lnTo>
                    <a:pt x="3141" y="3764"/>
                  </a:lnTo>
                  <a:lnTo>
                    <a:pt x="3217" y="3855"/>
                  </a:lnTo>
                  <a:lnTo>
                    <a:pt x="3476" y="3713"/>
                  </a:lnTo>
                  <a:lnTo>
                    <a:pt x="3385" y="3623"/>
                  </a:lnTo>
                  <a:lnTo>
                    <a:pt x="3263" y="3468"/>
                  </a:lnTo>
                  <a:lnTo>
                    <a:pt x="3080" y="3249"/>
                  </a:lnTo>
                  <a:lnTo>
                    <a:pt x="2867" y="3017"/>
                  </a:lnTo>
                  <a:lnTo>
                    <a:pt x="2608" y="2733"/>
                  </a:lnTo>
                  <a:lnTo>
                    <a:pt x="2348" y="2424"/>
                  </a:lnTo>
                  <a:lnTo>
                    <a:pt x="2058" y="2089"/>
                  </a:lnTo>
                  <a:lnTo>
                    <a:pt x="1784" y="1765"/>
                  </a:lnTo>
                  <a:lnTo>
                    <a:pt x="1494" y="1443"/>
                  </a:lnTo>
                  <a:lnTo>
                    <a:pt x="1235" y="1134"/>
                  </a:lnTo>
                  <a:lnTo>
                    <a:pt x="961" y="837"/>
                  </a:lnTo>
                  <a:lnTo>
                    <a:pt x="731" y="580"/>
                  </a:lnTo>
                  <a:lnTo>
                    <a:pt x="533" y="348"/>
                  </a:lnTo>
                  <a:lnTo>
                    <a:pt x="381" y="167"/>
                  </a:lnTo>
                  <a:lnTo>
                    <a:pt x="289" y="51"/>
                  </a:lnTo>
                  <a:lnTo>
                    <a:pt x="228" y="0"/>
                  </a:lnTo>
                  <a:lnTo>
                    <a:pt x="228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743960" y="3924360"/>
              <a:ext cx="136800" cy="152640"/>
            </a:xfrm>
            <a:custGeom>
              <a:avLst/>
              <a:gdLst/>
              <a:ahLst/>
              <a:rect l="0" t="0" r="r" b="b"/>
              <a:pathLst>
                <a:path w="380" h="424">
                  <a:moveTo>
                    <a:pt x="166" y="257"/>
                  </a:moveTo>
                  <a:lnTo>
                    <a:pt x="15" y="270"/>
                  </a:lnTo>
                  <a:lnTo>
                    <a:pt x="30" y="283"/>
                  </a:lnTo>
                  <a:lnTo>
                    <a:pt x="75" y="308"/>
                  </a:lnTo>
                  <a:lnTo>
                    <a:pt x="91" y="373"/>
                  </a:lnTo>
                  <a:lnTo>
                    <a:pt x="151" y="424"/>
                  </a:lnTo>
                  <a:lnTo>
                    <a:pt x="380" y="283"/>
                  </a:lnTo>
                  <a:lnTo>
                    <a:pt x="349" y="231"/>
                  </a:lnTo>
                  <a:lnTo>
                    <a:pt x="304" y="166"/>
                  </a:lnTo>
                  <a:lnTo>
                    <a:pt x="243" y="115"/>
                  </a:lnTo>
                  <a:lnTo>
                    <a:pt x="151" y="38"/>
                  </a:lnTo>
                  <a:lnTo>
                    <a:pt x="0" y="51"/>
                  </a:lnTo>
                  <a:lnTo>
                    <a:pt x="151" y="38"/>
                  </a:lnTo>
                  <a:lnTo>
                    <a:pt x="91" y="0"/>
                  </a:lnTo>
                  <a:lnTo>
                    <a:pt x="0" y="51"/>
                  </a:lnTo>
                  <a:lnTo>
                    <a:pt x="166" y="2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607160" y="3941640"/>
              <a:ext cx="198720" cy="125640"/>
            </a:xfrm>
            <a:custGeom>
              <a:avLst/>
              <a:gdLst/>
              <a:ahLst/>
              <a:rect l="0" t="0" r="r" b="b"/>
              <a:pathLst>
                <a:path w="552" h="349">
                  <a:moveTo>
                    <a:pt x="337" y="181"/>
                  </a:moveTo>
                  <a:lnTo>
                    <a:pt x="307" y="349"/>
                  </a:lnTo>
                  <a:lnTo>
                    <a:pt x="552" y="207"/>
                  </a:lnTo>
                  <a:lnTo>
                    <a:pt x="383" y="0"/>
                  </a:lnTo>
                  <a:lnTo>
                    <a:pt x="137" y="141"/>
                  </a:lnTo>
                  <a:lnTo>
                    <a:pt x="107" y="323"/>
                  </a:lnTo>
                  <a:lnTo>
                    <a:pt x="137" y="141"/>
                  </a:lnTo>
                  <a:lnTo>
                    <a:pt x="0" y="220"/>
                  </a:lnTo>
                  <a:lnTo>
                    <a:pt x="107" y="323"/>
                  </a:lnTo>
                  <a:lnTo>
                    <a:pt x="337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647120" y="4008600"/>
              <a:ext cx="1387800" cy="1486440"/>
            </a:xfrm>
            <a:custGeom>
              <a:avLst/>
              <a:gdLst/>
              <a:ahLst/>
              <a:rect l="0" t="0" r="r" b="b"/>
              <a:pathLst>
                <a:path w="3855" h="4129">
                  <a:moveTo>
                    <a:pt x="3550" y="4129"/>
                  </a:moveTo>
                  <a:lnTo>
                    <a:pt x="3672" y="3936"/>
                  </a:lnTo>
                  <a:lnTo>
                    <a:pt x="228" y="0"/>
                  </a:lnTo>
                  <a:lnTo>
                    <a:pt x="0" y="141"/>
                  </a:lnTo>
                  <a:lnTo>
                    <a:pt x="3443" y="4077"/>
                  </a:lnTo>
                  <a:lnTo>
                    <a:pt x="3550" y="3871"/>
                  </a:lnTo>
                  <a:lnTo>
                    <a:pt x="3550" y="4129"/>
                  </a:lnTo>
                  <a:lnTo>
                    <a:pt x="3855" y="4129"/>
                  </a:lnTo>
                  <a:lnTo>
                    <a:pt x="3672" y="3936"/>
                  </a:lnTo>
                  <a:lnTo>
                    <a:pt x="3550" y="4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9920" y="5402160"/>
              <a:ext cx="8752320" cy="92520"/>
            </a:xfrm>
            <a:custGeom>
              <a:avLst/>
              <a:gdLst/>
              <a:ahLst/>
              <a:rect l="0" t="0" r="r" b="b"/>
              <a:pathLst>
                <a:path w="24312" h="257">
                  <a:moveTo>
                    <a:pt x="182" y="63"/>
                  </a:moveTo>
                  <a:lnTo>
                    <a:pt x="289" y="257"/>
                  </a:lnTo>
                  <a:lnTo>
                    <a:pt x="24312" y="257"/>
                  </a:lnTo>
                  <a:lnTo>
                    <a:pt x="24312" y="0"/>
                  </a:lnTo>
                  <a:lnTo>
                    <a:pt x="289" y="0"/>
                  </a:lnTo>
                  <a:lnTo>
                    <a:pt x="410" y="206"/>
                  </a:lnTo>
                  <a:lnTo>
                    <a:pt x="182" y="63"/>
                  </a:lnTo>
                  <a:lnTo>
                    <a:pt x="0" y="257"/>
                  </a:lnTo>
                  <a:lnTo>
                    <a:pt x="289" y="257"/>
                  </a:lnTo>
                  <a:lnTo>
                    <a:pt x="182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37960" y="3997440"/>
              <a:ext cx="1351440" cy="1478160"/>
            </a:xfrm>
            <a:custGeom>
              <a:avLst/>
              <a:gdLst/>
              <a:ahLst/>
              <a:rect l="0" t="0" r="r" b="b"/>
              <a:pathLst>
                <a:path w="3754" h="4106">
                  <a:moveTo>
                    <a:pt x="3466" y="205"/>
                  </a:moveTo>
                  <a:lnTo>
                    <a:pt x="3420" y="38"/>
                  </a:lnTo>
                  <a:lnTo>
                    <a:pt x="0" y="3964"/>
                  </a:lnTo>
                  <a:lnTo>
                    <a:pt x="227" y="4106"/>
                  </a:lnTo>
                  <a:lnTo>
                    <a:pt x="3663" y="180"/>
                  </a:lnTo>
                  <a:lnTo>
                    <a:pt x="3633" y="0"/>
                  </a:lnTo>
                  <a:lnTo>
                    <a:pt x="3663" y="180"/>
                  </a:lnTo>
                  <a:lnTo>
                    <a:pt x="3754" y="77"/>
                  </a:lnTo>
                  <a:lnTo>
                    <a:pt x="3633" y="0"/>
                  </a:lnTo>
                  <a:lnTo>
                    <a:pt x="3466" y="2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392120" y="3930480"/>
              <a:ext cx="154440" cy="136800"/>
            </a:xfrm>
            <a:custGeom>
              <a:avLst/>
              <a:gdLst/>
              <a:ahLst/>
              <a:rect l="0" t="0" r="r" b="b"/>
              <a:pathLst>
                <a:path w="429" h="380">
                  <a:moveTo>
                    <a:pt x="138" y="253"/>
                  </a:moveTo>
                  <a:lnTo>
                    <a:pt x="0" y="241"/>
                  </a:lnTo>
                  <a:lnTo>
                    <a:pt x="260" y="380"/>
                  </a:lnTo>
                  <a:lnTo>
                    <a:pt x="429" y="176"/>
                  </a:lnTo>
                  <a:lnTo>
                    <a:pt x="169" y="37"/>
                  </a:lnTo>
                  <a:lnTo>
                    <a:pt x="30" y="25"/>
                  </a:lnTo>
                  <a:lnTo>
                    <a:pt x="169" y="37"/>
                  </a:lnTo>
                  <a:lnTo>
                    <a:pt x="106" y="0"/>
                  </a:lnTo>
                  <a:lnTo>
                    <a:pt x="30" y="25"/>
                  </a:lnTo>
                  <a:lnTo>
                    <a:pt x="138" y="2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293840" y="3940200"/>
              <a:ext cx="147960" cy="117720"/>
            </a:xfrm>
            <a:custGeom>
              <a:avLst/>
              <a:gdLst/>
              <a:ahLst/>
              <a:rect l="0" t="0" r="r" b="b"/>
              <a:pathLst>
                <a:path w="411" h="327">
                  <a:moveTo>
                    <a:pt x="259" y="302"/>
                  </a:moveTo>
                  <a:lnTo>
                    <a:pt x="244" y="327"/>
                  </a:lnTo>
                  <a:lnTo>
                    <a:pt x="274" y="302"/>
                  </a:lnTo>
                  <a:lnTo>
                    <a:pt x="335" y="264"/>
                  </a:lnTo>
                  <a:lnTo>
                    <a:pt x="365" y="252"/>
                  </a:lnTo>
                  <a:lnTo>
                    <a:pt x="411" y="226"/>
                  </a:lnTo>
                  <a:lnTo>
                    <a:pt x="304" y="0"/>
                  </a:lnTo>
                  <a:lnTo>
                    <a:pt x="228" y="37"/>
                  </a:lnTo>
                  <a:lnTo>
                    <a:pt x="167" y="75"/>
                  </a:lnTo>
                  <a:lnTo>
                    <a:pt x="75" y="112"/>
                  </a:lnTo>
                  <a:lnTo>
                    <a:pt x="15" y="189"/>
                  </a:lnTo>
                  <a:lnTo>
                    <a:pt x="0" y="201"/>
                  </a:lnTo>
                  <a:lnTo>
                    <a:pt x="259" y="3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4520" y="4011480"/>
              <a:ext cx="1313280" cy="1427400"/>
            </a:xfrm>
            <a:custGeom>
              <a:avLst/>
              <a:gdLst/>
              <a:ahLst/>
              <a:rect l="0" t="0" r="r" b="b"/>
              <a:pathLst>
                <a:path w="3648" h="3965">
                  <a:moveTo>
                    <a:pt x="228" y="3952"/>
                  </a:moveTo>
                  <a:lnTo>
                    <a:pt x="228" y="3965"/>
                  </a:lnTo>
                  <a:lnTo>
                    <a:pt x="305" y="3875"/>
                  </a:lnTo>
                  <a:lnTo>
                    <a:pt x="411" y="3733"/>
                  </a:lnTo>
                  <a:lnTo>
                    <a:pt x="595" y="3540"/>
                  </a:lnTo>
                  <a:lnTo>
                    <a:pt x="823" y="3296"/>
                  </a:lnTo>
                  <a:lnTo>
                    <a:pt x="1084" y="3012"/>
                  </a:lnTo>
                  <a:lnTo>
                    <a:pt x="1359" y="2703"/>
                  </a:lnTo>
                  <a:lnTo>
                    <a:pt x="1648" y="2369"/>
                  </a:lnTo>
                  <a:lnTo>
                    <a:pt x="1969" y="2034"/>
                  </a:lnTo>
                  <a:lnTo>
                    <a:pt x="2274" y="1686"/>
                  </a:lnTo>
                  <a:lnTo>
                    <a:pt x="2549" y="1351"/>
                  </a:lnTo>
                  <a:lnTo>
                    <a:pt x="2840" y="1042"/>
                  </a:lnTo>
                  <a:lnTo>
                    <a:pt x="3084" y="759"/>
                  </a:lnTo>
                  <a:lnTo>
                    <a:pt x="3297" y="514"/>
                  </a:lnTo>
                  <a:lnTo>
                    <a:pt x="3465" y="321"/>
                  </a:lnTo>
                  <a:lnTo>
                    <a:pt x="3587" y="193"/>
                  </a:lnTo>
                  <a:lnTo>
                    <a:pt x="3648" y="102"/>
                  </a:lnTo>
                  <a:lnTo>
                    <a:pt x="3389" y="0"/>
                  </a:lnTo>
                  <a:lnTo>
                    <a:pt x="3358" y="51"/>
                  </a:lnTo>
                  <a:lnTo>
                    <a:pt x="3236" y="180"/>
                  </a:lnTo>
                  <a:lnTo>
                    <a:pt x="3069" y="373"/>
                  </a:lnTo>
                  <a:lnTo>
                    <a:pt x="2855" y="617"/>
                  </a:lnTo>
                  <a:lnTo>
                    <a:pt x="2594" y="900"/>
                  </a:lnTo>
                  <a:lnTo>
                    <a:pt x="2320" y="1209"/>
                  </a:lnTo>
                  <a:lnTo>
                    <a:pt x="2030" y="1544"/>
                  </a:lnTo>
                  <a:lnTo>
                    <a:pt x="1740" y="1892"/>
                  </a:lnTo>
                  <a:lnTo>
                    <a:pt x="1420" y="2227"/>
                  </a:lnTo>
                  <a:lnTo>
                    <a:pt x="1114" y="2562"/>
                  </a:lnTo>
                  <a:lnTo>
                    <a:pt x="854" y="2871"/>
                  </a:lnTo>
                  <a:lnTo>
                    <a:pt x="579" y="3154"/>
                  </a:lnTo>
                  <a:lnTo>
                    <a:pt x="366" y="3399"/>
                  </a:lnTo>
                  <a:lnTo>
                    <a:pt x="183" y="3592"/>
                  </a:lnTo>
                  <a:lnTo>
                    <a:pt x="76" y="3733"/>
                  </a:lnTo>
                  <a:lnTo>
                    <a:pt x="0" y="3798"/>
                  </a:lnTo>
                  <a:lnTo>
                    <a:pt x="0" y="3810"/>
                  </a:lnTo>
                  <a:lnTo>
                    <a:pt x="228" y="39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360" y="5383080"/>
              <a:ext cx="147960" cy="149760"/>
            </a:xfrm>
            <a:custGeom>
              <a:avLst/>
              <a:gdLst/>
              <a:ahLst/>
              <a:rect l="0" t="0" r="r" b="b"/>
              <a:pathLst>
                <a:path w="411" h="416">
                  <a:moveTo>
                    <a:pt x="304" y="416"/>
                  </a:moveTo>
                  <a:lnTo>
                    <a:pt x="304" y="416"/>
                  </a:lnTo>
                  <a:lnTo>
                    <a:pt x="304" y="364"/>
                  </a:lnTo>
                  <a:lnTo>
                    <a:pt x="319" y="325"/>
                  </a:lnTo>
                  <a:lnTo>
                    <a:pt x="350" y="247"/>
                  </a:lnTo>
                  <a:lnTo>
                    <a:pt x="411" y="143"/>
                  </a:lnTo>
                  <a:lnTo>
                    <a:pt x="182" y="0"/>
                  </a:lnTo>
                  <a:lnTo>
                    <a:pt x="91" y="130"/>
                  </a:lnTo>
                  <a:lnTo>
                    <a:pt x="15" y="247"/>
                  </a:lnTo>
                  <a:lnTo>
                    <a:pt x="0" y="338"/>
                  </a:lnTo>
                  <a:lnTo>
                    <a:pt x="0" y="416"/>
                  </a:lnTo>
                  <a:lnTo>
                    <a:pt x="0" y="416"/>
                  </a:lnTo>
                  <a:lnTo>
                    <a:pt x="304" y="4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9360" y="5505480"/>
              <a:ext cx="113040" cy="93960"/>
            </a:xfrm>
            <a:custGeom>
              <a:avLst/>
              <a:gdLst/>
              <a:ahLst/>
              <a:rect l="0" t="0" r="r" b="b"/>
              <a:pathLst>
                <a:path w="314" h="261">
                  <a:moveTo>
                    <a:pt x="298" y="0"/>
                  </a:moveTo>
                  <a:lnTo>
                    <a:pt x="298" y="0"/>
                  </a:lnTo>
                  <a:lnTo>
                    <a:pt x="267" y="0"/>
                  </a:lnTo>
                  <a:lnTo>
                    <a:pt x="282" y="0"/>
                  </a:lnTo>
                  <a:lnTo>
                    <a:pt x="282" y="13"/>
                  </a:lnTo>
                  <a:lnTo>
                    <a:pt x="314" y="78"/>
                  </a:lnTo>
                  <a:lnTo>
                    <a:pt x="0" y="78"/>
                  </a:lnTo>
                  <a:lnTo>
                    <a:pt x="78" y="183"/>
                  </a:lnTo>
                  <a:lnTo>
                    <a:pt x="140" y="235"/>
                  </a:lnTo>
                  <a:lnTo>
                    <a:pt x="220" y="261"/>
                  </a:lnTo>
                  <a:lnTo>
                    <a:pt x="298" y="261"/>
                  </a:lnTo>
                  <a:lnTo>
                    <a:pt x="298" y="261"/>
                  </a:lnTo>
                  <a:lnTo>
                    <a:pt x="2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14480" y="5505480"/>
              <a:ext cx="8858520" cy="93960"/>
            </a:xfrm>
            <a:custGeom>
              <a:avLst/>
              <a:gdLst/>
              <a:ahLst/>
              <a:rect l="0" t="0" r="r" b="b"/>
              <a:pathLst>
                <a:path w="24607" h="261">
                  <a:moveTo>
                    <a:pt x="24607" y="0"/>
                  </a:moveTo>
                  <a:lnTo>
                    <a:pt x="24607" y="0"/>
                  </a:lnTo>
                  <a:lnTo>
                    <a:pt x="24531" y="0"/>
                  </a:lnTo>
                  <a:lnTo>
                    <a:pt x="24302" y="0"/>
                  </a:lnTo>
                  <a:lnTo>
                    <a:pt x="23983" y="0"/>
                  </a:lnTo>
                  <a:lnTo>
                    <a:pt x="23526" y="0"/>
                  </a:lnTo>
                  <a:lnTo>
                    <a:pt x="22963" y="0"/>
                  </a:lnTo>
                  <a:lnTo>
                    <a:pt x="22294" y="0"/>
                  </a:lnTo>
                  <a:lnTo>
                    <a:pt x="21548" y="0"/>
                  </a:lnTo>
                  <a:lnTo>
                    <a:pt x="20726" y="0"/>
                  </a:lnTo>
                  <a:lnTo>
                    <a:pt x="19829" y="0"/>
                  </a:lnTo>
                  <a:lnTo>
                    <a:pt x="18855" y="0"/>
                  </a:lnTo>
                  <a:lnTo>
                    <a:pt x="17850" y="0"/>
                  </a:lnTo>
                  <a:lnTo>
                    <a:pt x="16800" y="0"/>
                  </a:lnTo>
                  <a:lnTo>
                    <a:pt x="15705" y="0"/>
                  </a:lnTo>
                  <a:lnTo>
                    <a:pt x="14579" y="0"/>
                  </a:lnTo>
                  <a:lnTo>
                    <a:pt x="13437" y="0"/>
                  </a:lnTo>
                  <a:lnTo>
                    <a:pt x="12280" y="0"/>
                  </a:lnTo>
                  <a:lnTo>
                    <a:pt x="11139" y="0"/>
                  </a:lnTo>
                  <a:lnTo>
                    <a:pt x="10012" y="0"/>
                  </a:lnTo>
                  <a:lnTo>
                    <a:pt x="8886" y="0"/>
                  </a:lnTo>
                  <a:lnTo>
                    <a:pt x="7791" y="0"/>
                  </a:lnTo>
                  <a:lnTo>
                    <a:pt x="6726" y="0"/>
                  </a:lnTo>
                  <a:lnTo>
                    <a:pt x="5706" y="0"/>
                  </a:lnTo>
                  <a:lnTo>
                    <a:pt x="4747" y="0"/>
                  </a:lnTo>
                  <a:lnTo>
                    <a:pt x="3849" y="0"/>
                  </a:lnTo>
                  <a:lnTo>
                    <a:pt x="3028" y="0"/>
                  </a:lnTo>
                  <a:lnTo>
                    <a:pt x="2282" y="0"/>
                  </a:lnTo>
                  <a:lnTo>
                    <a:pt x="1628" y="0"/>
                  </a:lnTo>
                  <a:lnTo>
                    <a:pt x="1080" y="0"/>
                  </a:lnTo>
                  <a:lnTo>
                    <a:pt x="608" y="0"/>
                  </a:lnTo>
                  <a:lnTo>
                    <a:pt x="273" y="0"/>
                  </a:lnTo>
                  <a:lnTo>
                    <a:pt x="76" y="0"/>
                  </a:lnTo>
                  <a:lnTo>
                    <a:pt x="0" y="0"/>
                  </a:lnTo>
                  <a:lnTo>
                    <a:pt x="0" y="261"/>
                  </a:lnTo>
                  <a:lnTo>
                    <a:pt x="76" y="261"/>
                  </a:lnTo>
                  <a:lnTo>
                    <a:pt x="273" y="261"/>
                  </a:lnTo>
                  <a:lnTo>
                    <a:pt x="608" y="261"/>
                  </a:lnTo>
                  <a:lnTo>
                    <a:pt x="1080" y="261"/>
                  </a:lnTo>
                  <a:lnTo>
                    <a:pt x="1628" y="261"/>
                  </a:lnTo>
                  <a:lnTo>
                    <a:pt x="2282" y="261"/>
                  </a:lnTo>
                  <a:lnTo>
                    <a:pt x="3028" y="261"/>
                  </a:lnTo>
                  <a:lnTo>
                    <a:pt x="3849" y="261"/>
                  </a:lnTo>
                  <a:lnTo>
                    <a:pt x="4747" y="261"/>
                  </a:lnTo>
                  <a:lnTo>
                    <a:pt x="5706" y="261"/>
                  </a:lnTo>
                  <a:lnTo>
                    <a:pt x="6726" y="261"/>
                  </a:lnTo>
                  <a:lnTo>
                    <a:pt x="7791" y="261"/>
                  </a:lnTo>
                  <a:lnTo>
                    <a:pt x="8886" y="261"/>
                  </a:lnTo>
                  <a:lnTo>
                    <a:pt x="10012" y="261"/>
                  </a:lnTo>
                  <a:lnTo>
                    <a:pt x="11139" y="261"/>
                  </a:lnTo>
                  <a:lnTo>
                    <a:pt x="12280" y="261"/>
                  </a:lnTo>
                  <a:lnTo>
                    <a:pt x="13437" y="261"/>
                  </a:lnTo>
                  <a:lnTo>
                    <a:pt x="14579" y="261"/>
                  </a:lnTo>
                  <a:lnTo>
                    <a:pt x="15705" y="261"/>
                  </a:lnTo>
                  <a:lnTo>
                    <a:pt x="16800" y="261"/>
                  </a:lnTo>
                  <a:lnTo>
                    <a:pt x="17850" y="261"/>
                  </a:lnTo>
                  <a:lnTo>
                    <a:pt x="18855" y="261"/>
                  </a:lnTo>
                  <a:lnTo>
                    <a:pt x="19829" y="261"/>
                  </a:lnTo>
                  <a:lnTo>
                    <a:pt x="20726" y="261"/>
                  </a:lnTo>
                  <a:lnTo>
                    <a:pt x="21548" y="261"/>
                  </a:lnTo>
                  <a:lnTo>
                    <a:pt x="22294" y="261"/>
                  </a:lnTo>
                  <a:lnTo>
                    <a:pt x="22963" y="261"/>
                  </a:lnTo>
                  <a:lnTo>
                    <a:pt x="23526" y="261"/>
                  </a:lnTo>
                  <a:lnTo>
                    <a:pt x="23983" y="261"/>
                  </a:lnTo>
                  <a:lnTo>
                    <a:pt x="24302" y="261"/>
                  </a:lnTo>
                  <a:lnTo>
                    <a:pt x="24531" y="261"/>
                  </a:lnTo>
                  <a:lnTo>
                    <a:pt x="24607" y="261"/>
                  </a:lnTo>
                  <a:lnTo>
                    <a:pt x="24607" y="261"/>
                  </a:lnTo>
                  <a:lnTo>
                    <a:pt x="246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8955000" y="5362560"/>
              <a:ext cx="147960" cy="236880"/>
            </a:xfrm>
            <a:custGeom>
              <a:avLst/>
              <a:gdLst/>
              <a:ahLst/>
              <a:rect l="0" t="0" r="r" b="b"/>
              <a:pathLst>
                <a:path w="411" h="658">
                  <a:moveTo>
                    <a:pt x="0" y="141"/>
                  </a:moveTo>
                  <a:lnTo>
                    <a:pt x="0" y="128"/>
                  </a:lnTo>
                  <a:lnTo>
                    <a:pt x="106" y="361"/>
                  </a:lnTo>
                  <a:lnTo>
                    <a:pt x="106" y="426"/>
                  </a:lnTo>
                  <a:lnTo>
                    <a:pt x="106" y="387"/>
                  </a:lnTo>
                  <a:lnTo>
                    <a:pt x="45" y="400"/>
                  </a:lnTo>
                  <a:lnTo>
                    <a:pt x="45" y="658"/>
                  </a:lnTo>
                  <a:lnTo>
                    <a:pt x="213" y="645"/>
                  </a:lnTo>
                  <a:lnTo>
                    <a:pt x="380" y="516"/>
                  </a:lnTo>
                  <a:lnTo>
                    <a:pt x="411" y="309"/>
                  </a:lnTo>
                  <a:lnTo>
                    <a:pt x="259" y="25"/>
                  </a:lnTo>
                  <a:lnTo>
                    <a:pt x="259" y="0"/>
                  </a:lnTo>
                  <a:lnTo>
                    <a:pt x="0" y="1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1096920" y="196920"/>
              <a:ext cx="6720480" cy="5113800"/>
              <a:chOff x="1096920" y="196920"/>
              <a:chExt cx="6720480" cy="5113800"/>
            </a:xfrm>
          </p:grpSpPr>
          <p:sp>
            <p:nvSpPr>
              <p:cNvPr id="237" name=""/>
              <p:cNvSpPr/>
              <p:nvPr/>
            </p:nvSpPr>
            <p:spPr>
              <a:xfrm>
                <a:off x="6675480" y="3754440"/>
                <a:ext cx="1141920" cy="1556280"/>
              </a:xfrm>
              <a:custGeom>
                <a:avLst/>
                <a:gdLst/>
                <a:ahLst/>
                <a:rect l="0" t="0" r="r" b="b"/>
                <a:pathLst>
                  <a:path w="3172" h="4323">
                    <a:moveTo>
                      <a:pt x="2054" y="4323"/>
                    </a:moveTo>
                    <a:lnTo>
                      <a:pt x="0" y="1062"/>
                    </a:lnTo>
                    <a:lnTo>
                      <a:pt x="873" y="0"/>
                    </a:lnTo>
                    <a:lnTo>
                      <a:pt x="3172" y="3070"/>
                    </a:lnTo>
                    <a:lnTo>
                      <a:pt x="2054" y="4323"/>
                    </a:lnTo>
                    <a:close/>
                  </a:path>
                </a:pathLst>
              </a:custGeom>
              <a:solidFill>
                <a:srgbClr val="ff7041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836720" y="3754440"/>
                <a:ext cx="5146920" cy="384480"/>
              </a:xfrm>
              <a:custGeom>
                <a:avLst/>
                <a:gdLst/>
                <a:ahLst/>
                <a:rect l="0" t="0" r="r" b="b"/>
                <a:pathLst>
                  <a:path w="14297" h="1068">
                    <a:moveTo>
                      <a:pt x="0" y="1048"/>
                    </a:moveTo>
                    <a:lnTo>
                      <a:pt x="13446" y="1068"/>
                    </a:lnTo>
                    <a:lnTo>
                      <a:pt x="14297" y="0"/>
                    </a:lnTo>
                    <a:lnTo>
                      <a:pt x="1542" y="0"/>
                    </a:lnTo>
                    <a:lnTo>
                      <a:pt x="0" y="1048"/>
                    </a:lnTo>
                    <a:close/>
                  </a:path>
                </a:pathLst>
              </a:custGeom>
              <a:solidFill>
                <a:srgbClr val="800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1096920" y="4135320"/>
                <a:ext cx="6315480" cy="1167120"/>
              </a:xfrm>
              <a:custGeom>
                <a:avLst/>
                <a:gdLst/>
                <a:ahLst/>
                <a:rect l="0" t="0" r="r" b="b"/>
                <a:pathLst>
                  <a:path w="17543" h="3242">
                    <a:moveTo>
                      <a:pt x="0" y="3242"/>
                    </a:moveTo>
                    <a:lnTo>
                      <a:pt x="17543" y="3242"/>
                    </a:lnTo>
                    <a:lnTo>
                      <a:pt x="15490" y="0"/>
                    </a:lnTo>
                    <a:lnTo>
                      <a:pt x="2063" y="0"/>
                    </a:lnTo>
                    <a:lnTo>
                      <a:pt x="0" y="3242"/>
                    </a:lnTo>
                    <a:close/>
                  </a:path>
                </a:pathLst>
              </a:custGeom>
              <a:solidFill>
                <a:srgbClr val="cc33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5759280" y="2414520"/>
                <a:ext cx="1146600" cy="1584720"/>
              </a:xfrm>
              <a:custGeom>
                <a:avLst/>
                <a:gdLst/>
                <a:ahLst/>
                <a:rect l="0" t="0" r="r" b="b"/>
                <a:pathLst>
                  <a:path w="3185" h="4402">
                    <a:moveTo>
                      <a:pt x="0" y="678"/>
                    </a:moveTo>
                    <a:lnTo>
                      <a:pt x="994" y="2326"/>
                    </a:lnTo>
                    <a:lnTo>
                      <a:pt x="2308" y="4402"/>
                    </a:lnTo>
                    <a:lnTo>
                      <a:pt x="3185" y="3464"/>
                    </a:lnTo>
                    <a:lnTo>
                      <a:pt x="534" y="0"/>
                    </a:lnTo>
                    <a:lnTo>
                      <a:pt x="0" y="678"/>
                    </a:lnTo>
                    <a:close/>
                  </a:path>
                </a:pathLst>
              </a:custGeom>
              <a:solidFill>
                <a:srgbClr val="ffab2d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2773440" y="2392200"/>
                <a:ext cx="3177000" cy="260640"/>
              </a:xfrm>
              <a:custGeom>
                <a:avLst/>
                <a:gdLst/>
                <a:ahLst/>
                <a:rect l="0" t="0" r="r" b="b"/>
                <a:pathLst>
                  <a:path w="8825" h="724">
                    <a:moveTo>
                      <a:pt x="0" y="724"/>
                    </a:moveTo>
                    <a:lnTo>
                      <a:pt x="8294" y="724"/>
                    </a:lnTo>
                    <a:lnTo>
                      <a:pt x="8825" y="58"/>
                    </a:lnTo>
                    <a:lnTo>
                      <a:pt x="8103" y="58"/>
                    </a:lnTo>
                    <a:lnTo>
                      <a:pt x="1114" y="0"/>
                    </a:lnTo>
                    <a:lnTo>
                      <a:pt x="0" y="724"/>
                    </a:lnTo>
                    <a:close/>
                  </a:path>
                </a:pathLst>
              </a:custGeom>
              <a:solidFill>
                <a:srgbClr val="a060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919160" y="2652840"/>
                <a:ext cx="4680360" cy="1348200"/>
              </a:xfrm>
              <a:custGeom>
                <a:avLst/>
                <a:gdLst/>
                <a:ahLst/>
                <a:rect l="0" t="0" r="r" b="b"/>
                <a:pathLst>
                  <a:path w="13001" h="3745">
                    <a:moveTo>
                      <a:pt x="0" y="3745"/>
                    </a:moveTo>
                    <a:lnTo>
                      <a:pt x="13001" y="3745"/>
                    </a:lnTo>
                    <a:lnTo>
                      <a:pt x="10687" y="0"/>
                    </a:lnTo>
                    <a:lnTo>
                      <a:pt x="2388" y="0"/>
                    </a:lnTo>
                    <a:lnTo>
                      <a:pt x="0" y="3745"/>
                    </a:lnTo>
                    <a:close/>
                  </a:path>
                </a:pathLst>
              </a:custGeom>
              <a:solidFill>
                <a:srgbClr val="ff9900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 txBox="1"/>
              <p:nvPr/>
            </p:nvSpPr>
            <p:spPr>
              <a:xfrm>
                <a:off x="2868480" y="2922480"/>
                <a:ext cx="2862360" cy="6951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50000"/>
                  </a:lnSpc>
                  <a:spcBef>
                    <a:spcPts val="241"/>
                  </a:spcBef>
                  <a:spcAft>
                    <a:spcPts val="360"/>
                  </a:spcAft>
                </a:pPr>
                <a:r>
                  <a:rPr b="0" lang="en-US" sz="4800" spc="-1" strike="noStrike">
                    <a:solidFill>
                      <a:srgbClr val="0000ff"/>
                    </a:solidFill>
                    <a:latin typeface="Mistral"/>
                    <a:ea typeface="Mistral"/>
                  </a:rPr>
                  <a:t>e-case</a:t>
                </a:r>
                <a:endParaRPr b="0" lang="en-US" sz="4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50000"/>
                  </a:lnSpc>
                  <a:spcBef>
                    <a:spcPts val="241"/>
                  </a:spcBef>
                  <a:spcAft>
                    <a:spcPts val="360"/>
                  </a:spcAf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otebook User Interfa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 txBox="1"/>
              <p:nvPr/>
            </p:nvSpPr>
            <p:spPr>
              <a:xfrm>
                <a:off x="3836880" y="847800"/>
                <a:ext cx="895320" cy="51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Custo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lutio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 txBox="1"/>
              <p:nvPr/>
            </p:nvSpPr>
            <p:spPr>
              <a:xfrm>
                <a:off x="3200400" y="4422600"/>
                <a:ext cx="2219400" cy="517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Tablet PC</a:t>
                </a: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 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Win95 for Pen Comput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 txBox="1"/>
              <p:nvPr/>
            </p:nvSpPr>
            <p:spPr>
              <a:xfrm>
                <a:off x="6791400" y="4435560"/>
                <a:ext cx="9050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Platform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 txBox="1"/>
              <p:nvPr/>
            </p:nvSpPr>
            <p:spPr>
              <a:xfrm>
                <a:off x="5803920" y="3137040"/>
                <a:ext cx="113364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Framework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2870280" y="196920"/>
                <a:ext cx="2816640" cy="2321280"/>
              </a:xfrm>
              <a:custGeom>
                <a:avLst/>
                <a:gdLst/>
                <a:ahLst/>
                <a:rect l="0" t="0" r="r" b="b"/>
                <a:pathLst>
                  <a:path w="7824" h="6448">
                    <a:moveTo>
                      <a:pt x="0" y="6438"/>
                    </a:moveTo>
                    <a:lnTo>
                      <a:pt x="7824" y="6448"/>
                    </a:lnTo>
                    <a:lnTo>
                      <a:pt x="3928" y="0"/>
                    </a:lnTo>
                    <a:lnTo>
                      <a:pt x="0" y="6438"/>
                    </a:lnTo>
                    <a:close/>
                  </a:path>
                </a:pathLst>
              </a:custGeom>
              <a:solidFill>
                <a:srgbClr val="ffff66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278240" y="196920"/>
                <a:ext cx="1605240" cy="2325960"/>
              </a:xfrm>
              <a:custGeom>
                <a:avLst/>
                <a:gdLst/>
                <a:ahLst/>
                <a:rect l="0" t="0" r="r" b="b"/>
                <a:pathLst>
                  <a:path w="4459" h="6461">
                    <a:moveTo>
                      <a:pt x="3866" y="6461"/>
                    </a:moveTo>
                    <a:lnTo>
                      <a:pt x="4459" y="5910"/>
                    </a:lnTo>
                    <a:lnTo>
                      <a:pt x="0" y="0"/>
                    </a:lnTo>
                    <a:lnTo>
                      <a:pt x="3866" y="6461"/>
                    </a:lnTo>
                    <a:close/>
                  </a:path>
                </a:pathLst>
              </a:custGeom>
              <a:solidFill>
                <a:srgbClr val="ffffa5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 txBox="1"/>
              <p:nvPr/>
            </p:nvSpPr>
            <p:spPr>
              <a:xfrm>
                <a:off x="4952880" y="1824120"/>
                <a:ext cx="993600" cy="30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Solution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 txBox="1"/>
              <p:nvPr/>
            </p:nvSpPr>
            <p:spPr>
              <a:xfrm>
                <a:off x="3497400" y="1417680"/>
                <a:ext cx="1587600" cy="1032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</a:pPr>
                <a:r>
                  <a:rPr b="1" i="1" lang="en-US" sz="2400" spc="-1" strike="noStrike">
                    <a:solidFill>
                      <a:srgbClr val="000000"/>
                    </a:solidFill>
                    <a:latin typeface="Mistral"/>
                    <a:ea typeface="Mistral"/>
                  </a:rPr>
                  <a:t>Face-To-Face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Interactive Selling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1816200" y="2095560"/>
            <a:ext cx="5478480" cy="263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" name=""/>
          <p:cNvGrpSpPr/>
          <p:nvPr/>
        </p:nvGrpSpPr>
        <p:grpSpPr>
          <a:xfrm>
            <a:off x="884160" y="517680"/>
            <a:ext cx="6720480" cy="5113800"/>
            <a:chOff x="884160" y="517680"/>
            <a:chExt cx="6720480" cy="5113800"/>
          </a:xfrm>
        </p:grpSpPr>
        <p:sp>
          <p:nvSpPr>
            <p:cNvPr id="254" name=""/>
            <p:cNvSpPr/>
            <p:nvPr/>
          </p:nvSpPr>
          <p:spPr>
            <a:xfrm>
              <a:off x="6462720" y="4075200"/>
              <a:ext cx="1141920" cy="1556280"/>
            </a:xfrm>
            <a:custGeom>
              <a:avLst/>
              <a:gdLst/>
              <a:ahLst/>
              <a:rect l="0" t="0" r="r" b="b"/>
              <a:pathLst>
                <a:path w="3172" h="4323">
                  <a:moveTo>
                    <a:pt x="2054" y="4323"/>
                  </a:moveTo>
                  <a:lnTo>
                    <a:pt x="0" y="1062"/>
                  </a:lnTo>
                  <a:lnTo>
                    <a:pt x="873" y="0"/>
                  </a:lnTo>
                  <a:lnTo>
                    <a:pt x="3172" y="3070"/>
                  </a:lnTo>
                  <a:lnTo>
                    <a:pt x="2054" y="4323"/>
                  </a:lnTo>
                  <a:close/>
                </a:path>
              </a:pathLst>
            </a:custGeom>
            <a:solidFill>
              <a:srgbClr val="ff7041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23960" y="4075200"/>
              <a:ext cx="5146920" cy="384480"/>
            </a:xfrm>
            <a:custGeom>
              <a:avLst/>
              <a:gdLst/>
              <a:ahLst/>
              <a:rect l="0" t="0" r="r" b="b"/>
              <a:pathLst>
                <a:path w="14297" h="1068">
                  <a:moveTo>
                    <a:pt x="0" y="1048"/>
                  </a:moveTo>
                  <a:lnTo>
                    <a:pt x="13446" y="1068"/>
                  </a:lnTo>
                  <a:lnTo>
                    <a:pt x="14297" y="0"/>
                  </a:lnTo>
                  <a:lnTo>
                    <a:pt x="1542" y="0"/>
                  </a:lnTo>
                  <a:lnTo>
                    <a:pt x="0" y="1048"/>
                  </a:lnTo>
                  <a:close/>
                </a:path>
              </a:pathLst>
            </a:custGeom>
            <a:solidFill>
              <a:srgbClr val="800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884160" y="4456080"/>
              <a:ext cx="6315480" cy="1167120"/>
            </a:xfrm>
            <a:custGeom>
              <a:avLst/>
              <a:gdLst/>
              <a:ahLst/>
              <a:rect l="0" t="0" r="r" b="b"/>
              <a:pathLst>
                <a:path w="17543" h="3242">
                  <a:moveTo>
                    <a:pt x="0" y="3242"/>
                  </a:moveTo>
                  <a:lnTo>
                    <a:pt x="17543" y="3242"/>
                  </a:lnTo>
                  <a:lnTo>
                    <a:pt x="15490" y="0"/>
                  </a:lnTo>
                  <a:lnTo>
                    <a:pt x="2063" y="0"/>
                  </a:lnTo>
                  <a:lnTo>
                    <a:pt x="0" y="3242"/>
                  </a:lnTo>
                  <a:close/>
                </a:path>
              </a:pathLst>
            </a:custGeom>
            <a:solidFill>
              <a:srgbClr val="cc33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546880" y="2735280"/>
              <a:ext cx="1146600" cy="1584720"/>
            </a:xfrm>
            <a:custGeom>
              <a:avLst/>
              <a:gdLst/>
              <a:ahLst/>
              <a:rect l="0" t="0" r="r" b="b"/>
              <a:pathLst>
                <a:path w="3185" h="4402">
                  <a:moveTo>
                    <a:pt x="0" y="678"/>
                  </a:moveTo>
                  <a:lnTo>
                    <a:pt x="994" y="2326"/>
                  </a:lnTo>
                  <a:lnTo>
                    <a:pt x="2308" y="4402"/>
                  </a:lnTo>
                  <a:lnTo>
                    <a:pt x="3185" y="3464"/>
                  </a:lnTo>
                  <a:lnTo>
                    <a:pt x="534" y="0"/>
                  </a:lnTo>
                  <a:lnTo>
                    <a:pt x="0" y="678"/>
                  </a:lnTo>
                  <a:close/>
                </a:path>
              </a:pathLst>
            </a:custGeom>
            <a:solidFill>
              <a:srgbClr val="ffab2d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60680" y="2712960"/>
              <a:ext cx="3177000" cy="260640"/>
            </a:xfrm>
            <a:custGeom>
              <a:avLst/>
              <a:gdLst/>
              <a:ahLst/>
              <a:rect l="0" t="0" r="r" b="b"/>
              <a:pathLst>
                <a:path w="8825" h="724">
                  <a:moveTo>
                    <a:pt x="0" y="724"/>
                  </a:moveTo>
                  <a:lnTo>
                    <a:pt x="8294" y="724"/>
                  </a:lnTo>
                  <a:lnTo>
                    <a:pt x="8825" y="58"/>
                  </a:lnTo>
                  <a:lnTo>
                    <a:pt x="8103" y="58"/>
                  </a:lnTo>
                  <a:lnTo>
                    <a:pt x="1114" y="0"/>
                  </a:lnTo>
                  <a:lnTo>
                    <a:pt x="0" y="724"/>
                  </a:lnTo>
                  <a:close/>
                </a:path>
              </a:pathLst>
            </a:custGeom>
            <a:solidFill>
              <a:srgbClr val="a060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706400" y="2973240"/>
              <a:ext cx="4680360" cy="1348200"/>
            </a:xfrm>
            <a:custGeom>
              <a:avLst/>
              <a:gdLst/>
              <a:ahLst/>
              <a:rect l="0" t="0" r="r" b="b"/>
              <a:pathLst>
                <a:path w="13001" h="3745">
                  <a:moveTo>
                    <a:pt x="0" y="3745"/>
                  </a:moveTo>
                  <a:lnTo>
                    <a:pt x="13001" y="3745"/>
                  </a:lnTo>
                  <a:lnTo>
                    <a:pt x="10687" y="0"/>
                  </a:lnTo>
                  <a:lnTo>
                    <a:pt x="2388" y="0"/>
                  </a:lnTo>
                  <a:lnTo>
                    <a:pt x="0" y="3745"/>
                  </a:lnTo>
                  <a:close/>
                </a:path>
              </a:pathLst>
            </a:custGeom>
            <a:solidFill>
              <a:srgbClr val="ff9900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2655720" y="3243240"/>
              <a:ext cx="2862360" cy="6951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50000"/>
                </a:lnSpc>
                <a:spcBef>
                  <a:spcPts val="241"/>
                </a:spcBef>
                <a:spcAft>
                  <a:spcPts val="360"/>
                </a:spcAft>
              </a:pPr>
              <a:r>
                <a:rPr b="0" lang="en-US" sz="4800" spc="-1" strike="noStrike">
                  <a:solidFill>
                    <a:srgbClr val="0000ff"/>
                  </a:solidFill>
                  <a:latin typeface="Mistral"/>
                  <a:ea typeface="Mistral"/>
                </a:rPr>
                <a:t>e-case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50000"/>
                </a:lnSpc>
                <a:spcBef>
                  <a:spcPts val="241"/>
                </a:spcBef>
                <a:spcAft>
                  <a:spcPts val="360"/>
                </a:spcAf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Notebook User Interf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 txBox="1"/>
            <p:nvPr/>
          </p:nvSpPr>
          <p:spPr>
            <a:xfrm>
              <a:off x="3624120" y="1168560"/>
              <a:ext cx="89532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ust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l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 txBox="1"/>
            <p:nvPr/>
          </p:nvSpPr>
          <p:spPr>
            <a:xfrm>
              <a:off x="2987640" y="4743360"/>
              <a:ext cx="2219400" cy="5176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ablet PC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in95 for Pen Comput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6578640" y="4756320"/>
              <a:ext cx="9050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latfor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5591160" y="3457440"/>
              <a:ext cx="113364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Framewor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657520" y="517680"/>
              <a:ext cx="2816640" cy="2321280"/>
            </a:xfrm>
            <a:custGeom>
              <a:avLst/>
              <a:gdLst/>
              <a:ahLst/>
              <a:rect l="0" t="0" r="r" b="b"/>
              <a:pathLst>
                <a:path w="7824" h="6448">
                  <a:moveTo>
                    <a:pt x="0" y="6438"/>
                  </a:moveTo>
                  <a:lnTo>
                    <a:pt x="7824" y="6448"/>
                  </a:lnTo>
                  <a:lnTo>
                    <a:pt x="3928" y="0"/>
                  </a:lnTo>
                  <a:lnTo>
                    <a:pt x="0" y="6438"/>
                  </a:lnTo>
                  <a:close/>
                </a:path>
              </a:pathLst>
            </a:custGeom>
            <a:solidFill>
              <a:srgbClr val="ffff66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065480" y="517680"/>
              <a:ext cx="1605240" cy="2325960"/>
            </a:xfrm>
            <a:custGeom>
              <a:avLst/>
              <a:gdLst/>
              <a:ahLst/>
              <a:rect l="0" t="0" r="r" b="b"/>
              <a:pathLst>
                <a:path w="4459" h="6461">
                  <a:moveTo>
                    <a:pt x="3866" y="6461"/>
                  </a:moveTo>
                  <a:lnTo>
                    <a:pt x="4459" y="5910"/>
                  </a:lnTo>
                  <a:lnTo>
                    <a:pt x="0" y="0"/>
                  </a:lnTo>
                  <a:lnTo>
                    <a:pt x="3866" y="6461"/>
                  </a:lnTo>
                  <a:close/>
                </a:path>
              </a:pathLst>
            </a:custGeom>
            <a:solidFill>
              <a:srgbClr val="ffffa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 txBox="1"/>
            <p:nvPr/>
          </p:nvSpPr>
          <p:spPr>
            <a:xfrm>
              <a:off x="4740120" y="2144880"/>
              <a:ext cx="993600" cy="304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lutio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 txBox="1"/>
            <p:nvPr/>
          </p:nvSpPr>
          <p:spPr>
            <a:xfrm>
              <a:off x="3284640" y="1738440"/>
              <a:ext cx="1587600" cy="1032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</a:pPr>
              <a:r>
                <a:rPr b="1" i="1" lang="en-US" sz="2400" spc="-1" strike="noStrike">
                  <a:solidFill>
                    <a:srgbClr val="000000"/>
                  </a:solidFill>
                  <a:latin typeface="Mistral"/>
                  <a:ea typeface="Mistral"/>
                </a:rPr>
                <a:t>Face-To-Fa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active Sellin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9" name=""/>
          <p:cNvGrpSpPr/>
          <p:nvPr/>
        </p:nvGrpSpPr>
        <p:grpSpPr>
          <a:xfrm>
            <a:off x="592200" y="1606680"/>
            <a:ext cx="4844880" cy="3083040"/>
            <a:chOff x="592200" y="1606680"/>
            <a:chExt cx="4844880" cy="3083040"/>
          </a:xfrm>
        </p:grpSpPr>
        <p:sp>
          <p:nvSpPr>
            <p:cNvPr id="270" name=""/>
            <p:cNvSpPr/>
            <p:nvPr/>
          </p:nvSpPr>
          <p:spPr>
            <a:xfrm>
              <a:off x="4948200" y="4130640"/>
              <a:ext cx="324000" cy="304920"/>
            </a:xfrm>
            <a:prstGeom prst="ellipse">
              <a:avLst/>
            </a:prstGeom>
            <a:solidFill>
              <a:srgbClr val="ff5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489560" y="4370400"/>
              <a:ext cx="669960" cy="250920"/>
            </a:xfrm>
            <a:prstGeom prst="ellipse">
              <a:avLst/>
            </a:prstGeom>
            <a:solidFill>
              <a:srgbClr val="ff5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083120" y="4346640"/>
              <a:ext cx="554040" cy="309600"/>
            </a:xfrm>
            <a:prstGeom prst="ellipse">
              <a:avLst/>
            </a:prstGeom>
            <a:solidFill>
              <a:srgbClr val="ff5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606840" y="4346640"/>
              <a:ext cx="555480" cy="331920"/>
            </a:xfrm>
            <a:prstGeom prst="ellipse">
              <a:avLst/>
            </a:prstGeom>
            <a:solidFill>
              <a:srgbClr val="ff5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191040" y="4427640"/>
              <a:ext cx="576360" cy="262080"/>
            </a:xfrm>
            <a:prstGeom prst="ellipse">
              <a:avLst/>
            </a:prstGeom>
            <a:solidFill>
              <a:srgbClr val="ff5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54440" y="4276800"/>
              <a:ext cx="380880" cy="366840"/>
            </a:xfrm>
            <a:prstGeom prst="ellipse">
              <a:avLst/>
            </a:prstGeom>
            <a:solidFill>
              <a:srgbClr val="ff5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89320" y="4103640"/>
              <a:ext cx="555480" cy="423720"/>
            </a:xfrm>
            <a:prstGeom prst="ellipse">
              <a:avLst/>
            </a:prstGeom>
            <a:solidFill>
              <a:srgbClr val="ff5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927080" y="4160880"/>
              <a:ext cx="622440" cy="414360"/>
            </a:xfrm>
            <a:prstGeom prst="ellipse">
              <a:avLst/>
            </a:prstGeom>
            <a:solidFill>
              <a:srgbClr val="ff5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392120" y="4230720"/>
              <a:ext cx="682560" cy="344520"/>
            </a:xfrm>
            <a:prstGeom prst="ellipse">
              <a:avLst/>
            </a:prstGeom>
            <a:solidFill>
              <a:srgbClr val="ff5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882720" y="4160880"/>
              <a:ext cx="647640" cy="379440"/>
            </a:xfrm>
            <a:prstGeom prst="ellipse">
              <a:avLst/>
            </a:prstGeom>
            <a:solidFill>
              <a:srgbClr val="ff5f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76320" y="4060800"/>
              <a:ext cx="484200" cy="333360"/>
            </a:xfrm>
            <a:prstGeom prst="ellipse">
              <a:avLst/>
            </a:prstGeom>
            <a:solidFill>
              <a:srgbClr val="ffbf7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592200" y="1606680"/>
              <a:ext cx="4844880" cy="2992320"/>
              <a:chOff x="592200" y="1606680"/>
              <a:chExt cx="4844880" cy="2992320"/>
            </a:xfrm>
          </p:grpSpPr>
          <p:sp>
            <p:nvSpPr>
              <p:cNvPr id="282" name=""/>
              <p:cNvSpPr/>
              <p:nvPr/>
            </p:nvSpPr>
            <p:spPr>
              <a:xfrm>
                <a:off x="3884760" y="1693800"/>
                <a:ext cx="682560" cy="693720"/>
              </a:xfrm>
              <a:prstGeom prst="ellipse">
                <a:avLst/>
              </a:prstGeom>
              <a:solidFill>
                <a:srgbClr val="ff9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132000" y="1606680"/>
                <a:ext cx="681120" cy="696960"/>
              </a:xfrm>
              <a:prstGeom prst="ellipse">
                <a:avLst/>
              </a:prstGeom>
              <a:solidFill>
                <a:srgbClr val="ff9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4430880" y="2050920"/>
                <a:ext cx="682560" cy="695160"/>
              </a:xfrm>
              <a:prstGeom prst="ellipse">
                <a:avLst/>
              </a:prstGeom>
              <a:solidFill>
                <a:srgbClr val="ff9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4754520" y="2662200"/>
                <a:ext cx="682560" cy="696960"/>
              </a:xfrm>
              <a:prstGeom prst="ellipse">
                <a:avLst/>
              </a:prstGeom>
              <a:solidFill>
                <a:srgbClr val="ff9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675320" y="3957480"/>
                <a:ext cx="528480" cy="538200"/>
              </a:xfrm>
              <a:prstGeom prst="ellipse">
                <a:avLst/>
              </a:prstGeom>
              <a:solidFill>
                <a:srgbClr val="ff9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861080" y="3286080"/>
                <a:ext cx="399960" cy="406440"/>
              </a:xfrm>
              <a:prstGeom prst="ellipse">
                <a:avLst/>
              </a:prstGeom>
              <a:solidFill>
                <a:srgbClr val="ff9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867200" y="3543120"/>
                <a:ext cx="446040" cy="453960"/>
              </a:xfrm>
              <a:prstGeom prst="ellipse">
                <a:avLst/>
              </a:prstGeom>
              <a:solidFill>
                <a:srgbClr val="ff9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164040" y="4067280"/>
                <a:ext cx="1152360" cy="531720"/>
              </a:xfrm>
              <a:prstGeom prst="ellipse">
                <a:avLst/>
              </a:prstGeom>
              <a:solidFill>
                <a:srgbClr val="ff9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32120" y="1743120"/>
                <a:ext cx="681120" cy="698400"/>
              </a:xfrm>
              <a:prstGeom prst="ellipse">
                <a:avLst/>
              </a:prstGeom>
              <a:solidFill>
                <a:srgbClr val="ff9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049400" y="1668600"/>
                <a:ext cx="465120" cy="480960"/>
              </a:xfrm>
              <a:prstGeom prst="ellipse">
                <a:avLst/>
              </a:prstGeom>
              <a:solidFill>
                <a:srgbClr val="ff9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382760" y="1849320"/>
                <a:ext cx="343080" cy="347760"/>
              </a:xfrm>
              <a:prstGeom prst="ellipse">
                <a:avLst/>
              </a:prstGeom>
              <a:solidFill>
                <a:srgbClr val="ff9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592200" y="1866960"/>
                <a:ext cx="1004760" cy="1027080"/>
              </a:xfrm>
              <a:prstGeom prst="ellipse">
                <a:avLst/>
              </a:prstGeom>
              <a:solidFill>
                <a:srgbClr val="ff9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727200" y="3386160"/>
                <a:ext cx="576360" cy="595440"/>
              </a:xfrm>
              <a:prstGeom prst="ellipse">
                <a:avLst/>
              </a:prstGeom>
              <a:solidFill>
                <a:srgbClr val="ff9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984240" y="3576600"/>
                <a:ext cx="770040" cy="793800"/>
              </a:xfrm>
              <a:prstGeom prst="ellipse">
                <a:avLst/>
              </a:prstGeom>
              <a:solidFill>
                <a:srgbClr val="ff9f1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6" name=""/>
            <p:cNvGrpSpPr/>
            <p:nvPr/>
          </p:nvGrpSpPr>
          <p:grpSpPr>
            <a:xfrm>
              <a:off x="1103400" y="1708200"/>
              <a:ext cx="615600" cy="527040"/>
              <a:chOff x="1103400" y="1708200"/>
              <a:chExt cx="615600" cy="527040"/>
            </a:xfrm>
          </p:grpSpPr>
          <p:sp>
            <p:nvSpPr>
              <p:cNvPr id="297" name=""/>
              <p:cNvSpPr/>
              <p:nvPr/>
            </p:nvSpPr>
            <p:spPr>
              <a:xfrm>
                <a:off x="1103400" y="1708200"/>
                <a:ext cx="403200" cy="401760"/>
              </a:xfrm>
              <a:prstGeom prst="ellipse">
                <a:avLst/>
              </a:prstGeom>
              <a:solidFill>
                <a:srgbClr val="ff5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1407960" y="1901880"/>
                <a:ext cx="311040" cy="333360"/>
              </a:xfrm>
              <a:prstGeom prst="ellipse">
                <a:avLst/>
              </a:prstGeom>
              <a:solidFill>
                <a:srgbClr val="ff5f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9" name=""/>
            <p:cNvGrpSpPr/>
            <p:nvPr/>
          </p:nvGrpSpPr>
          <p:grpSpPr>
            <a:xfrm>
              <a:off x="662040" y="1616040"/>
              <a:ext cx="4717800" cy="2985840"/>
              <a:chOff x="662040" y="1616040"/>
              <a:chExt cx="4717800" cy="2985840"/>
            </a:xfrm>
          </p:grpSpPr>
          <p:sp>
            <p:nvSpPr>
              <p:cNvPr id="300" name=""/>
              <p:cNvSpPr/>
              <p:nvPr/>
            </p:nvSpPr>
            <p:spPr>
              <a:xfrm>
                <a:off x="3908520" y="1747800"/>
                <a:ext cx="588960" cy="58428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4859280" y="3622680"/>
                <a:ext cx="404640" cy="40176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930240" y="3081240"/>
                <a:ext cx="401760" cy="40176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636560" y="1914480"/>
                <a:ext cx="438120" cy="44784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352680" y="1743120"/>
                <a:ext cx="403200" cy="40176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3595680" y="1927080"/>
                <a:ext cx="403200" cy="40176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889360" y="4071960"/>
                <a:ext cx="403200" cy="40176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2494080" y="1833480"/>
                <a:ext cx="542880" cy="49536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957400" y="1616040"/>
                <a:ext cx="635040" cy="63324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984320" y="1800360"/>
                <a:ext cx="635040" cy="63180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4361040" y="2124000"/>
                <a:ext cx="693720" cy="62064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743360" y="2712960"/>
                <a:ext cx="636480" cy="63180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777960" y="3370320"/>
                <a:ext cx="635040" cy="63180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542960" y="3681360"/>
                <a:ext cx="636480" cy="63180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024440" y="3957480"/>
                <a:ext cx="681120" cy="64440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4603680" y="3979800"/>
                <a:ext cx="542880" cy="54144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1068480" y="3600360"/>
                <a:ext cx="658800" cy="65556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2054160" y="3530520"/>
                <a:ext cx="914400" cy="91116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121200" y="3403440"/>
                <a:ext cx="1168560" cy="111744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870440" y="3313080"/>
                <a:ext cx="334800" cy="33192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917640" y="2805120"/>
                <a:ext cx="333360" cy="33192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62040" y="1892160"/>
                <a:ext cx="1030320" cy="102384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1023840" y="2035080"/>
              <a:ext cx="4019760" cy="2188080"/>
            </a:xfrm>
            <a:custGeom>
              <a:avLst/>
              <a:gdLst/>
              <a:ahLst/>
              <a:rect l="0" t="0" r="r" b="b"/>
              <a:pathLst>
                <a:path w="11166" h="6078">
                  <a:moveTo>
                    <a:pt x="8877" y="286"/>
                  </a:moveTo>
                  <a:lnTo>
                    <a:pt x="10134" y="449"/>
                  </a:lnTo>
                  <a:lnTo>
                    <a:pt x="11166" y="4353"/>
                  </a:lnTo>
                  <a:lnTo>
                    <a:pt x="10359" y="5500"/>
                  </a:lnTo>
                  <a:lnTo>
                    <a:pt x="8079" y="5434"/>
                  </a:lnTo>
                  <a:lnTo>
                    <a:pt x="5663" y="6078"/>
                  </a:lnTo>
                  <a:lnTo>
                    <a:pt x="4405" y="5659"/>
                  </a:lnTo>
                  <a:lnTo>
                    <a:pt x="996" y="4958"/>
                  </a:lnTo>
                  <a:lnTo>
                    <a:pt x="449" y="4450"/>
                  </a:lnTo>
                  <a:lnTo>
                    <a:pt x="577" y="3392"/>
                  </a:lnTo>
                  <a:lnTo>
                    <a:pt x="0" y="2364"/>
                  </a:lnTo>
                  <a:lnTo>
                    <a:pt x="1543" y="1053"/>
                  </a:lnTo>
                  <a:lnTo>
                    <a:pt x="2222" y="515"/>
                  </a:lnTo>
                  <a:lnTo>
                    <a:pt x="6179" y="0"/>
                  </a:lnTo>
                  <a:lnTo>
                    <a:pt x="8877" y="286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3" name=""/>
            <p:cNvGrpSpPr/>
            <p:nvPr/>
          </p:nvGrpSpPr>
          <p:grpSpPr>
            <a:xfrm>
              <a:off x="828720" y="2127240"/>
              <a:ext cx="4349880" cy="2212920"/>
              <a:chOff x="828720" y="2127240"/>
              <a:chExt cx="4349880" cy="2212920"/>
            </a:xfrm>
          </p:grpSpPr>
          <p:sp>
            <p:nvSpPr>
              <p:cNvPr id="324" name=""/>
              <p:cNvSpPr/>
              <p:nvPr/>
            </p:nvSpPr>
            <p:spPr>
              <a:xfrm>
                <a:off x="4376880" y="3638520"/>
                <a:ext cx="639720" cy="633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4537080" y="2565360"/>
                <a:ext cx="641520" cy="633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828720" y="2127240"/>
                <a:ext cx="639720" cy="633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968400" y="3027240"/>
                <a:ext cx="522360" cy="515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4454640" y="2646360"/>
                <a:ext cx="669960" cy="66816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4303800" y="3673440"/>
                <a:ext cx="669960" cy="66672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871560" y="2185920"/>
                <a:ext cx="669960" cy="66528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1046160" y="2992320"/>
                <a:ext cx="576360" cy="57456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4537080" y="2898720"/>
                <a:ext cx="617400" cy="5763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4498920" y="2911320"/>
                <a:ext cx="579600" cy="57456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187280" y="2197080"/>
                <a:ext cx="639720" cy="6332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1241280" y="2254320"/>
                <a:ext cx="577800" cy="57636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960480" y="3417840"/>
                <a:ext cx="422280" cy="42696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1022400" y="3441600"/>
                <a:ext cx="390600" cy="392040"/>
              </a:xfrm>
              <a:prstGeom prst="ellipse">
                <a:avLst/>
              </a:prstGeom>
              <a:solidFill>
                <a:srgbClr val="ffbf7f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38" name=""/>
          <p:cNvSpPr txBox="1"/>
          <p:nvPr/>
        </p:nvSpPr>
        <p:spPr>
          <a:xfrm>
            <a:off x="5878440" y="2109960"/>
            <a:ext cx="695160" cy="72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cc00"/>
                </a:solidFill>
                <a:latin typeface="Mistral"/>
                <a:ea typeface="Mistral"/>
              </a:rPr>
              <a:t>Ensem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ffcc00"/>
                </a:solidFill>
                <a:latin typeface="Mistral"/>
                <a:ea typeface="Mistral"/>
              </a:rPr>
              <a:t>Toolk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1978200" y="30240"/>
            <a:ext cx="2195640" cy="2591280"/>
            <a:chOff x="1978200" y="30240"/>
            <a:chExt cx="2195640" cy="2591280"/>
          </a:xfrm>
        </p:grpSpPr>
        <p:sp>
          <p:nvSpPr>
            <p:cNvPr id="340" name=""/>
            <p:cNvSpPr/>
            <p:nvPr/>
          </p:nvSpPr>
          <p:spPr>
            <a:xfrm>
              <a:off x="1978200" y="30240"/>
              <a:ext cx="1010160" cy="1006920"/>
            </a:xfrm>
            <a:custGeom>
              <a:avLst/>
              <a:gdLst/>
              <a:ahLst/>
              <a:rect l="0" t="0" r="r" b="b"/>
              <a:pathLst>
                <a:path w="2806" h="2797">
                  <a:moveTo>
                    <a:pt x="2806" y="2797"/>
                  </a:moveTo>
                  <a:lnTo>
                    <a:pt x="0" y="0"/>
                  </a:lnTo>
                  <a:lnTo>
                    <a:pt x="2744" y="2511"/>
                  </a:lnTo>
                  <a:lnTo>
                    <a:pt x="2744" y="2568"/>
                  </a:lnTo>
                  <a:lnTo>
                    <a:pt x="2762" y="2643"/>
                  </a:lnTo>
                  <a:lnTo>
                    <a:pt x="2775" y="2722"/>
                  </a:lnTo>
                  <a:lnTo>
                    <a:pt x="2806" y="279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22480" y="853920"/>
              <a:ext cx="1162440" cy="1438560"/>
            </a:xfrm>
            <a:custGeom>
              <a:avLst/>
              <a:gdLst/>
              <a:ahLst/>
              <a:rect l="0" t="0" r="r" b="b"/>
              <a:pathLst>
                <a:path w="3229" h="3996">
                  <a:moveTo>
                    <a:pt x="953" y="3996"/>
                  </a:moveTo>
                  <a:lnTo>
                    <a:pt x="1015" y="3965"/>
                  </a:lnTo>
                  <a:lnTo>
                    <a:pt x="1099" y="3930"/>
                  </a:lnTo>
                  <a:lnTo>
                    <a:pt x="1178" y="3890"/>
                  </a:lnTo>
                  <a:lnTo>
                    <a:pt x="1271" y="3859"/>
                  </a:lnTo>
                  <a:lnTo>
                    <a:pt x="1372" y="3815"/>
                  </a:lnTo>
                  <a:lnTo>
                    <a:pt x="1473" y="3775"/>
                  </a:lnTo>
                  <a:lnTo>
                    <a:pt x="1584" y="3736"/>
                  </a:lnTo>
                  <a:lnTo>
                    <a:pt x="1707" y="3700"/>
                  </a:lnTo>
                  <a:lnTo>
                    <a:pt x="1826" y="3669"/>
                  </a:lnTo>
                  <a:lnTo>
                    <a:pt x="1958" y="3647"/>
                  </a:lnTo>
                  <a:lnTo>
                    <a:pt x="2100" y="3621"/>
                  </a:lnTo>
                  <a:lnTo>
                    <a:pt x="2245" y="3612"/>
                  </a:lnTo>
                  <a:lnTo>
                    <a:pt x="2386" y="3603"/>
                  </a:lnTo>
                  <a:lnTo>
                    <a:pt x="2537" y="3612"/>
                  </a:lnTo>
                  <a:lnTo>
                    <a:pt x="2691" y="3621"/>
                  </a:lnTo>
                  <a:lnTo>
                    <a:pt x="2855" y="3652"/>
                  </a:lnTo>
                  <a:lnTo>
                    <a:pt x="2872" y="3599"/>
                  </a:lnTo>
                  <a:lnTo>
                    <a:pt x="2916" y="3546"/>
                  </a:lnTo>
                  <a:lnTo>
                    <a:pt x="2965" y="3493"/>
                  </a:lnTo>
                  <a:lnTo>
                    <a:pt x="2996" y="3449"/>
                  </a:lnTo>
                  <a:lnTo>
                    <a:pt x="2965" y="3418"/>
                  </a:lnTo>
                  <a:lnTo>
                    <a:pt x="2925" y="3378"/>
                  </a:lnTo>
                  <a:lnTo>
                    <a:pt x="2872" y="3334"/>
                  </a:lnTo>
                  <a:lnTo>
                    <a:pt x="2824" y="3286"/>
                  </a:lnTo>
                  <a:lnTo>
                    <a:pt x="2771" y="3246"/>
                  </a:lnTo>
                  <a:lnTo>
                    <a:pt x="2731" y="3198"/>
                  </a:lnTo>
                  <a:lnTo>
                    <a:pt x="2691" y="3158"/>
                  </a:lnTo>
                  <a:lnTo>
                    <a:pt x="2661" y="3131"/>
                  </a:lnTo>
                  <a:lnTo>
                    <a:pt x="2691" y="3061"/>
                  </a:lnTo>
                  <a:lnTo>
                    <a:pt x="2731" y="2995"/>
                  </a:lnTo>
                  <a:lnTo>
                    <a:pt x="2771" y="2920"/>
                  </a:lnTo>
                  <a:lnTo>
                    <a:pt x="2815" y="2849"/>
                  </a:lnTo>
                  <a:lnTo>
                    <a:pt x="2855" y="2783"/>
                  </a:lnTo>
                  <a:lnTo>
                    <a:pt x="2872" y="2726"/>
                  </a:lnTo>
                  <a:lnTo>
                    <a:pt x="2903" y="2677"/>
                  </a:lnTo>
                  <a:lnTo>
                    <a:pt x="2916" y="2638"/>
                  </a:lnTo>
                  <a:lnTo>
                    <a:pt x="2934" y="2554"/>
                  </a:lnTo>
                  <a:lnTo>
                    <a:pt x="2947" y="2439"/>
                  </a:lnTo>
                  <a:lnTo>
                    <a:pt x="2974" y="2320"/>
                  </a:lnTo>
                  <a:lnTo>
                    <a:pt x="2996" y="2236"/>
                  </a:lnTo>
                  <a:lnTo>
                    <a:pt x="3027" y="2179"/>
                  </a:lnTo>
                  <a:lnTo>
                    <a:pt x="3049" y="2108"/>
                  </a:lnTo>
                  <a:lnTo>
                    <a:pt x="3075" y="2033"/>
                  </a:lnTo>
                  <a:lnTo>
                    <a:pt x="3088" y="1966"/>
                  </a:lnTo>
                  <a:lnTo>
                    <a:pt x="3088" y="1869"/>
                  </a:lnTo>
                  <a:lnTo>
                    <a:pt x="3088" y="1715"/>
                  </a:lnTo>
                  <a:lnTo>
                    <a:pt x="3088" y="1547"/>
                  </a:lnTo>
                  <a:lnTo>
                    <a:pt x="3106" y="1397"/>
                  </a:lnTo>
                  <a:lnTo>
                    <a:pt x="3150" y="1261"/>
                  </a:lnTo>
                  <a:lnTo>
                    <a:pt x="3168" y="1172"/>
                  </a:lnTo>
                  <a:lnTo>
                    <a:pt x="3168" y="1106"/>
                  </a:lnTo>
                  <a:lnTo>
                    <a:pt x="3168" y="1040"/>
                  </a:lnTo>
                  <a:lnTo>
                    <a:pt x="3168" y="886"/>
                  </a:lnTo>
                  <a:lnTo>
                    <a:pt x="3190" y="714"/>
                  </a:lnTo>
                  <a:lnTo>
                    <a:pt x="3207" y="560"/>
                  </a:lnTo>
                  <a:lnTo>
                    <a:pt x="3229" y="432"/>
                  </a:lnTo>
                  <a:lnTo>
                    <a:pt x="3229" y="366"/>
                  </a:lnTo>
                  <a:lnTo>
                    <a:pt x="3221" y="326"/>
                  </a:lnTo>
                  <a:lnTo>
                    <a:pt x="3190" y="299"/>
                  </a:lnTo>
                  <a:lnTo>
                    <a:pt x="3128" y="291"/>
                  </a:lnTo>
                  <a:lnTo>
                    <a:pt x="3088" y="291"/>
                  </a:lnTo>
                  <a:lnTo>
                    <a:pt x="3049" y="291"/>
                  </a:lnTo>
                  <a:lnTo>
                    <a:pt x="3005" y="291"/>
                  </a:lnTo>
                  <a:lnTo>
                    <a:pt x="2965" y="291"/>
                  </a:lnTo>
                  <a:lnTo>
                    <a:pt x="2925" y="308"/>
                  </a:lnTo>
                  <a:lnTo>
                    <a:pt x="2885" y="326"/>
                  </a:lnTo>
                  <a:lnTo>
                    <a:pt x="2855" y="339"/>
                  </a:lnTo>
                  <a:lnTo>
                    <a:pt x="2824" y="374"/>
                  </a:lnTo>
                  <a:lnTo>
                    <a:pt x="2802" y="414"/>
                  </a:lnTo>
                  <a:lnTo>
                    <a:pt x="2784" y="463"/>
                  </a:lnTo>
                  <a:lnTo>
                    <a:pt x="2771" y="511"/>
                  </a:lnTo>
                  <a:lnTo>
                    <a:pt x="2771" y="546"/>
                  </a:lnTo>
                  <a:lnTo>
                    <a:pt x="2762" y="568"/>
                  </a:lnTo>
                  <a:lnTo>
                    <a:pt x="2753" y="608"/>
                  </a:lnTo>
                  <a:lnTo>
                    <a:pt x="2731" y="643"/>
                  </a:lnTo>
                  <a:lnTo>
                    <a:pt x="2713" y="674"/>
                  </a:lnTo>
                  <a:lnTo>
                    <a:pt x="2683" y="723"/>
                  </a:lnTo>
                  <a:lnTo>
                    <a:pt x="2639" y="820"/>
                  </a:lnTo>
                  <a:lnTo>
                    <a:pt x="2612" y="934"/>
                  </a:lnTo>
                  <a:lnTo>
                    <a:pt x="2590" y="1040"/>
                  </a:lnTo>
                  <a:lnTo>
                    <a:pt x="2559" y="961"/>
                  </a:lnTo>
                  <a:lnTo>
                    <a:pt x="2511" y="903"/>
                  </a:lnTo>
                  <a:lnTo>
                    <a:pt x="2458" y="855"/>
                  </a:lnTo>
                  <a:lnTo>
                    <a:pt x="2386" y="811"/>
                  </a:lnTo>
                  <a:lnTo>
                    <a:pt x="2316" y="780"/>
                  </a:lnTo>
                  <a:lnTo>
                    <a:pt x="2254" y="762"/>
                  </a:lnTo>
                  <a:lnTo>
                    <a:pt x="2183" y="732"/>
                  </a:lnTo>
                  <a:lnTo>
                    <a:pt x="2130" y="705"/>
                  </a:lnTo>
                  <a:lnTo>
                    <a:pt x="2082" y="683"/>
                  </a:lnTo>
                  <a:lnTo>
                    <a:pt x="2042" y="652"/>
                  </a:lnTo>
                  <a:lnTo>
                    <a:pt x="1998" y="626"/>
                  </a:lnTo>
                  <a:lnTo>
                    <a:pt x="1972" y="599"/>
                  </a:lnTo>
                  <a:lnTo>
                    <a:pt x="1928" y="568"/>
                  </a:lnTo>
                  <a:lnTo>
                    <a:pt x="1910" y="546"/>
                  </a:lnTo>
                  <a:lnTo>
                    <a:pt x="1870" y="529"/>
                  </a:lnTo>
                  <a:lnTo>
                    <a:pt x="1839" y="511"/>
                  </a:lnTo>
                  <a:lnTo>
                    <a:pt x="1795" y="502"/>
                  </a:lnTo>
                  <a:lnTo>
                    <a:pt x="1756" y="502"/>
                  </a:lnTo>
                  <a:lnTo>
                    <a:pt x="1725" y="493"/>
                  </a:lnTo>
                  <a:lnTo>
                    <a:pt x="1685" y="493"/>
                  </a:lnTo>
                  <a:lnTo>
                    <a:pt x="1667" y="471"/>
                  </a:lnTo>
                  <a:lnTo>
                    <a:pt x="1645" y="463"/>
                  </a:lnTo>
                  <a:lnTo>
                    <a:pt x="1614" y="445"/>
                  </a:lnTo>
                  <a:lnTo>
                    <a:pt x="1584" y="432"/>
                  </a:lnTo>
                  <a:lnTo>
                    <a:pt x="1575" y="432"/>
                  </a:lnTo>
                  <a:lnTo>
                    <a:pt x="1553" y="414"/>
                  </a:lnTo>
                  <a:lnTo>
                    <a:pt x="1522" y="405"/>
                  </a:lnTo>
                  <a:lnTo>
                    <a:pt x="1504" y="396"/>
                  </a:lnTo>
                  <a:lnTo>
                    <a:pt x="1473" y="383"/>
                  </a:lnTo>
                  <a:lnTo>
                    <a:pt x="1442" y="366"/>
                  </a:lnTo>
                  <a:lnTo>
                    <a:pt x="1403" y="357"/>
                  </a:lnTo>
                  <a:lnTo>
                    <a:pt x="1372" y="339"/>
                  </a:lnTo>
                  <a:lnTo>
                    <a:pt x="1319" y="335"/>
                  </a:lnTo>
                  <a:lnTo>
                    <a:pt x="1271" y="335"/>
                  </a:lnTo>
                  <a:lnTo>
                    <a:pt x="1218" y="335"/>
                  </a:lnTo>
                  <a:lnTo>
                    <a:pt x="1156" y="339"/>
                  </a:lnTo>
                  <a:lnTo>
                    <a:pt x="1107" y="357"/>
                  </a:lnTo>
                  <a:lnTo>
                    <a:pt x="1068" y="383"/>
                  </a:lnTo>
                  <a:lnTo>
                    <a:pt x="1046" y="405"/>
                  </a:lnTo>
                  <a:lnTo>
                    <a:pt x="1046" y="445"/>
                  </a:lnTo>
                  <a:lnTo>
                    <a:pt x="1054" y="480"/>
                  </a:lnTo>
                  <a:lnTo>
                    <a:pt x="1076" y="520"/>
                  </a:lnTo>
                  <a:lnTo>
                    <a:pt x="1107" y="546"/>
                  </a:lnTo>
                  <a:lnTo>
                    <a:pt x="1138" y="577"/>
                  </a:lnTo>
                  <a:lnTo>
                    <a:pt x="1169" y="599"/>
                  </a:lnTo>
                  <a:lnTo>
                    <a:pt x="1209" y="617"/>
                  </a:lnTo>
                  <a:lnTo>
                    <a:pt x="1240" y="643"/>
                  </a:lnTo>
                  <a:lnTo>
                    <a:pt x="1271" y="657"/>
                  </a:lnTo>
                  <a:lnTo>
                    <a:pt x="1271" y="732"/>
                  </a:lnTo>
                  <a:lnTo>
                    <a:pt x="1279" y="798"/>
                  </a:lnTo>
                  <a:lnTo>
                    <a:pt x="1301" y="877"/>
                  </a:lnTo>
                  <a:lnTo>
                    <a:pt x="1332" y="952"/>
                  </a:lnTo>
                  <a:lnTo>
                    <a:pt x="1319" y="934"/>
                  </a:lnTo>
                  <a:lnTo>
                    <a:pt x="1301" y="903"/>
                  </a:lnTo>
                  <a:lnTo>
                    <a:pt x="1271" y="868"/>
                  </a:lnTo>
                  <a:lnTo>
                    <a:pt x="1248" y="829"/>
                  </a:lnTo>
                  <a:lnTo>
                    <a:pt x="1218" y="780"/>
                  </a:lnTo>
                  <a:lnTo>
                    <a:pt x="1200" y="740"/>
                  </a:lnTo>
                  <a:lnTo>
                    <a:pt x="1178" y="705"/>
                  </a:lnTo>
                  <a:lnTo>
                    <a:pt x="1156" y="674"/>
                  </a:lnTo>
                  <a:lnTo>
                    <a:pt x="1129" y="617"/>
                  </a:lnTo>
                  <a:lnTo>
                    <a:pt x="1099" y="560"/>
                  </a:lnTo>
                  <a:lnTo>
                    <a:pt x="1068" y="502"/>
                  </a:lnTo>
                  <a:lnTo>
                    <a:pt x="1046" y="445"/>
                  </a:lnTo>
                  <a:lnTo>
                    <a:pt x="1006" y="388"/>
                  </a:lnTo>
                  <a:lnTo>
                    <a:pt x="953" y="339"/>
                  </a:lnTo>
                  <a:lnTo>
                    <a:pt x="882" y="299"/>
                  </a:lnTo>
                  <a:lnTo>
                    <a:pt x="834" y="260"/>
                  </a:lnTo>
                  <a:lnTo>
                    <a:pt x="762" y="233"/>
                  </a:lnTo>
                  <a:lnTo>
                    <a:pt x="701" y="211"/>
                  </a:lnTo>
                  <a:lnTo>
                    <a:pt x="648" y="194"/>
                  </a:lnTo>
                  <a:lnTo>
                    <a:pt x="590" y="185"/>
                  </a:lnTo>
                  <a:lnTo>
                    <a:pt x="546" y="136"/>
                  </a:lnTo>
                  <a:lnTo>
                    <a:pt x="498" y="97"/>
                  </a:lnTo>
                  <a:lnTo>
                    <a:pt x="436" y="66"/>
                  </a:lnTo>
                  <a:lnTo>
                    <a:pt x="374" y="30"/>
                  </a:lnTo>
                  <a:lnTo>
                    <a:pt x="304" y="17"/>
                  </a:lnTo>
                  <a:lnTo>
                    <a:pt x="242" y="0"/>
                  </a:lnTo>
                  <a:lnTo>
                    <a:pt x="202" y="0"/>
                  </a:lnTo>
                  <a:lnTo>
                    <a:pt x="163" y="8"/>
                  </a:lnTo>
                  <a:lnTo>
                    <a:pt x="141" y="39"/>
                  </a:lnTo>
                  <a:lnTo>
                    <a:pt x="123" y="97"/>
                  </a:lnTo>
                  <a:lnTo>
                    <a:pt x="110" y="163"/>
                  </a:lnTo>
                  <a:lnTo>
                    <a:pt x="110" y="229"/>
                  </a:lnTo>
                  <a:lnTo>
                    <a:pt x="110" y="286"/>
                  </a:lnTo>
                  <a:lnTo>
                    <a:pt x="132" y="357"/>
                  </a:lnTo>
                  <a:lnTo>
                    <a:pt x="141" y="440"/>
                  </a:lnTo>
                  <a:lnTo>
                    <a:pt x="171" y="511"/>
                  </a:lnTo>
                  <a:lnTo>
                    <a:pt x="141" y="529"/>
                  </a:lnTo>
                  <a:lnTo>
                    <a:pt x="101" y="551"/>
                  </a:lnTo>
                  <a:lnTo>
                    <a:pt x="70" y="586"/>
                  </a:lnTo>
                  <a:lnTo>
                    <a:pt x="39" y="617"/>
                  </a:lnTo>
                  <a:lnTo>
                    <a:pt x="22" y="652"/>
                  </a:lnTo>
                  <a:lnTo>
                    <a:pt x="8" y="701"/>
                  </a:lnTo>
                  <a:lnTo>
                    <a:pt x="0" y="732"/>
                  </a:lnTo>
                  <a:lnTo>
                    <a:pt x="8" y="762"/>
                  </a:lnTo>
                  <a:lnTo>
                    <a:pt x="39" y="806"/>
                  </a:lnTo>
                  <a:lnTo>
                    <a:pt x="70" y="846"/>
                  </a:lnTo>
                  <a:lnTo>
                    <a:pt x="101" y="903"/>
                  </a:lnTo>
                  <a:lnTo>
                    <a:pt x="141" y="952"/>
                  </a:lnTo>
                  <a:lnTo>
                    <a:pt x="163" y="1009"/>
                  </a:lnTo>
                  <a:lnTo>
                    <a:pt x="180" y="1049"/>
                  </a:lnTo>
                  <a:lnTo>
                    <a:pt x="194" y="1098"/>
                  </a:lnTo>
                  <a:lnTo>
                    <a:pt x="202" y="1128"/>
                  </a:lnTo>
                  <a:lnTo>
                    <a:pt x="194" y="1186"/>
                  </a:lnTo>
                  <a:lnTo>
                    <a:pt x="180" y="1234"/>
                  </a:lnTo>
                  <a:lnTo>
                    <a:pt x="180" y="1292"/>
                  </a:lnTo>
                  <a:lnTo>
                    <a:pt x="163" y="1340"/>
                  </a:lnTo>
                  <a:lnTo>
                    <a:pt x="154" y="1441"/>
                  </a:lnTo>
                  <a:lnTo>
                    <a:pt x="123" y="1600"/>
                  </a:lnTo>
                  <a:lnTo>
                    <a:pt x="101" y="1781"/>
                  </a:lnTo>
                  <a:lnTo>
                    <a:pt x="101" y="1935"/>
                  </a:lnTo>
                  <a:lnTo>
                    <a:pt x="132" y="2042"/>
                  </a:lnTo>
                  <a:lnTo>
                    <a:pt x="180" y="2188"/>
                  </a:lnTo>
                  <a:lnTo>
                    <a:pt x="242" y="2360"/>
                  </a:lnTo>
                  <a:lnTo>
                    <a:pt x="313" y="2540"/>
                  </a:lnTo>
                  <a:lnTo>
                    <a:pt x="396" y="2708"/>
                  </a:lnTo>
                  <a:lnTo>
                    <a:pt x="458" y="2871"/>
                  </a:lnTo>
                  <a:lnTo>
                    <a:pt x="507" y="3004"/>
                  </a:lnTo>
                  <a:lnTo>
                    <a:pt x="546" y="3092"/>
                  </a:lnTo>
                  <a:lnTo>
                    <a:pt x="577" y="3228"/>
                  </a:lnTo>
                  <a:lnTo>
                    <a:pt x="577" y="3343"/>
                  </a:lnTo>
                  <a:lnTo>
                    <a:pt x="577" y="3440"/>
                  </a:lnTo>
                  <a:lnTo>
                    <a:pt x="630" y="3533"/>
                  </a:lnTo>
                  <a:lnTo>
                    <a:pt x="617" y="3581"/>
                  </a:lnTo>
                  <a:lnTo>
                    <a:pt x="617" y="3630"/>
                  </a:lnTo>
                  <a:lnTo>
                    <a:pt x="630" y="3669"/>
                  </a:lnTo>
                  <a:lnTo>
                    <a:pt x="639" y="3718"/>
                  </a:lnTo>
                  <a:lnTo>
                    <a:pt x="670" y="3758"/>
                  </a:lnTo>
                  <a:lnTo>
                    <a:pt x="709" y="3802"/>
                  </a:lnTo>
                  <a:lnTo>
                    <a:pt x="780" y="3833"/>
                  </a:lnTo>
                  <a:lnTo>
                    <a:pt x="865" y="3850"/>
                  </a:lnTo>
                  <a:lnTo>
                    <a:pt x="953" y="39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459240" y="1465200"/>
              <a:ext cx="73440" cy="329040"/>
            </a:xfrm>
            <a:custGeom>
              <a:avLst/>
              <a:gdLst/>
              <a:ahLst/>
              <a:rect l="0" t="0" r="r" b="b"/>
              <a:pathLst>
                <a:path w="204" h="914">
                  <a:moveTo>
                    <a:pt x="62" y="0"/>
                  </a:moveTo>
                  <a:lnTo>
                    <a:pt x="80" y="8"/>
                  </a:lnTo>
                  <a:lnTo>
                    <a:pt x="133" y="26"/>
                  </a:lnTo>
                  <a:lnTo>
                    <a:pt x="182" y="52"/>
                  </a:lnTo>
                  <a:lnTo>
                    <a:pt x="204" y="83"/>
                  </a:lnTo>
                  <a:lnTo>
                    <a:pt x="196" y="123"/>
                  </a:lnTo>
                  <a:lnTo>
                    <a:pt x="173" y="216"/>
                  </a:lnTo>
                  <a:lnTo>
                    <a:pt x="156" y="336"/>
                  </a:lnTo>
                  <a:lnTo>
                    <a:pt x="111" y="486"/>
                  </a:lnTo>
                  <a:lnTo>
                    <a:pt x="80" y="631"/>
                  </a:lnTo>
                  <a:lnTo>
                    <a:pt x="39" y="760"/>
                  </a:lnTo>
                  <a:lnTo>
                    <a:pt x="22" y="861"/>
                  </a:lnTo>
                  <a:lnTo>
                    <a:pt x="0" y="914"/>
                  </a:lnTo>
                  <a:lnTo>
                    <a:pt x="8" y="720"/>
                  </a:lnTo>
                  <a:lnTo>
                    <a:pt x="39" y="433"/>
                  </a:lnTo>
                  <a:lnTo>
                    <a:pt x="62" y="163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479760" y="1460520"/>
              <a:ext cx="65520" cy="46440"/>
            </a:xfrm>
            <a:custGeom>
              <a:avLst/>
              <a:gdLst/>
              <a:ahLst/>
              <a:rect l="0" t="0" r="r" b="b"/>
              <a:pathLst>
                <a:path w="182" h="129">
                  <a:moveTo>
                    <a:pt x="182" y="129"/>
                  </a:moveTo>
                  <a:lnTo>
                    <a:pt x="182" y="129"/>
                  </a:lnTo>
                  <a:lnTo>
                    <a:pt x="151" y="75"/>
                  </a:lnTo>
                  <a:lnTo>
                    <a:pt x="98" y="45"/>
                  </a:lnTo>
                  <a:lnTo>
                    <a:pt x="39" y="17"/>
                  </a:lnTo>
                  <a:lnTo>
                    <a:pt x="17" y="0"/>
                  </a:lnTo>
                  <a:lnTo>
                    <a:pt x="0" y="49"/>
                  </a:lnTo>
                  <a:lnTo>
                    <a:pt x="17" y="58"/>
                  </a:lnTo>
                  <a:lnTo>
                    <a:pt x="67" y="75"/>
                  </a:lnTo>
                  <a:lnTo>
                    <a:pt x="111" y="107"/>
                  </a:lnTo>
                  <a:lnTo>
                    <a:pt x="120" y="129"/>
                  </a:lnTo>
                  <a:lnTo>
                    <a:pt x="128" y="129"/>
                  </a:lnTo>
                  <a:lnTo>
                    <a:pt x="182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448080" y="1496880"/>
              <a:ext cx="95760" cy="348120"/>
            </a:xfrm>
            <a:custGeom>
              <a:avLst/>
              <a:gdLst/>
              <a:ahLst/>
              <a:rect l="0" t="0" r="r" b="b"/>
              <a:pathLst>
                <a:path w="266" h="967">
                  <a:moveTo>
                    <a:pt x="8" y="831"/>
                  </a:moveTo>
                  <a:lnTo>
                    <a:pt x="52" y="839"/>
                  </a:lnTo>
                  <a:lnTo>
                    <a:pt x="71" y="782"/>
                  </a:lnTo>
                  <a:lnTo>
                    <a:pt x="102" y="684"/>
                  </a:lnTo>
                  <a:lnTo>
                    <a:pt x="133" y="547"/>
                  </a:lnTo>
                  <a:lnTo>
                    <a:pt x="164" y="402"/>
                  </a:lnTo>
                  <a:lnTo>
                    <a:pt x="204" y="252"/>
                  </a:lnTo>
                  <a:lnTo>
                    <a:pt x="235" y="132"/>
                  </a:lnTo>
                  <a:lnTo>
                    <a:pt x="244" y="44"/>
                  </a:lnTo>
                  <a:lnTo>
                    <a:pt x="266" y="0"/>
                  </a:lnTo>
                  <a:lnTo>
                    <a:pt x="213" y="0"/>
                  </a:lnTo>
                  <a:lnTo>
                    <a:pt x="204" y="44"/>
                  </a:lnTo>
                  <a:lnTo>
                    <a:pt x="186" y="132"/>
                  </a:lnTo>
                  <a:lnTo>
                    <a:pt x="155" y="252"/>
                  </a:lnTo>
                  <a:lnTo>
                    <a:pt x="124" y="402"/>
                  </a:lnTo>
                  <a:lnTo>
                    <a:pt x="93" y="547"/>
                  </a:lnTo>
                  <a:lnTo>
                    <a:pt x="52" y="666"/>
                  </a:lnTo>
                  <a:lnTo>
                    <a:pt x="22" y="773"/>
                  </a:lnTo>
                  <a:lnTo>
                    <a:pt x="8" y="831"/>
                  </a:lnTo>
                  <a:lnTo>
                    <a:pt x="52" y="831"/>
                  </a:lnTo>
                  <a:lnTo>
                    <a:pt x="0" y="831"/>
                  </a:lnTo>
                  <a:lnTo>
                    <a:pt x="0" y="967"/>
                  </a:lnTo>
                  <a:lnTo>
                    <a:pt x="52" y="839"/>
                  </a:lnTo>
                  <a:lnTo>
                    <a:pt x="8" y="8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454560" y="1455840"/>
              <a:ext cx="59040" cy="340200"/>
            </a:xfrm>
            <a:custGeom>
              <a:avLst/>
              <a:gdLst/>
              <a:ahLst/>
              <a:rect l="0" t="0" r="r" b="b"/>
              <a:pathLst>
                <a:path w="164" h="945">
                  <a:moveTo>
                    <a:pt x="142" y="8"/>
                  </a:moveTo>
                  <a:lnTo>
                    <a:pt x="102" y="30"/>
                  </a:lnTo>
                  <a:lnTo>
                    <a:pt x="79" y="194"/>
                  </a:lnTo>
                  <a:lnTo>
                    <a:pt x="57" y="464"/>
                  </a:lnTo>
                  <a:lnTo>
                    <a:pt x="17" y="751"/>
                  </a:lnTo>
                  <a:lnTo>
                    <a:pt x="0" y="945"/>
                  </a:lnTo>
                  <a:lnTo>
                    <a:pt x="57" y="945"/>
                  </a:lnTo>
                  <a:lnTo>
                    <a:pt x="79" y="751"/>
                  </a:lnTo>
                  <a:lnTo>
                    <a:pt x="133" y="464"/>
                  </a:lnTo>
                  <a:lnTo>
                    <a:pt x="164" y="194"/>
                  </a:lnTo>
                  <a:lnTo>
                    <a:pt x="164" y="30"/>
                  </a:lnTo>
                  <a:lnTo>
                    <a:pt x="111" y="48"/>
                  </a:lnTo>
                  <a:lnTo>
                    <a:pt x="142" y="8"/>
                  </a:lnTo>
                  <a:lnTo>
                    <a:pt x="79" y="0"/>
                  </a:lnTo>
                  <a:lnTo>
                    <a:pt x="102" y="30"/>
                  </a:lnTo>
                  <a:lnTo>
                    <a:pt x="14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665520" y="1496880"/>
              <a:ext cx="103680" cy="222480"/>
            </a:xfrm>
            <a:custGeom>
              <a:avLst/>
              <a:gdLst/>
              <a:ahLst/>
              <a:rect l="0" t="0" r="r" b="b"/>
              <a:pathLst>
                <a:path w="288" h="618">
                  <a:moveTo>
                    <a:pt x="164" y="0"/>
                  </a:moveTo>
                  <a:lnTo>
                    <a:pt x="181" y="0"/>
                  </a:lnTo>
                  <a:lnTo>
                    <a:pt x="226" y="8"/>
                  </a:lnTo>
                  <a:lnTo>
                    <a:pt x="266" y="17"/>
                  </a:lnTo>
                  <a:lnTo>
                    <a:pt x="288" y="26"/>
                  </a:lnTo>
                  <a:lnTo>
                    <a:pt x="275" y="57"/>
                  </a:lnTo>
                  <a:lnTo>
                    <a:pt x="257" y="127"/>
                  </a:lnTo>
                  <a:lnTo>
                    <a:pt x="235" y="229"/>
                  </a:lnTo>
                  <a:lnTo>
                    <a:pt x="203" y="336"/>
                  </a:lnTo>
                  <a:lnTo>
                    <a:pt x="164" y="437"/>
                  </a:lnTo>
                  <a:lnTo>
                    <a:pt x="142" y="530"/>
                  </a:lnTo>
                  <a:lnTo>
                    <a:pt x="111" y="591"/>
                  </a:lnTo>
                  <a:lnTo>
                    <a:pt x="89" y="618"/>
                  </a:lnTo>
                  <a:lnTo>
                    <a:pt x="57" y="618"/>
                  </a:lnTo>
                  <a:lnTo>
                    <a:pt x="26" y="618"/>
                  </a:lnTo>
                  <a:lnTo>
                    <a:pt x="8" y="618"/>
                  </a:lnTo>
                  <a:lnTo>
                    <a:pt x="0" y="600"/>
                  </a:lnTo>
                  <a:lnTo>
                    <a:pt x="8" y="578"/>
                  </a:lnTo>
                  <a:lnTo>
                    <a:pt x="26" y="512"/>
                  </a:lnTo>
                  <a:lnTo>
                    <a:pt x="48" y="424"/>
                  </a:lnTo>
                  <a:lnTo>
                    <a:pt x="80" y="318"/>
                  </a:lnTo>
                  <a:lnTo>
                    <a:pt x="111" y="211"/>
                  </a:lnTo>
                  <a:lnTo>
                    <a:pt x="142" y="123"/>
                  </a:lnTo>
                  <a:lnTo>
                    <a:pt x="150" y="48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727440" y="1490760"/>
              <a:ext cx="59040" cy="47880"/>
            </a:xfrm>
            <a:custGeom>
              <a:avLst/>
              <a:gdLst/>
              <a:ahLst/>
              <a:rect l="0" t="0" r="r" b="b"/>
              <a:pathLst>
                <a:path w="164" h="133">
                  <a:moveTo>
                    <a:pt x="164" y="106"/>
                  </a:moveTo>
                  <a:lnTo>
                    <a:pt x="164" y="106"/>
                  </a:lnTo>
                  <a:lnTo>
                    <a:pt x="111" y="26"/>
                  </a:lnTo>
                  <a:lnTo>
                    <a:pt x="57" y="26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106"/>
                  </a:lnTo>
                  <a:lnTo>
                    <a:pt x="17" y="106"/>
                  </a:lnTo>
                  <a:lnTo>
                    <a:pt x="57" y="106"/>
                  </a:lnTo>
                  <a:lnTo>
                    <a:pt x="89" y="133"/>
                  </a:lnTo>
                  <a:lnTo>
                    <a:pt x="89" y="106"/>
                  </a:lnTo>
                  <a:lnTo>
                    <a:pt x="89" y="106"/>
                  </a:lnTo>
                  <a:lnTo>
                    <a:pt x="164" y="1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692520" y="1504800"/>
              <a:ext cx="82800" cy="221040"/>
            </a:xfrm>
            <a:custGeom>
              <a:avLst/>
              <a:gdLst/>
              <a:ahLst/>
              <a:rect l="0" t="0" r="r" b="b"/>
              <a:pathLst>
                <a:path w="230" h="614">
                  <a:moveTo>
                    <a:pt x="8" y="614"/>
                  </a:moveTo>
                  <a:lnTo>
                    <a:pt x="8" y="614"/>
                  </a:lnTo>
                  <a:lnTo>
                    <a:pt x="48" y="575"/>
                  </a:lnTo>
                  <a:lnTo>
                    <a:pt x="79" y="509"/>
                  </a:lnTo>
                  <a:lnTo>
                    <a:pt x="110" y="428"/>
                  </a:lnTo>
                  <a:lnTo>
                    <a:pt x="142" y="314"/>
                  </a:lnTo>
                  <a:lnTo>
                    <a:pt x="168" y="208"/>
                  </a:lnTo>
                  <a:lnTo>
                    <a:pt x="199" y="114"/>
                  </a:lnTo>
                  <a:lnTo>
                    <a:pt x="208" y="35"/>
                  </a:lnTo>
                  <a:lnTo>
                    <a:pt x="230" y="0"/>
                  </a:lnTo>
                  <a:lnTo>
                    <a:pt x="168" y="0"/>
                  </a:lnTo>
                  <a:lnTo>
                    <a:pt x="168" y="35"/>
                  </a:lnTo>
                  <a:lnTo>
                    <a:pt x="150" y="110"/>
                  </a:lnTo>
                  <a:lnTo>
                    <a:pt x="120" y="199"/>
                  </a:lnTo>
                  <a:lnTo>
                    <a:pt x="97" y="305"/>
                  </a:lnTo>
                  <a:lnTo>
                    <a:pt x="57" y="411"/>
                  </a:lnTo>
                  <a:lnTo>
                    <a:pt x="30" y="500"/>
                  </a:lnTo>
                  <a:lnTo>
                    <a:pt x="0" y="566"/>
                  </a:lnTo>
                  <a:lnTo>
                    <a:pt x="8" y="575"/>
                  </a:lnTo>
                  <a:lnTo>
                    <a:pt x="8" y="575"/>
                  </a:lnTo>
                  <a:lnTo>
                    <a:pt x="8" y="6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54360" y="1716120"/>
              <a:ext cx="59040" cy="47880"/>
            </a:xfrm>
            <a:custGeom>
              <a:avLst/>
              <a:gdLst/>
              <a:ahLst/>
              <a:rect l="0" t="0" r="r" b="b"/>
              <a:pathLst>
                <a:path w="164" h="133">
                  <a:moveTo>
                    <a:pt x="0" y="26"/>
                  </a:moveTo>
                  <a:lnTo>
                    <a:pt x="8" y="26"/>
                  </a:lnTo>
                  <a:lnTo>
                    <a:pt x="39" y="133"/>
                  </a:lnTo>
                  <a:lnTo>
                    <a:pt x="79" y="133"/>
                  </a:lnTo>
                  <a:lnTo>
                    <a:pt x="120" y="133"/>
                  </a:lnTo>
                  <a:lnTo>
                    <a:pt x="164" y="133"/>
                  </a:lnTo>
                  <a:lnTo>
                    <a:pt x="164" y="0"/>
                  </a:lnTo>
                  <a:lnTo>
                    <a:pt x="120" y="0"/>
                  </a:lnTo>
                  <a:lnTo>
                    <a:pt x="79" y="0"/>
                  </a:lnTo>
                  <a:lnTo>
                    <a:pt x="48" y="0"/>
                  </a:lnTo>
                  <a:lnTo>
                    <a:pt x="70" y="48"/>
                  </a:lnTo>
                  <a:lnTo>
                    <a:pt x="79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651120" y="1490760"/>
              <a:ext cx="78120" cy="222480"/>
            </a:xfrm>
            <a:custGeom>
              <a:avLst/>
              <a:gdLst/>
              <a:ahLst/>
              <a:rect l="0" t="0" r="r" b="b"/>
              <a:pathLst>
                <a:path w="217" h="618">
                  <a:moveTo>
                    <a:pt x="199" y="0"/>
                  </a:moveTo>
                  <a:lnTo>
                    <a:pt x="177" y="17"/>
                  </a:lnTo>
                  <a:lnTo>
                    <a:pt x="168" y="66"/>
                  </a:lnTo>
                  <a:lnTo>
                    <a:pt x="146" y="136"/>
                  </a:lnTo>
                  <a:lnTo>
                    <a:pt x="124" y="229"/>
                  </a:lnTo>
                  <a:lnTo>
                    <a:pt x="92" y="336"/>
                  </a:lnTo>
                  <a:lnTo>
                    <a:pt x="61" y="433"/>
                  </a:lnTo>
                  <a:lnTo>
                    <a:pt x="44" y="521"/>
                  </a:lnTo>
                  <a:lnTo>
                    <a:pt x="13" y="587"/>
                  </a:lnTo>
                  <a:lnTo>
                    <a:pt x="0" y="618"/>
                  </a:lnTo>
                  <a:lnTo>
                    <a:pt x="61" y="618"/>
                  </a:lnTo>
                  <a:lnTo>
                    <a:pt x="61" y="600"/>
                  </a:lnTo>
                  <a:lnTo>
                    <a:pt x="83" y="538"/>
                  </a:lnTo>
                  <a:lnTo>
                    <a:pt x="105" y="437"/>
                  </a:lnTo>
                  <a:lnTo>
                    <a:pt x="146" y="340"/>
                  </a:lnTo>
                  <a:lnTo>
                    <a:pt x="177" y="233"/>
                  </a:lnTo>
                  <a:lnTo>
                    <a:pt x="199" y="136"/>
                  </a:lnTo>
                  <a:lnTo>
                    <a:pt x="217" y="66"/>
                  </a:lnTo>
                  <a:lnTo>
                    <a:pt x="217" y="17"/>
                  </a:lnTo>
                  <a:lnTo>
                    <a:pt x="199" y="39"/>
                  </a:lnTo>
                  <a:lnTo>
                    <a:pt x="199" y="0"/>
                  </a:lnTo>
                  <a:lnTo>
                    <a:pt x="168" y="0"/>
                  </a:lnTo>
                  <a:lnTo>
                    <a:pt x="177" y="17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890880" y="1352520"/>
              <a:ext cx="73440" cy="136800"/>
            </a:xfrm>
            <a:custGeom>
              <a:avLst/>
              <a:gdLst/>
              <a:ahLst/>
              <a:rect l="0" t="0" r="r" b="b"/>
              <a:pathLst>
                <a:path w="204" h="380">
                  <a:moveTo>
                    <a:pt x="0" y="0"/>
                  </a:moveTo>
                  <a:lnTo>
                    <a:pt x="39" y="30"/>
                  </a:lnTo>
                  <a:lnTo>
                    <a:pt x="71" y="70"/>
                  </a:lnTo>
                  <a:lnTo>
                    <a:pt x="93" y="119"/>
                  </a:lnTo>
                  <a:lnTo>
                    <a:pt x="111" y="176"/>
                  </a:lnTo>
                  <a:lnTo>
                    <a:pt x="133" y="234"/>
                  </a:lnTo>
                  <a:lnTo>
                    <a:pt x="142" y="292"/>
                  </a:lnTo>
                  <a:lnTo>
                    <a:pt x="165" y="340"/>
                  </a:lnTo>
                  <a:lnTo>
                    <a:pt x="204" y="380"/>
                  </a:lnTo>
                  <a:lnTo>
                    <a:pt x="133" y="353"/>
                  </a:lnTo>
                  <a:lnTo>
                    <a:pt x="93" y="314"/>
                  </a:lnTo>
                  <a:lnTo>
                    <a:pt x="53" y="256"/>
                  </a:lnTo>
                  <a:lnTo>
                    <a:pt x="30" y="195"/>
                  </a:lnTo>
                  <a:lnTo>
                    <a:pt x="22" y="136"/>
                  </a:lnTo>
                  <a:lnTo>
                    <a:pt x="8" y="79"/>
                  </a:lnTo>
                  <a:lnTo>
                    <a:pt x="0" y="3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884760" y="1344600"/>
              <a:ext cx="106560" cy="159120"/>
            </a:xfrm>
            <a:custGeom>
              <a:avLst/>
              <a:gdLst/>
              <a:ahLst/>
              <a:rect l="0" t="0" r="r" b="b"/>
              <a:pathLst>
                <a:path w="296" h="442">
                  <a:moveTo>
                    <a:pt x="208" y="416"/>
                  </a:moveTo>
                  <a:lnTo>
                    <a:pt x="225" y="385"/>
                  </a:lnTo>
                  <a:lnTo>
                    <a:pt x="195" y="354"/>
                  </a:lnTo>
                  <a:lnTo>
                    <a:pt x="177" y="305"/>
                  </a:lnTo>
                  <a:lnTo>
                    <a:pt x="164" y="247"/>
                  </a:lnTo>
                  <a:lnTo>
                    <a:pt x="145" y="190"/>
                  </a:lnTo>
                  <a:lnTo>
                    <a:pt x="132" y="137"/>
                  </a:lnTo>
                  <a:lnTo>
                    <a:pt x="101" y="83"/>
                  </a:lnTo>
                  <a:lnTo>
                    <a:pt x="74" y="30"/>
                  </a:lnTo>
                  <a:lnTo>
                    <a:pt x="22" y="0"/>
                  </a:lnTo>
                  <a:lnTo>
                    <a:pt x="0" y="39"/>
                  </a:lnTo>
                  <a:lnTo>
                    <a:pt x="44" y="66"/>
                  </a:lnTo>
                  <a:lnTo>
                    <a:pt x="61" y="97"/>
                  </a:lnTo>
                  <a:lnTo>
                    <a:pt x="83" y="146"/>
                  </a:lnTo>
                  <a:lnTo>
                    <a:pt x="101" y="203"/>
                  </a:lnTo>
                  <a:lnTo>
                    <a:pt x="123" y="252"/>
                  </a:lnTo>
                  <a:lnTo>
                    <a:pt x="132" y="309"/>
                  </a:lnTo>
                  <a:lnTo>
                    <a:pt x="155" y="368"/>
                  </a:lnTo>
                  <a:lnTo>
                    <a:pt x="195" y="416"/>
                  </a:lnTo>
                  <a:lnTo>
                    <a:pt x="217" y="385"/>
                  </a:lnTo>
                  <a:lnTo>
                    <a:pt x="208" y="416"/>
                  </a:lnTo>
                  <a:lnTo>
                    <a:pt x="296" y="442"/>
                  </a:lnTo>
                  <a:lnTo>
                    <a:pt x="225" y="385"/>
                  </a:lnTo>
                  <a:lnTo>
                    <a:pt x="208" y="4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875040" y="1339920"/>
              <a:ext cx="89280" cy="155880"/>
            </a:xfrm>
            <a:custGeom>
              <a:avLst/>
              <a:gdLst/>
              <a:ahLst/>
              <a:rect l="0" t="0" r="r" b="b"/>
              <a:pathLst>
                <a:path w="248" h="433">
                  <a:moveTo>
                    <a:pt x="52" y="17"/>
                  </a:moveTo>
                  <a:lnTo>
                    <a:pt x="8" y="39"/>
                  </a:lnTo>
                  <a:lnTo>
                    <a:pt x="22" y="66"/>
                  </a:lnTo>
                  <a:lnTo>
                    <a:pt x="30" y="114"/>
                  </a:lnTo>
                  <a:lnTo>
                    <a:pt x="39" y="171"/>
                  </a:lnTo>
                  <a:lnTo>
                    <a:pt x="52" y="239"/>
                  </a:lnTo>
                  <a:lnTo>
                    <a:pt x="71" y="292"/>
                  </a:lnTo>
                  <a:lnTo>
                    <a:pt x="115" y="358"/>
                  </a:lnTo>
                  <a:lnTo>
                    <a:pt x="164" y="402"/>
                  </a:lnTo>
                  <a:lnTo>
                    <a:pt x="240" y="433"/>
                  </a:lnTo>
                  <a:lnTo>
                    <a:pt x="248" y="402"/>
                  </a:lnTo>
                  <a:lnTo>
                    <a:pt x="196" y="375"/>
                  </a:lnTo>
                  <a:lnTo>
                    <a:pt x="155" y="336"/>
                  </a:lnTo>
                  <a:lnTo>
                    <a:pt x="124" y="287"/>
                  </a:lnTo>
                  <a:lnTo>
                    <a:pt x="93" y="230"/>
                  </a:lnTo>
                  <a:lnTo>
                    <a:pt x="84" y="171"/>
                  </a:lnTo>
                  <a:lnTo>
                    <a:pt x="71" y="114"/>
                  </a:lnTo>
                  <a:lnTo>
                    <a:pt x="71" y="66"/>
                  </a:lnTo>
                  <a:lnTo>
                    <a:pt x="61" y="30"/>
                  </a:lnTo>
                  <a:lnTo>
                    <a:pt x="30" y="57"/>
                  </a:lnTo>
                  <a:lnTo>
                    <a:pt x="52" y="17"/>
                  </a:lnTo>
                  <a:lnTo>
                    <a:pt x="0" y="0"/>
                  </a:lnTo>
                  <a:lnTo>
                    <a:pt x="8" y="39"/>
                  </a:lnTo>
                  <a:lnTo>
                    <a:pt x="52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922480" y="1035000"/>
              <a:ext cx="117720" cy="224280"/>
            </a:xfrm>
            <a:custGeom>
              <a:avLst/>
              <a:gdLst/>
              <a:ahLst/>
              <a:rect l="0" t="0" r="r" b="b"/>
              <a:pathLst>
                <a:path w="327" h="623">
                  <a:moveTo>
                    <a:pt x="172" y="0"/>
                  </a:moveTo>
                  <a:lnTo>
                    <a:pt x="141" y="17"/>
                  </a:lnTo>
                  <a:lnTo>
                    <a:pt x="101" y="44"/>
                  </a:lnTo>
                  <a:lnTo>
                    <a:pt x="70" y="74"/>
                  </a:lnTo>
                  <a:lnTo>
                    <a:pt x="39" y="110"/>
                  </a:lnTo>
                  <a:lnTo>
                    <a:pt x="22" y="141"/>
                  </a:lnTo>
                  <a:lnTo>
                    <a:pt x="8" y="190"/>
                  </a:lnTo>
                  <a:lnTo>
                    <a:pt x="0" y="225"/>
                  </a:lnTo>
                  <a:lnTo>
                    <a:pt x="8" y="256"/>
                  </a:lnTo>
                  <a:lnTo>
                    <a:pt x="39" y="296"/>
                  </a:lnTo>
                  <a:lnTo>
                    <a:pt x="70" y="340"/>
                  </a:lnTo>
                  <a:lnTo>
                    <a:pt x="101" y="397"/>
                  </a:lnTo>
                  <a:lnTo>
                    <a:pt x="141" y="446"/>
                  </a:lnTo>
                  <a:lnTo>
                    <a:pt x="164" y="504"/>
                  </a:lnTo>
                  <a:lnTo>
                    <a:pt x="186" y="544"/>
                  </a:lnTo>
                  <a:lnTo>
                    <a:pt x="195" y="592"/>
                  </a:lnTo>
                  <a:lnTo>
                    <a:pt x="203" y="623"/>
                  </a:lnTo>
                  <a:lnTo>
                    <a:pt x="195" y="526"/>
                  </a:lnTo>
                  <a:lnTo>
                    <a:pt x="186" y="411"/>
                  </a:lnTo>
                  <a:lnTo>
                    <a:pt x="154" y="322"/>
                  </a:lnTo>
                  <a:lnTo>
                    <a:pt x="123" y="256"/>
                  </a:lnTo>
                  <a:lnTo>
                    <a:pt x="132" y="230"/>
                  </a:lnTo>
                  <a:lnTo>
                    <a:pt x="141" y="208"/>
                  </a:lnTo>
                  <a:lnTo>
                    <a:pt x="154" y="181"/>
                  </a:lnTo>
                  <a:lnTo>
                    <a:pt x="186" y="159"/>
                  </a:lnTo>
                  <a:lnTo>
                    <a:pt x="203" y="141"/>
                  </a:lnTo>
                  <a:lnTo>
                    <a:pt x="234" y="123"/>
                  </a:lnTo>
                  <a:lnTo>
                    <a:pt x="274" y="101"/>
                  </a:lnTo>
                  <a:lnTo>
                    <a:pt x="327" y="92"/>
                  </a:lnTo>
                  <a:lnTo>
                    <a:pt x="305" y="57"/>
                  </a:lnTo>
                  <a:lnTo>
                    <a:pt x="287" y="26"/>
                  </a:lnTo>
                  <a:lnTo>
                    <a:pt x="247" y="0"/>
                  </a:lnTo>
                  <a:lnTo>
                    <a:pt x="17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11320" y="1033560"/>
              <a:ext cx="76680" cy="101880"/>
            </a:xfrm>
            <a:custGeom>
              <a:avLst/>
              <a:gdLst/>
              <a:ahLst/>
              <a:rect l="0" t="0" r="r" b="b"/>
              <a:pathLst>
                <a:path w="213" h="283">
                  <a:moveTo>
                    <a:pt x="48" y="252"/>
                  </a:moveTo>
                  <a:lnTo>
                    <a:pt x="62" y="265"/>
                  </a:lnTo>
                  <a:lnTo>
                    <a:pt x="62" y="234"/>
                  </a:lnTo>
                  <a:lnTo>
                    <a:pt x="62" y="203"/>
                  </a:lnTo>
                  <a:lnTo>
                    <a:pt x="71" y="159"/>
                  </a:lnTo>
                  <a:lnTo>
                    <a:pt x="89" y="127"/>
                  </a:lnTo>
                  <a:lnTo>
                    <a:pt x="120" y="97"/>
                  </a:lnTo>
                  <a:lnTo>
                    <a:pt x="142" y="70"/>
                  </a:lnTo>
                  <a:lnTo>
                    <a:pt x="182" y="48"/>
                  </a:lnTo>
                  <a:lnTo>
                    <a:pt x="213" y="30"/>
                  </a:lnTo>
                  <a:lnTo>
                    <a:pt x="191" y="0"/>
                  </a:lnTo>
                  <a:lnTo>
                    <a:pt x="159" y="17"/>
                  </a:lnTo>
                  <a:lnTo>
                    <a:pt x="111" y="39"/>
                  </a:lnTo>
                  <a:lnTo>
                    <a:pt x="80" y="79"/>
                  </a:lnTo>
                  <a:lnTo>
                    <a:pt x="48" y="114"/>
                  </a:lnTo>
                  <a:lnTo>
                    <a:pt x="17" y="155"/>
                  </a:lnTo>
                  <a:lnTo>
                    <a:pt x="8" y="203"/>
                  </a:lnTo>
                  <a:lnTo>
                    <a:pt x="0" y="234"/>
                  </a:lnTo>
                  <a:lnTo>
                    <a:pt x="8" y="274"/>
                  </a:lnTo>
                  <a:lnTo>
                    <a:pt x="17" y="283"/>
                  </a:lnTo>
                  <a:lnTo>
                    <a:pt x="8" y="274"/>
                  </a:lnTo>
                  <a:lnTo>
                    <a:pt x="8" y="274"/>
                  </a:lnTo>
                  <a:lnTo>
                    <a:pt x="17" y="283"/>
                  </a:lnTo>
                  <a:lnTo>
                    <a:pt x="48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17800" y="1122480"/>
              <a:ext cx="84600" cy="138600"/>
            </a:xfrm>
            <a:custGeom>
              <a:avLst/>
              <a:gdLst/>
              <a:ahLst/>
              <a:rect l="0" t="0" r="r" b="b"/>
              <a:pathLst>
                <a:path w="235" h="385">
                  <a:moveTo>
                    <a:pt x="196" y="385"/>
                  </a:moveTo>
                  <a:lnTo>
                    <a:pt x="235" y="385"/>
                  </a:lnTo>
                  <a:lnTo>
                    <a:pt x="235" y="354"/>
                  </a:lnTo>
                  <a:lnTo>
                    <a:pt x="218" y="306"/>
                  </a:lnTo>
                  <a:lnTo>
                    <a:pt x="196" y="256"/>
                  </a:lnTo>
                  <a:lnTo>
                    <a:pt x="178" y="199"/>
                  </a:lnTo>
                  <a:lnTo>
                    <a:pt x="146" y="150"/>
                  </a:lnTo>
                  <a:lnTo>
                    <a:pt x="102" y="92"/>
                  </a:lnTo>
                  <a:lnTo>
                    <a:pt x="71" y="52"/>
                  </a:lnTo>
                  <a:lnTo>
                    <a:pt x="30" y="0"/>
                  </a:lnTo>
                  <a:lnTo>
                    <a:pt x="0" y="35"/>
                  </a:lnTo>
                  <a:lnTo>
                    <a:pt x="30" y="66"/>
                  </a:lnTo>
                  <a:lnTo>
                    <a:pt x="62" y="115"/>
                  </a:lnTo>
                  <a:lnTo>
                    <a:pt x="93" y="164"/>
                  </a:lnTo>
                  <a:lnTo>
                    <a:pt x="124" y="208"/>
                  </a:lnTo>
                  <a:lnTo>
                    <a:pt x="155" y="265"/>
                  </a:lnTo>
                  <a:lnTo>
                    <a:pt x="178" y="315"/>
                  </a:lnTo>
                  <a:lnTo>
                    <a:pt x="187" y="354"/>
                  </a:lnTo>
                  <a:lnTo>
                    <a:pt x="196" y="385"/>
                  </a:lnTo>
                  <a:lnTo>
                    <a:pt x="235" y="385"/>
                  </a:lnTo>
                  <a:lnTo>
                    <a:pt x="196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960640" y="1122480"/>
              <a:ext cx="59040" cy="138600"/>
            </a:xfrm>
            <a:custGeom>
              <a:avLst/>
              <a:gdLst/>
              <a:ahLst/>
              <a:rect l="0" t="0" r="r" b="b"/>
              <a:pathLst>
                <a:path w="164" h="385">
                  <a:moveTo>
                    <a:pt x="8" y="8"/>
                  </a:moveTo>
                  <a:lnTo>
                    <a:pt x="8" y="26"/>
                  </a:lnTo>
                  <a:lnTo>
                    <a:pt x="48" y="92"/>
                  </a:lnTo>
                  <a:lnTo>
                    <a:pt x="70" y="172"/>
                  </a:lnTo>
                  <a:lnTo>
                    <a:pt x="89" y="287"/>
                  </a:lnTo>
                  <a:lnTo>
                    <a:pt x="111" y="385"/>
                  </a:lnTo>
                  <a:lnTo>
                    <a:pt x="164" y="385"/>
                  </a:lnTo>
                  <a:lnTo>
                    <a:pt x="164" y="287"/>
                  </a:lnTo>
                  <a:lnTo>
                    <a:pt x="133" y="172"/>
                  </a:lnTo>
                  <a:lnTo>
                    <a:pt x="111" y="83"/>
                  </a:lnTo>
                  <a:lnTo>
                    <a:pt x="57" y="0"/>
                  </a:lnTo>
                  <a:lnTo>
                    <a:pt x="57" y="17"/>
                  </a:lnTo>
                  <a:lnTo>
                    <a:pt x="8" y="8"/>
                  </a:lnTo>
                  <a:lnTo>
                    <a:pt x="0" y="17"/>
                  </a:lnTo>
                  <a:lnTo>
                    <a:pt x="8" y="26"/>
                  </a:lnTo>
                  <a:lnTo>
                    <a:pt x="8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957400" y="1062000"/>
              <a:ext cx="92520" cy="65520"/>
            </a:xfrm>
            <a:custGeom>
              <a:avLst/>
              <a:gdLst/>
              <a:ahLst/>
              <a:rect l="0" t="0" r="r" b="b"/>
              <a:pathLst>
                <a:path w="257" h="182">
                  <a:moveTo>
                    <a:pt x="204" y="26"/>
                  </a:moveTo>
                  <a:lnTo>
                    <a:pt x="218" y="0"/>
                  </a:lnTo>
                  <a:lnTo>
                    <a:pt x="172" y="8"/>
                  </a:lnTo>
                  <a:lnTo>
                    <a:pt x="124" y="26"/>
                  </a:lnTo>
                  <a:lnTo>
                    <a:pt x="80" y="53"/>
                  </a:lnTo>
                  <a:lnTo>
                    <a:pt x="61" y="67"/>
                  </a:lnTo>
                  <a:lnTo>
                    <a:pt x="30" y="102"/>
                  </a:lnTo>
                  <a:lnTo>
                    <a:pt x="8" y="124"/>
                  </a:lnTo>
                  <a:lnTo>
                    <a:pt x="0" y="151"/>
                  </a:lnTo>
                  <a:lnTo>
                    <a:pt x="0" y="178"/>
                  </a:lnTo>
                  <a:lnTo>
                    <a:pt x="39" y="182"/>
                  </a:lnTo>
                  <a:lnTo>
                    <a:pt x="48" y="160"/>
                  </a:lnTo>
                  <a:lnTo>
                    <a:pt x="61" y="143"/>
                  </a:lnTo>
                  <a:lnTo>
                    <a:pt x="80" y="120"/>
                  </a:lnTo>
                  <a:lnTo>
                    <a:pt x="93" y="102"/>
                  </a:lnTo>
                  <a:lnTo>
                    <a:pt x="124" y="84"/>
                  </a:lnTo>
                  <a:lnTo>
                    <a:pt x="142" y="67"/>
                  </a:lnTo>
                  <a:lnTo>
                    <a:pt x="186" y="53"/>
                  </a:lnTo>
                  <a:lnTo>
                    <a:pt x="226" y="35"/>
                  </a:lnTo>
                  <a:lnTo>
                    <a:pt x="248" y="17"/>
                  </a:lnTo>
                  <a:lnTo>
                    <a:pt x="226" y="35"/>
                  </a:lnTo>
                  <a:lnTo>
                    <a:pt x="257" y="35"/>
                  </a:lnTo>
                  <a:lnTo>
                    <a:pt x="248" y="17"/>
                  </a:lnTo>
                  <a:lnTo>
                    <a:pt x="204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81160" y="1030320"/>
              <a:ext cx="66960" cy="46440"/>
            </a:xfrm>
            <a:custGeom>
              <a:avLst/>
              <a:gdLst/>
              <a:ahLst/>
              <a:rect l="0" t="0" r="r" b="b"/>
              <a:pathLst>
                <a:path w="186" h="129">
                  <a:moveTo>
                    <a:pt x="22" y="45"/>
                  </a:moveTo>
                  <a:lnTo>
                    <a:pt x="22" y="45"/>
                  </a:lnTo>
                  <a:lnTo>
                    <a:pt x="70" y="45"/>
                  </a:lnTo>
                  <a:lnTo>
                    <a:pt x="102" y="58"/>
                  </a:lnTo>
                  <a:lnTo>
                    <a:pt x="124" y="89"/>
                  </a:lnTo>
                  <a:lnTo>
                    <a:pt x="146" y="129"/>
                  </a:lnTo>
                  <a:lnTo>
                    <a:pt x="186" y="125"/>
                  </a:lnTo>
                  <a:lnTo>
                    <a:pt x="164" y="75"/>
                  </a:lnTo>
                  <a:lnTo>
                    <a:pt x="146" y="26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2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959200" y="853920"/>
              <a:ext cx="1089360" cy="1384560"/>
            </a:xfrm>
            <a:custGeom>
              <a:avLst/>
              <a:gdLst/>
              <a:ahLst/>
              <a:rect l="0" t="0" r="r" b="b"/>
              <a:pathLst>
                <a:path w="3026" h="3846">
                  <a:moveTo>
                    <a:pt x="762" y="3846"/>
                  </a:moveTo>
                  <a:lnTo>
                    <a:pt x="679" y="3828"/>
                  </a:lnTo>
                  <a:lnTo>
                    <a:pt x="608" y="3797"/>
                  </a:lnTo>
                  <a:lnTo>
                    <a:pt x="568" y="3758"/>
                  </a:lnTo>
                  <a:lnTo>
                    <a:pt x="537" y="3713"/>
                  </a:lnTo>
                  <a:lnTo>
                    <a:pt x="529" y="3665"/>
                  </a:lnTo>
                  <a:lnTo>
                    <a:pt x="515" y="3625"/>
                  </a:lnTo>
                  <a:lnTo>
                    <a:pt x="515" y="3577"/>
                  </a:lnTo>
                  <a:lnTo>
                    <a:pt x="529" y="3528"/>
                  </a:lnTo>
                  <a:lnTo>
                    <a:pt x="476" y="3440"/>
                  </a:lnTo>
                  <a:lnTo>
                    <a:pt x="476" y="3343"/>
                  </a:lnTo>
                  <a:lnTo>
                    <a:pt x="476" y="3228"/>
                  </a:lnTo>
                  <a:lnTo>
                    <a:pt x="445" y="3087"/>
                  </a:lnTo>
                  <a:lnTo>
                    <a:pt x="405" y="2999"/>
                  </a:lnTo>
                  <a:lnTo>
                    <a:pt x="357" y="2871"/>
                  </a:lnTo>
                  <a:lnTo>
                    <a:pt x="295" y="2708"/>
                  </a:lnTo>
                  <a:lnTo>
                    <a:pt x="211" y="2536"/>
                  </a:lnTo>
                  <a:lnTo>
                    <a:pt x="141" y="2360"/>
                  </a:lnTo>
                  <a:lnTo>
                    <a:pt x="79" y="2188"/>
                  </a:lnTo>
                  <a:lnTo>
                    <a:pt x="30" y="2042"/>
                  </a:lnTo>
                  <a:lnTo>
                    <a:pt x="0" y="1936"/>
                  </a:lnTo>
                  <a:lnTo>
                    <a:pt x="0" y="1781"/>
                  </a:lnTo>
                  <a:lnTo>
                    <a:pt x="22" y="1600"/>
                  </a:lnTo>
                  <a:lnTo>
                    <a:pt x="52" y="1437"/>
                  </a:lnTo>
                  <a:lnTo>
                    <a:pt x="61" y="1340"/>
                  </a:lnTo>
                  <a:lnTo>
                    <a:pt x="92" y="1309"/>
                  </a:lnTo>
                  <a:lnTo>
                    <a:pt x="123" y="1274"/>
                  </a:lnTo>
                  <a:lnTo>
                    <a:pt x="163" y="1261"/>
                  </a:lnTo>
                  <a:lnTo>
                    <a:pt x="202" y="1252"/>
                  </a:lnTo>
                  <a:lnTo>
                    <a:pt x="242" y="1252"/>
                  </a:lnTo>
                  <a:lnTo>
                    <a:pt x="295" y="1252"/>
                  </a:lnTo>
                  <a:lnTo>
                    <a:pt x="335" y="1274"/>
                  </a:lnTo>
                  <a:lnTo>
                    <a:pt x="343" y="1309"/>
                  </a:lnTo>
                  <a:lnTo>
                    <a:pt x="357" y="1367"/>
                  </a:lnTo>
                  <a:lnTo>
                    <a:pt x="366" y="1424"/>
                  </a:lnTo>
                  <a:lnTo>
                    <a:pt x="383" y="1472"/>
                  </a:lnTo>
                  <a:lnTo>
                    <a:pt x="405" y="1494"/>
                  </a:lnTo>
                  <a:lnTo>
                    <a:pt x="436" y="1512"/>
                  </a:lnTo>
                  <a:lnTo>
                    <a:pt x="476" y="1534"/>
                  </a:lnTo>
                  <a:lnTo>
                    <a:pt x="515" y="1561"/>
                  </a:lnTo>
                  <a:lnTo>
                    <a:pt x="568" y="1583"/>
                  </a:lnTo>
                  <a:lnTo>
                    <a:pt x="546" y="1521"/>
                  </a:lnTo>
                  <a:lnTo>
                    <a:pt x="515" y="1472"/>
                  </a:lnTo>
                  <a:lnTo>
                    <a:pt x="498" y="1415"/>
                  </a:lnTo>
                  <a:lnTo>
                    <a:pt x="485" y="1380"/>
                  </a:lnTo>
                  <a:lnTo>
                    <a:pt x="498" y="1349"/>
                  </a:lnTo>
                  <a:lnTo>
                    <a:pt x="507" y="1309"/>
                  </a:lnTo>
                  <a:lnTo>
                    <a:pt x="529" y="1261"/>
                  </a:lnTo>
                  <a:lnTo>
                    <a:pt x="546" y="1217"/>
                  </a:lnTo>
                  <a:lnTo>
                    <a:pt x="515" y="1128"/>
                  </a:lnTo>
                  <a:lnTo>
                    <a:pt x="485" y="1023"/>
                  </a:lnTo>
                  <a:lnTo>
                    <a:pt x="445" y="903"/>
                  </a:lnTo>
                  <a:lnTo>
                    <a:pt x="396" y="789"/>
                  </a:lnTo>
                  <a:lnTo>
                    <a:pt x="357" y="674"/>
                  </a:lnTo>
                  <a:lnTo>
                    <a:pt x="326" y="577"/>
                  </a:lnTo>
                  <a:lnTo>
                    <a:pt x="295" y="502"/>
                  </a:lnTo>
                  <a:lnTo>
                    <a:pt x="273" y="471"/>
                  </a:lnTo>
                  <a:lnTo>
                    <a:pt x="8" y="229"/>
                  </a:lnTo>
                  <a:lnTo>
                    <a:pt x="8" y="163"/>
                  </a:lnTo>
                  <a:lnTo>
                    <a:pt x="22" y="97"/>
                  </a:lnTo>
                  <a:lnTo>
                    <a:pt x="39" y="39"/>
                  </a:lnTo>
                  <a:lnTo>
                    <a:pt x="61" y="8"/>
                  </a:lnTo>
                  <a:lnTo>
                    <a:pt x="101" y="0"/>
                  </a:lnTo>
                  <a:lnTo>
                    <a:pt x="141" y="0"/>
                  </a:lnTo>
                  <a:lnTo>
                    <a:pt x="202" y="17"/>
                  </a:lnTo>
                  <a:lnTo>
                    <a:pt x="273" y="30"/>
                  </a:lnTo>
                  <a:lnTo>
                    <a:pt x="335" y="66"/>
                  </a:lnTo>
                  <a:lnTo>
                    <a:pt x="396" y="97"/>
                  </a:lnTo>
                  <a:lnTo>
                    <a:pt x="445" y="136"/>
                  </a:lnTo>
                  <a:lnTo>
                    <a:pt x="485" y="185"/>
                  </a:lnTo>
                  <a:lnTo>
                    <a:pt x="546" y="194"/>
                  </a:lnTo>
                  <a:lnTo>
                    <a:pt x="599" y="211"/>
                  </a:lnTo>
                  <a:lnTo>
                    <a:pt x="661" y="233"/>
                  </a:lnTo>
                  <a:lnTo>
                    <a:pt x="732" y="260"/>
                  </a:lnTo>
                  <a:lnTo>
                    <a:pt x="780" y="299"/>
                  </a:lnTo>
                  <a:lnTo>
                    <a:pt x="851" y="339"/>
                  </a:lnTo>
                  <a:lnTo>
                    <a:pt x="903" y="388"/>
                  </a:lnTo>
                  <a:lnTo>
                    <a:pt x="943" y="445"/>
                  </a:lnTo>
                  <a:lnTo>
                    <a:pt x="965" y="502"/>
                  </a:lnTo>
                  <a:lnTo>
                    <a:pt x="996" y="560"/>
                  </a:lnTo>
                  <a:lnTo>
                    <a:pt x="1027" y="617"/>
                  </a:lnTo>
                  <a:lnTo>
                    <a:pt x="1053" y="674"/>
                  </a:lnTo>
                  <a:lnTo>
                    <a:pt x="1075" y="705"/>
                  </a:lnTo>
                  <a:lnTo>
                    <a:pt x="1098" y="740"/>
                  </a:lnTo>
                  <a:lnTo>
                    <a:pt x="1115" y="780"/>
                  </a:lnTo>
                  <a:lnTo>
                    <a:pt x="1146" y="829"/>
                  </a:lnTo>
                  <a:lnTo>
                    <a:pt x="1168" y="868"/>
                  </a:lnTo>
                  <a:lnTo>
                    <a:pt x="1199" y="903"/>
                  </a:lnTo>
                  <a:lnTo>
                    <a:pt x="1217" y="934"/>
                  </a:lnTo>
                  <a:lnTo>
                    <a:pt x="1230" y="952"/>
                  </a:lnTo>
                  <a:lnTo>
                    <a:pt x="1199" y="877"/>
                  </a:lnTo>
                  <a:lnTo>
                    <a:pt x="1177" y="798"/>
                  </a:lnTo>
                  <a:lnTo>
                    <a:pt x="1168" y="732"/>
                  </a:lnTo>
                  <a:lnTo>
                    <a:pt x="1168" y="657"/>
                  </a:lnTo>
                  <a:lnTo>
                    <a:pt x="1137" y="643"/>
                  </a:lnTo>
                  <a:lnTo>
                    <a:pt x="1106" y="617"/>
                  </a:lnTo>
                  <a:lnTo>
                    <a:pt x="1067" y="599"/>
                  </a:lnTo>
                  <a:lnTo>
                    <a:pt x="1036" y="577"/>
                  </a:lnTo>
                  <a:lnTo>
                    <a:pt x="1005" y="542"/>
                  </a:lnTo>
                  <a:lnTo>
                    <a:pt x="974" y="520"/>
                  </a:lnTo>
                  <a:lnTo>
                    <a:pt x="952" y="480"/>
                  </a:lnTo>
                  <a:lnTo>
                    <a:pt x="943" y="445"/>
                  </a:lnTo>
                  <a:lnTo>
                    <a:pt x="943" y="405"/>
                  </a:lnTo>
                  <a:lnTo>
                    <a:pt x="965" y="383"/>
                  </a:lnTo>
                  <a:lnTo>
                    <a:pt x="1005" y="357"/>
                  </a:lnTo>
                  <a:lnTo>
                    <a:pt x="1053" y="339"/>
                  </a:lnTo>
                  <a:lnTo>
                    <a:pt x="1115" y="335"/>
                  </a:lnTo>
                  <a:lnTo>
                    <a:pt x="1168" y="335"/>
                  </a:lnTo>
                  <a:lnTo>
                    <a:pt x="1217" y="335"/>
                  </a:lnTo>
                  <a:lnTo>
                    <a:pt x="1270" y="339"/>
                  </a:lnTo>
                  <a:lnTo>
                    <a:pt x="1300" y="357"/>
                  </a:lnTo>
                  <a:lnTo>
                    <a:pt x="1340" y="366"/>
                  </a:lnTo>
                  <a:lnTo>
                    <a:pt x="1371" y="383"/>
                  </a:lnTo>
                  <a:lnTo>
                    <a:pt x="1402" y="396"/>
                  </a:lnTo>
                  <a:lnTo>
                    <a:pt x="1419" y="405"/>
                  </a:lnTo>
                  <a:lnTo>
                    <a:pt x="1450" y="414"/>
                  </a:lnTo>
                  <a:lnTo>
                    <a:pt x="1472" y="432"/>
                  </a:lnTo>
                  <a:lnTo>
                    <a:pt x="1481" y="432"/>
                  </a:lnTo>
                  <a:lnTo>
                    <a:pt x="1512" y="445"/>
                  </a:lnTo>
                  <a:lnTo>
                    <a:pt x="1544" y="463"/>
                  </a:lnTo>
                  <a:lnTo>
                    <a:pt x="1566" y="471"/>
                  </a:lnTo>
                  <a:lnTo>
                    <a:pt x="1584" y="493"/>
                  </a:lnTo>
                  <a:lnTo>
                    <a:pt x="1623" y="493"/>
                  </a:lnTo>
                  <a:lnTo>
                    <a:pt x="1654" y="502"/>
                  </a:lnTo>
                  <a:lnTo>
                    <a:pt x="1694" y="502"/>
                  </a:lnTo>
                  <a:lnTo>
                    <a:pt x="1738" y="511"/>
                  </a:lnTo>
                  <a:lnTo>
                    <a:pt x="1769" y="529"/>
                  </a:lnTo>
                  <a:lnTo>
                    <a:pt x="1808" y="542"/>
                  </a:lnTo>
                  <a:lnTo>
                    <a:pt x="1826" y="568"/>
                  </a:lnTo>
                  <a:lnTo>
                    <a:pt x="1870" y="599"/>
                  </a:lnTo>
                  <a:lnTo>
                    <a:pt x="1897" y="626"/>
                  </a:lnTo>
                  <a:lnTo>
                    <a:pt x="1941" y="648"/>
                  </a:lnTo>
                  <a:lnTo>
                    <a:pt x="1980" y="683"/>
                  </a:lnTo>
                  <a:lnTo>
                    <a:pt x="2029" y="705"/>
                  </a:lnTo>
                  <a:lnTo>
                    <a:pt x="2082" y="732"/>
                  </a:lnTo>
                  <a:lnTo>
                    <a:pt x="2152" y="762"/>
                  </a:lnTo>
                  <a:lnTo>
                    <a:pt x="2214" y="780"/>
                  </a:lnTo>
                  <a:lnTo>
                    <a:pt x="2285" y="811"/>
                  </a:lnTo>
                  <a:lnTo>
                    <a:pt x="2355" y="851"/>
                  </a:lnTo>
                  <a:lnTo>
                    <a:pt x="2408" y="903"/>
                  </a:lnTo>
                  <a:lnTo>
                    <a:pt x="2457" y="956"/>
                  </a:lnTo>
                  <a:lnTo>
                    <a:pt x="2488" y="1040"/>
                  </a:lnTo>
                  <a:lnTo>
                    <a:pt x="2510" y="934"/>
                  </a:lnTo>
                  <a:lnTo>
                    <a:pt x="2540" y="820"/>
                  </a:lnTo>
                  <a:lnTo>
                    <a:pt x="2580" y="723"/>
                  </a:lnTo>
                  <a:lnTo>
                    <a:pt x="2611" y="674"/>
                  </a:lnTo>
                  <a:lnTo>
                    <a:pt x="2629" y="643"/>
                  </a:lnTo>
                  <a:lnTo>
                    <a:pt x="2651" y="608"/>
                  </a:lnTo>
                  <a:lnTo>
                    <a:pt x="2660" y="568"/>
                  </a:lnTo>
                  <a:lnTo>
                    <a:pt x="2668" y="542"/>
                  </a:lnTo>
                  <a:lnTo>
                    <a:pt x="2668" y="511"/>
                  </a:lnTo>
                  <a:lnTo>
                    <a:pt x="2682" y="463"/>
                  </a:lnTo>
                  <a:lnTo>
                    <a:pt x="2699" y="414"/>
                  </a:lnTo>
                  <a:lnTo>
                    <a:pt x="2721" y="374"/>
                  </a:lnTo>
                  <a:lnTo>
                    <a:pt x="2752" y="339"/>
                  </a:lnTo>
                  <a:lnTo>
                    <a:pt x="2783" y="326"/>
                  </a:lnTo>
                  <a:lnTo>
                    <a:pt x="2823" y="308"/>
                  </a:lnTo>
                  <a:lnTo>
                    <a:pt x="2862" y="291"/>
                  </a:lnTo>
                  <a:lnTo>
                    <a:pt x="2902" y="291"/>
                  </a:lnTo>
                  <a:lnTo>
                    <a:pt x="2946" y="291"/>
                  </a:lnTo>
                  <a:lnTo>
                    <a:pt x="2986" y="291"/>
                  </a:lnTo>
                  <a:lnTo>
                    <a:pt x="3026" y="291"/>
                  </a:lnTo>
                  <a:lnTo>
                    <a:pt x="3004" y="299"/>
                  </a:lnTo>
                  <a:lnTo>
                    <a:pt x="2986" y="308"/>
                  </a:lnTo>
                  <a:lnTo>
                    <a:pt x="2964" y="317"/>
                  </a:lnTo>
                  <a:lnTo>
                    <a:pt x="2933" y="335"/>
                  </a:lnTo>
                  <a:lnTo>
                    <a:pt x="2915" y="348"/>
                  </a:lnTo>
                  <a:lnTo>
                    <a:pt x="2893" y="366"/>
                  </a:lnTo>
                  <a:lnTo>
                    <a:pt x="2871" y="383"/>
                  </a:lnTo>
                  <a:lnTo>
                    <a:pt x="2854" y="396"/>
                  </a:lnTo>
                  <a:lnTo>
                    <a:pt x="2832" y="436"/>
                  </a:lnTo>
                  <a:lnTo>
                    <a:pt x="2814" y="493"/>
                  </a:lnTo>
                  <a:lnTo>
                    <a:pt x="2801" y="551"/>
                  </a:lnTo>
                  <a:lnTo>
                    <a:pt x="2792" y="617"/>
                  </a:lnTo>
                  <a:lnTo>
                    <a:pt x="2783" y="692"/>
                  </a:lnTo>
                  <a:lnTo>
                    <a:pt x="2770" y="780"/>
                  </a:lnTo>
                  <a:lnTo>
                    <a:pt x="2752" y="868"/>
                  </a:lnTo>
                  <a:lnTo>
                    <a:pt x="2730" y="943"/>
                  </a:lnTo>
                  <a:lnTo>
                    <a:pt x="2699" y="1001"/>
                  </a:lnTo>
                  <a:lnTo>
                    <a:pt x="2660" y="1080"/>
                  </a:lnTo>
                  <a:lnTo>
                    <a:pt x="2620" y="1168"/>
                  </a:lnTo>
                  <a:lnTo>
                    <a:pt x="2598" y="1274"/>
                  </a:lnTo>
                  <a:lnTo>
                    <a:pt x="2549" y="1274"/>
                  </a:lnTo>
                  <a:lnTo>
                    <a:pt x="2540" y="1212"/>
                  </a:lnTo>
                  <a:lnTo>
                    <a:pt x="2527" y="1137"/>
                  </a:lnTo>
                  <a:lnTo>
                    <a:pt x="2496" y="1080"/>
                  </a:lnTo>
                  <a:lnTo>
                    <a:pt x="2457" y="1031"/>
                  </a:lnTo>
                  <a:lnTo>
                    <a:pt x="2435" y="1001"/>
                  </a:lnTo>
                  <a:lnTo>
                    <a:pt x="2395" y="974"/>
                  </a:lnTo>
                  <a:lnTo>
                    <a:pt x="2355" y="943"/>
                  </a:lnTo>
                  <a:lnTo>
                    <a:pt x="2294" y="908"/>
                  </a:lnTo>
                  <a:lnTo>
                    <a:pt x="2232" y="895"/>
                  </a:lnTo>
                  <a:lnTo>
                    <a:pt x="2152" y="895"/>
                  </a:lnTo>
                  <a:lnTo>
                    <a:pt x="2073" y="917"/>
                  </a:lnTo>
                  <a:lnTo>
                    <a:pt x="1989" y="965"/>
                  </a:lnTo>
                  <a:lnTo>
                    <a:pt x="2029" y="1009"/>
                  </a:lnTo>
                  <a:lnTo>
                    <a:pt x="2073" y="1062"/>
                  </a:lnTo>
                  <a:lnTo>
                    <a:pt x="2104" y="1120"/>
                  </a:lnTo>
                  <a:lnTo>
                    <a:pt x="2144" y="1186"/>
                  </a:lnTo>
                  <a:lnTo>
                    <a:pt x="2161" y="1261"/>
                  </a:lnTo>
                  <a:lnTo>
                    <a:pt x="2183" y="1340"/>
                  </a:lnTo>
                  <a:lnTo>
                    <a:pt x="2192" y="1428"/>
                  </a:lnTo>
                  <a:lnTo>
                    <a:pt x="2192" y="1521"/>
                  </a:lnTo>
                  <a:lnTo>
                    <a:pt x="2113" y="1512"/>
                  </a:lnTo>
                  <a:lnTo>
                    <a:pt x="2104" y="1389"/>
                  </a:lnTo>
                  <a:lnTo>
                    <a:pt x="2073" y="1269"/>
                  </a:lnTo>
                  <a:lnTo>
                    <a:pt x="2020" y="1155"/>
                  </a:lnTo>
                  <a:lnTo>
                    <a:pt x="1972" y="1058"/>
                  </a:lnTo>
                  <a:lnTo>
                    <a:pt x="1910" y="965"/>
                  </a:lnTo>
                  <a:lnTo>
                    <a:pt x="1870" y="886"/>
                  </a:lnTo>
                  <a:lnTo>
                    <a:pt x="1826" y="820"/>
                  </a:lnTo>
                  <a:lnTo>
                    <a:pt x="1795" y="771"/>
                  </a:lnTo>
                  <a:lnTo>
                    <a:pt x="1778" y="749"/>
                  </a:lnTo>
                  <a:lnTo>
                    <a:pt x="1747" y="740"/>
                  </a:lnTo>
                  <a:lnTo>
                    <a:pt x="1707" y="732"/>
                  </a:lnTo>
                  <a:lnTo>
                    <a:pt x="1676" y="723"/>
                  </a:lnTo>
                  <a:lnTo>
                    <a:pt x="1623" y="723"/>
                  </a:lnTo>
                  <a:lnTo>
                    <a:pt x="1584" y="732"/>
                  </a:lnTo>
                  <a:lnTo>
                    <a:pt x="1553" y="740"/>
                  </a:lnTo>
                  <a:lnTo>
                    <a:pt x="1522" y="762"/>
                  </a:lnTo>
                  <a:lnTo>
                    <a:pt x="1535" y="802"/>
                  </a:lnTo>
                  <a:lnTo>
                    <a:pt x="1544" y="859"/>
                  </a:lnTo>
                  <a:lnTo>
                    <a:pt x="1544" y="903"/>
                  </a:lnTo>
                  <a:lnTo>
                    <a:pt x="1544" y="943"/>
                  </a:lnTo>
                  <a:lnTo>
                    <a:pt x="1544" y="983"/>
                  </a:lnTo>
                  <a:lnTo>
                    <a:pt x="1544" y="1023"/>
                  </a:lnTo>
                  <a:lnTo>
                    <a:pt x="1566" y="1071"/>
                  </a:lnTo>
                  <a:lnTo>
                    <a:pt x="1584" y="1106"/>
                  </a:lnTo>
                  <a:lnTo>
                    <a:pt x="1614" y="1137"/>
                  </a:lnTo>
                  <a:lnTo>
                    <a:pt x="1654" y="1177"/>
                  </a:lnTo>
                  <a:lnTo>
                    <a:pt x="1694" y="1225"/>
                  </a:lnTo>
                  <a:lnTo>
                    <a:pt x="1747" y="1269"/>
                  </a:lnTo>
                  <a:lnTo>
                    <a:pt x="1716" y="1269"/>
                  </a:lnTo>
                  <a:lnTo>
                    <a:pt x="1676" y="1269"/>
                  </a:lnTo>
                  <a:lnTo>
                    <a:pt x="1645" y="1261"/>
                  </a:lnTo>
                  <a:lnTo>
                    <a:pt x="1614" y="1252"/>
                  </a:lnTo>
                  <a:lnTo>
                    <a:pt x="1584" y="1252"/>
                  </a:lnTo>
                  <a:lnTo>
                    <a:pt x="1566" y="1252"/>
                  </a:lnTo>
                  <a:lnTo>
                    <a:pt x="1544" y="1252"/>
                  </a:lnTo>
                  <a:lnTo>
                    <a:pt x="1544" y="1261"/>
                  </a:lnTo>
                  <a:lnTo>
                    <a:pt x="1535" y="1300"/>
                  </a:lnTo>
                  <a:lnTo>
                    <a:pt x="1522" y="1367"/>
                  </a:lnTo>
                  <a:lnTo>
                    <a:pt x="1512" y="1437"/>
                  </a:lnTo>
                  <a:lnTo>
                    <a:pt x="1503" y="1503"/>
                  </a:lnTo>
                  <a:lnTo>
                    <a:pt x="1481" y="1446"/>
                  </a:lnTo>
                  <a:lnTo>
                    <a:pt x="1459" y="1397"/>
                  </a:lnTo>
                  <a:lnTo>
                    <a:pt x="1433" y="1340"/>
                  </a:lnTo>
                  <a:lnTo>
                    <a:pt x="1411" y="1292"/>
                  </a:lnTo>
                  <a:lnTo>
                    <a:pt x="1380" y="1252"/>
                  </a:lnTo>
                  <a:lnTo>
                    <a:pt x="1358" y="1217"/>
                  </a:lnTo>
                  <a:lnTo>
                    <a:pt x="1340" y="1195"/>
                  </a:lnTo>
                  <a:lnTo>
                    <a:pt x="1331" y="1177"/>
                  </a:lnTo>
                  <a:lnTo>
                    <a:pt x="1309" y="1177"/>
                  </a:lnTo>
                  <a:lnTo>
                    <a:pt x="1287" y="1168"/>
                  </a:lnTo>
                  <a:lnTo>
                    <a:pt x="1247" y="1164"/>
                  </a:lnTo>
                  <a:lnTo>
                    <a:pt x="1217" y="1146"/>
                  </a:lnTo>
                  <a:lnTo>
                    <a:pt x="1177" y="1146"/>
                  </a:lnTo>
                  <a:lnTo>
                    <a:pt x="1146" y="1137"/>
                  </a:lnTo>
                  <a:lnTo>
                    <a:pt x="1115" y="1137"/>
                  </a:lnTo>
                  <a:lnTo>
                    <a:pt x="1084" y="1137"/>
                  </a:lnTo>
                  <a:lnTo>
                    <a:pt x="1067" y="1146"/>
                  </a:lnTo>
                  <a:lnTo>
                    <a:pt x="1014" y="1164"/>
                  </a:lnTo>
                  <a:lnTo>
                    <a:pt x="965" y="1177"/>
                  </a:lnTo>
                  <a:lnTo>
                    <a:pt x="903" y="1212"/>
                  </a:lnTo>
                  <a:lnTo>
                    <a:pt x="820" y="1243"/>
                  </a:lnTo>
                  <a:lnTo>
                    <a:pt x="749" y="1292"/>
                  </a:lnTo>
                  <a:lnTo>
                    <a:pt x="679" y="1349"/>
                  </a:lnTo>
                  <a:lnTo>
                    <a:pt x="608" y="1415"/>
                  </a:lnTo>
                  <a:lnTo>
                    <a:pt x="617" y="1424"/>
                  </a:lnTo>
                  <a:lnTo>
                    <a:pt x="648" y="1424"/>
                  </a:lnTo>
                  <a:lnTo>
                    <a:pt x="670" y="1428"/>
                  </a:lnTo>
                  <a:lnTo>
                    <a:pt x="701" y="1428"/>
                  </a:lnTo>
                  <a:lnTo>
                    <a:pt x="718" y="1437"/>
                  </a:lnTo>
                  <a:lnTo>
                    <a:pt x="749" y="1437"/>
                  </a:lnTo>
                  <a:lnTo>
                    <a:pt x="771" y="1437"/>
                  </a:lnTo>
                  <a:lnTo>
                    <a:pt x="802" y="1437"/>
                  </a:lnTo>
                  <a:lnTo>
                    <a:pt x="780" y="1464"/>
                  </a:lnTo>
                  <a:lnTo>
                    <a:pt x="749" y="1503"/>
                  </a:lnTo>
                  <a:lnTo>
                    <a:pt x="732" y="1543"/>
                  </a:lnTo>
                  <a:lnTo>
                    <a:pt x="701" y="1583"/>
                  </a:lnTo>
                  <a:lnTo>
                    <a:pt x="670" y="1631"/>
                  </a:lnTo>
                  <a:lnTo>
                    <a:pt x="648" y="1675"/>
                  </a:lnTo>
                  <a:lnTo>
                    <a:pt x="639" y="1715"/>
                  </a:lnTo>
                  <a:lnTo>
                    <a:pt x="639" y="1737"/>
                  </a:lnTo>
                  <a:lnTo>
                    <a:pt x="661" y="1838"/>
                  </a:lnTo>
                  <a:lnTo>
                    <a:pt x="701" y="2007"/>
                  </a:lnTo>
                  <a:lnTo>
                    <a:pt x="732" y="2205"/>
                  </a:lnTo>
                  <a:lnTo>
                    <a:pt x="718" y="2364"/>
                  </a:lnTo>
                  <a:lnTo>
                    <a:pt x="670" y="2642"/>
                  </a:lnTo>
                  <a:lnTo>
                    <a:pt x="661" y="2845"/>
                  </a:lnTo>
                  <a:lnTo>
                    <a:pt x="661" y="2977"/>
                  </a:lnTo>
                  <a:lnTo>
                    <a:pt x="648" y="3026"/>
                  </a:lnTo>
                  <a:lnTo>
                    <a:pt x="608" y="3034"/>
                  </a:lnTo>
                  <a:lnTo>
                    <a:pt x="590" y="3048"/>
                  </a:lnTo>
                  <a:lnTo>
                    <a:pt x="568" y="3096"/>
                  </a:lnTo>
                  <a:lnTo>
                    <a:pt x="577" y="3193"/>
                  </a:lnTo>
                  <a:lnTo>
                    <a:pt x="599" y="3228"/>
                  </a:lnTo>
                  <a:lnTo>
                    <a:pt x="617" y="3242"/>
                  </a:lnTo>
                  <a:lnTo>
                    <a:pt x="648" y="3259"/>
                  </a:lnTo>
                  <a:lnTo>
                    <a:pt x="670" y="3286"/>
                  </a:lnTo>
                  <a:lnTo>
                    <a:pt x="679" y="3317"/>
                  </a:lnTo>
                  <a:lnTo>
                    <a:pt x="679" y="3356"/>
                  </a:lnTo>
                  <a:lnTo>
                    <a:pt x="670" y="3383"/>
                  </a:lnTo>
                  <a:lnTo>
                    <a:pt x="639" y="3400"/>
                  </a:lnTo>
                  <a:lnTo>
                    <a:pt x="608" y="3414"/>
                  </a:lnTo>
                  <a:lnTo>
                    <a:pt x="577" y="3471"/>
                  </a:lnTo>
                  <a:lnTo>
                    <a:pt x="577" y="3559"/>
                  </a:lnTo>
                  <a:lnTo>
                    <a:pt x="599" y="3700"/>
                  </a:lnTo>
                  <a:lnTo>
                    <a:pt x="639" y="3722"/>
                  </a:lnTo>
                  <a:lnTo>
                    <a:pt x="679" y="3762"/>
                  </a:lnTo>
                  <a:lnTo>
                    <a:pt x="718" y="3797"/>
                  </a:lnTo>
                  <a:lnTo>
                    <a:pt x="762" y="38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33800" y="2120760"/>
              <a:ext cx="98640" cy="122760"/>
            </a:xfrm>
            <a:custGeom>
              <a:avLst/>
              <a:gdLst/>
              <a:ahLst/>
              <a:rect l="0" t="0" r="r" b="b"/>
              <a:pathLst>
                <a:path w="274" h="341">
                  <a:moveTo>
                    <a:pt x="17" y="22"/>
                  </a:moveTo>
                  <a:lnTo>
                    <a:pt x="17" y="4"/>
                  </a:lnTo>
                  <a:lnTo>
                    <a:pt x="0" y="52"/>
                  </a:lnTo>
                  <a:lnTo>
                    <a:pt x="0" y="102"/>
                  </a:lnTo>
                  <a:lnTo>
                    <a:pt x="17" y="146"/>
                  </a:lnTo>
                  <a:lnTo>
                    <a:pt x="30" y="199"/>
                  </a:lnTo>
                  <a:lnTo>
                    <a:pt x="61" y="247"/>
                  </a:lnTo>
                  <a:lnTo>
                    <a:pt x="110" y="293"/>
                  </a:lnTo>
                  <a:lnTo>
                    <a:pt x="181" y="323"/>
                  </a:lnTo>
                  <a:lnTo>
                    <a:pt x="274" y="341"/>
                  </a:lnTo>
                  <a:lnTo>
                    <a:pt x="274" y="306"/>
                  </a:lnTo>
                  <a:lnTo>
                    <a:pt x="190" y="293"/>
                  </a:lnTo>
                  <a:lnTo>
                    <a:pt x="142" y="257"/>
                  </a:lnTo>
                  <a:lnTo>
                    <a:pt x="92" y="225"/>
                  </a:lnTo>
                  <a:lnTo>
                    <a:pt x="70" y="195"/>
                  </a:lnTo>
                  <a:lnTo>
                    <a:pt x="61" y="146"/>
                  </a:lnTo>
                  <a:lnTo>
                    <a:pt x="61" y="102"/>
                  </a:lnTo>
                  <a:lnTo>
                    <a:pt x="61" y="52"/>
                  </a:lnTo>
                  <a:lnTo>
                    <a:pt x="61" y="4"/>
                  </a:lnTo>
                  <a:lnTo>
                    <a:pt x="61" y="0"/>
                  </a:lnTo>
                  <a:lnTo>
                    <a:pt x="61" y="4"/>
                  </a:lnTo>
                  <a:lnTo>
                    <a:pt x="70" y="4"/>
                  </a:lnTo>
                  <a:lnTo>
                    <a:pt x="61" y="0"/>
                  </a:lnTo>
                  <a:lnTo>
                    <a:pt x="17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114720" y="1962000"/>
              <a:ext cx="59040" cy="167040"/>
            </a:xfrm>
            <a:custGeom>
              <a:avLst/>
              <a:gdLst/>
              <a:ahLst/>
              <a:rect l="0" t="0" r="r" b="b"/>
              <a:pathLst>
                <a:path w="164" h="464">
                  <a:moveTo>
                    <a:pt x="0" y="8"/>
                  </a:moveTo>
                  <a:lnTo>
                    <a:pt x="0" y="8"/>
                  </a:lnTo>
                  <a:lnTo>
                    <a:pt x="26" y="149"/>
                  </a:lnTo>
                  <a:lnTo>
                    <a:pt x="26" y="261"/>
                  </a:lnTo>
                  <a:lnTo>
                    <a:pt x="39" y="358"/>
                  </a:lnTo>
                  <a:lnTo>
                    <a:pt x="111" y="464"/>
                  </a:lnTo>
                  <a:lnTo>
                    <a:pt x="164" y="441"/>
                  </a:lnTo>
                  <a:lnTo>
                    <a:pt x="111" y="358"/>
                  </a:lnTo>
                  <a:lnTo>
                    <a:pt x="111" y="261"/>
                  </a:lnTo>
                  <a:lnTo>
                    <a:pt x="89" y="149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2952720" y="1549440"/>
              <a:ext cx="174960" cy="416160"/>
            </a:xfrm>
            <a:custGeom>
              <a:avLst/>
              <a:gdLst/>
              <a:ahLst/>
              <a:rect l="0" t="0" r="r" b="b"/>
              <a:pathLst>
                <a:path w="486" h="1156">
                  <a:moveTo>
                    <a:pt x="0" y="0"/>
                  </a:moveTo>
                  <a:lnTo>
                    <a:pt x="0" y="0"/>
                  </a:lnTo>
                  <a:lnTo>
                    <a:pt x="22" y="114"/>
                  </a:lnTo>
                  <a:lnTo>
                    <a:pt x="70" y="260"/>
                  </a:lnTo>
                  <a:lnTo>
                    <a:pt x="141" y="423"/>
                  </a:lnTo>
                  <a:lnTo>
                    <a:pt x="211" y="609"/>
                  </a:lnTo>
                  <a:lnTo>
                    <a:pt x="283" y="781"/>
                  </a:lnTo>
                  <a:lnTo>
                    <a:pt x="353" y="944"/>
                  </a:lnTo>
                  <a:lnTo>
                    <a:pt x="406" y="1076"/>
                  </a:lnTo>
                  <a:lnTo>
                    <a:pt x="446" y="1156"/>
                  </a:lnTo>
                  <a:lnTo>
                    <a:pt x="486" y="1147"/>
                  </a:lnTo>
                  <a:lnTo>
                    <a:pt x="455" y="1059"/>
                  </a:lnTo>
                  <a:lnTo>
                    <a:pt x="393" y="927"/>
                  </a:lnTo>
                  <a:lnTo>
                    <a:pt x="336" y="772"/>
                  </a:lnTo>
                  <a:lnTo>
                    <a:pt x="252" y="605"/>
                  </a:lnTo>
                  <a:lnTo>
                    <a:pt x="180" y="414"/>
                  </a:lnTo>
                  <a:lnTo>
                    <a:pt x="123" y="251"/>
                  </a:lnTo>
                  <a:lnTo>
                    <a:pt x="70" y="105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957400" y="1335240"/>
              <a:ext cx="59040" cy="214560"/>
            </a:xfrm>
            <a:custGeom>
              <a:avLst/>
              <a:gdLst/>
              <a:ahLst/>
              <a:rect l="0" t="0" r="r" b="b"/>
              <a:pathLst>
                <a:path w="164" h="596">
                  <a:moveTo>
                    <a:pt x="79" y="0"/>
                  </a:moveTo>
                  <a:lnTo>
                    <a:pt x="79" y="0"/>
                  </a:lnTo>
                  <a:lnTo>
                    <a:pt x="70" y="101"/>
                  </a:lnTo>
                  <a:lnTo>
                    <a:pt x="26" y="264"/>
                  </a:lnTo>
                  <a:lnTo>
                    <a:pt x="0" y="441"/>
                  </a:lnTo>
                  <a:lnTo>
                    <a:pt x="0" y="596"/>
                  </a:lnTo>
                  <a:lnTo>
                    <a:pt x="70" y="596"/>
                  </a:lnTo>
                  <a:lnTo>
                    <a:pt x="70" y="441"/>
                  </a:lnTo>
                  <a:lnTo>
                    <a:pt x="79" y="264"/>
                  </a:lnTo>
                  <a:lnTo>
                    <a:pt x="133" y="101"/>
                  </a:lnTo>
                  <a:lnTo>
                    <a:pt x="164" y="0"/>
                  </a:lnTo>
                  <a:lnTo>
                    <a:pt x="164" y="8"/>
                  </a:lnTo>
                  <a:lnTo>
                    <a:pt x="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975040" y="1297080"/>
              <a:ext cx="57600" cy="47880"/>
            </a:xfrm>
            <a:custGeom>
              <a:avLst/>
              <a:gdLst/>
              <a:ahLst/>
              <a:rect l="0" t="0" r="r" b="b"/>
              <a:pathLst>
                <a:path w="160" h="133">
                  <a:moveTo>
                    <a:pt x="160" y="0"/>
                  </a:moveTo>
                  <a:lnTo>
                    <a:pt x="160" y="8"/>
                  </a:lnTo>
                  <a:lnTo>
                    <a:pt x="111" y="17"/>
                  </a:lnTo>
                  <a:lnTo>
                    <a:pt x="62" y="39"/>
                  </a:lnTo>
                  <a:lnTo>
                    <a:pt x="22" y="75"/>
                  </a:lnTo>
                  <a:lnTo>
                    <a:pt x="0" y="115"/>
                  </a:lnTo>
                  <a:lnTo>
                    <a:pt x="49" y="133"/>
                  </a:lnTo>
                  <a:lnTo>
                    <a:pt x="71" y="93"/>
                  </a:lnTo>
                  <a:lnTo>
                    <a:pt x="89" y="67"/>
                  </a:lnTo>
                  <a:lnTo>
                    <a:pt x="121" y="48"/>
                  </a:lnTo>
                  <a:lnTo>
                    <a:pt x="160" y="39"/>
                  </a:lnTo>
                  <a:lnTo>
                    <a:pt x="160" y="48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030480" y="1293840"/>
              <a:ext cx="62280" cy="46440"/>
            </a:xfrm>
            <a:custGeom>
              <a:avLst/>
              <a:gdLst/>
              <a:ahLst/>
              <a:rect l="0" t="0" r="r" b="b"/>
              <a:pathLst>
                <a:path w="173" h="129">
                  <a:moveTo>
                    <a:pt x="173" y="129"/>
                  </a:moveTo>
                  <a:lnTo>
                    <a:pt x="173" y="129"/>
                  </a:lnTo>
                  <a:lnTo>
                    <a:pt x="143" y="49"/>
                  </a:lnTo>
                  <a:lnTo>
                    <a:pt x="93" y="17"/>
                  </a:lnTo>
                  <a:lnTo>
                    <a:pt x="45" y="17"/>
                  </a:lnTo>
                  <a:lnTo>
                    <a:pt x="0" y="0"/>
                  </a:lnTo>
                  <a:lnTo>
                    <a:pt x="0" y="84"/>
                  </a:lnTo>
                  <a:lnTo>
                    <a:pt x="45" y="67"/>
                  </a:lnTo>
                  <a:lnTo>
                    <a:pt x="84" y="84"/>
                  </a:lnTo>
                  <a:lnTo>
                    <a:pt x="115" y="89"/>
                  </a:lnTo>
                  <a:lnTo>
                    <a:pt x="124" y="129"/>
                  </a:lnTo>
                  <a:lnTo>
                    <a:pt x="124" y="129"/>
                  </a:lnTo>
                  <a:lnTo>
                    <a:pt x="173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081240" y="1325520"/>
              <a:ext cx="59040" cy="73440"/>
            </a:xfrm>
            <a:custGeom>
              <a:avLst/>
              <a:gdLst/>
              <a:ahLst/>
              <a:rect l="0" t="0" r="r" b="b"/>
              <a:pathLst>
                <a:path w="164" h="204">
                  <a:moveTo>
                    <a:pt x="164" y="173"/>
                  </a:moveTo>
                  <a:lnTo>
                    <a:pt x="142" y="173"/>
                  </a:lnTo>
                  <a:lnTo>
                    <a:pt x="142" y="156"/>
                  </a:lnTo>
                  <a:lnTo>
                    <a:pt x="111" y="106"/>
                  </a:lnTo>
                  <a:lnTo>
                    <a:pt x="89" y="58"/>
                  </a:lnTo>
                  <a:lnTo>
                    <a:pt x="89" y="0"/>
                  </a:lnTo>
                  <a:lnTo>
                    <a:pt x="0" y="0"/>
                  </a:lnTo>
                  <a:lnTo>
                    <a:pt x="17" y="58"/>
                  </a:lnTo>
                  <a:lnTo>
                    <a:pt x="26" y="124"/>
                  </a:lnTo>
                  <a:lnTo>
                    <a:pt x="48" y="165"/>
                  </a:lnTo>
                  <a:lnTo>
                    <a:pt x="120" y="204"/>
                  </a:lnTo>
                  <a:lnTo>
                    <a:pt x="120" y="204"/>
                  </a:lnTo>
                  <a:lnTo>
                    <a:pt x="164" y="1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103560" y="1386000"/>
              <a:ext cx="81360" cy="49680"/>
            </a:xfrm>
            <a:custGeom>
              <a:avLst/>
              <a:gdLst/>
              <a:ahLst/>
              <a:rect l="0" t="0" r="r" b="b"/>
              <a:pathLst>
                <a:path w="226" h="138">
                  <a:moveTo>
                    <a:pt x="150" y="107"/>
                  </a:moveTo>
                  <a:lnTo>
                    <a:pt x="182" y="89"/>
                  </a:lnTo>
                  <a:lnTo>
                    <a:pt x="133" y="67"/>
                  </a:lnTo>
                  <a:lnTo>
                    <a:pt x="89" y="45"/>
                  </a:lnTo>
                  <a:lnTo>
                    <a:pt x="48" y="26"/>
                  </a:lnTo>
                  <a:lnTo>
                    <a:pt x="17" y="0"/>
                  </a:lnTo>
                  <a:lnTo>
                    <a:pt x="0" y="36"/>
                  </a:lnTo>
                  <a:lnTo>
                    <a:pt x="26" y="49"/>
                  </a:lnTo>
                  <a:lnTo>
                    <a:pt x="71" y="75"/>
                  </a:lnTo>
                  <a:lnTo>
                    <a:pt x="111" y="98"/>
                  </a:lnTo>
                  <a:lnTo>
                    <a:pt x="173" y="125"/>
                  </a:lnTo>
                  <a:lnTo>
                    <a:pt x="204" y="98"/>
                  </a:lnTo>
                  <a:lnTo>
                    <a:pt x="173" y="125"/>
                  </a:lnTo>
                  <a:lnTo>
                    <a:pt x="226" y="138"/>
                  </a:lnTo>
                  <a:lnTo>
                    <a:pt x="204" y="98"/>
                  </a:lnTo>
                  <a:lnTo>
                    <a:pt x="150" y="1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3132000" y="1352520"/>
              <a:ext cx="59040" cy="73440"/>
            </a:xfrm>
            <a:custGeom>
              <a:avLst/>
              <a:gdLst/>
              <a:ahLst/>
              <a:rect l="0" t="0" r="r" b="b"/>
              <a:pathLst>
                <a:path w="164" h="204">
                  <a:moveTo>
                    <a:pt x="0" y="0"/>
                  </a:moveTo>
                  <a:lnTo>
                    <a:pt x="0" y="0"/>
                  </a:lnTo>
                  <a:lnTo>
                    <a:pt x="8" y="39"/>
                  </a:lnTo>
                  <a:lnTo>
                    <a:pt x="17" y="89"/>
                  </a:lnTo>
                  <a:lnTo>
                    <a:pt x="57" y="146"/>
                  </a:lnTo>
                  <a:lnTo>
                    <a:pt x="89" y="204"/>
                  </a:lnTo>
                  <a:lnTo>
                    <a:pt x="164" y="196"/>
                  </a:lnTo>
                  <a:lnTo>
                    <a:pt x="120" y="137"/>
                  </a:lnTo>
                  <a:lnTo>
                    <a:pt x="79" y="80"/>
                  </a:lnTo>
                  <a:lnTo>
                    <a:pt x="57" y="30"/>
                  </a:lnTo>
                  <a:lnTo>
                    <a:pt x="57" y="0"/>
                  </a:lnTo>
                  <a:lnTo>
                    <a:pt x="5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8440" bIns="28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129120" y="1289160"/>
              <a:ext cx="59040" cy="62280"/>
            </a:xfrm>
            <a:custGeom>
              <a:avLst/>
              <a:gdLst/>
              <a:ahLst/>
              <a:rect l="0" t="0" r="r" b="b"/>
              <a:pathLst>
                <a:path w="164" h="173">
                  <a:moveTo>
                    <a:pt x="79" y="8"/>
                  </a:moveTo>
                  <a:lnTo>
                    <a:pt x="79" y="0"/>
                  </a:lnTo>
                  <a:lnTo>
                    <a:pt x="57" y="45"/>
                  </a:lnTo>
                  <a:lnTo>
                    <a:pt x="26" y="93"/>
                  </a:lnTo>
                  <a:lnTo>
                    <a:pt x="17" y="143"/>
                  </a:lnTo>
                  <a:lnTo>
                    <a:pt x="0" y="173"/>
                  </a:lnTo>
                  <a:lnTo>
                    <a:pt x="79" y="173"/>
                  </a:lnTo>
                  <a:lnTo>
                    <a:pt x="79" y="143"/>
                  </a:lnTo>
                  <a:lnTo>
                    <a:pt x="102" y="102"/>
                  </a:lnTo>
                  <a:lnTo>
                    <a:pt x="133" y="58"/>
                  </a:lnTo>
                  <a:lnTo>
                    <a:pt x="164" y="8"/>
                  </a:lnTo>
                  <a:lnTo>
                    <a:pt x="164" y="8"/>
                  </a:lnTo>
                  <a:lnTo>
                    <a:pt x="164" y="8"/>
                  </a:lnTo>
                  <a:lnTo>
                    <a:pt x="164" y="8"/>
                  </a:lnTo>
                  <a:lnTo>
                    <a:pt x="164" y="8"/>
                  </a:lnTo>
                  <a:lnTo>
                    <a:pt x="79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049560" y="1015920"/>
              <a:ext cx="113040" cy="276480"/>
            </a:xfrm>
            <a:custGeom>
              <a:avLst/>
              <a:gdLst/>
              <a:ahLst/>
              <a:rect l="0" t="0" r="r" b="b"/>
              <a:pathLst>
                <a:path w="314" h="768">
                  <a:moveTo>
                    <a:pt x="0" y="26"/>
                  </a:moveTo>
                  <a:lnTo>
                    <a:pt x="0" y="26"/>
                  </a:lnTo>
                  <a:lnTo>
                    <a:pt x="13" y="57"/>
                  </a:lnTo>
                  <a:lnTo>
                    <a:pt x="52" y="132"/>
                  </a:lnTo>
                  <a:lnTo>
                    <a:pt x="83" y="220"/>
                  </a:lnTo>
                  <a:lnTo>
                    <a:pt x="123" y="343"/>
                  </a:lnTo>
                  <a:lnTo>
                    <a:pt x="172" y="459"/>
                  </a:lnTo>
                  <a:lnTo>
                    <a:pt x="212" y="578"/>
                  </a:lnTo>
                  <a:lnTo>
                    <a:pt x="243" y="684"/>
                  </a:lnTo>
                  <a:lnTo>
                    <a:pt x="265" y="768"/>
                  </a:lnTo>
                  <a:lnTo>
                    <a:pt x="314" y="768"/>
                  </a:lnTo>
                  <a:lnTo>
                    <a:pt x="296" y="680"/>
                  </a:lnTo>
                  <a:lnTo>
                    <a:pt x="256" y="565"/>
                  </a:lnTo>
                  <a:lnTo>
                    <a:pt x="212" y="450"/>
                  </a:lnTo>
                  <a:lnTo>
                    <a:pt x="172" y="326"/>
                  </a:lnTo>
                  <a:lnTo>
                    <a:pt x="132" y="211"/>
                  </a:lnTo>
                  <a:lnTo>
                    <a:pt x="92" y="123"/>
                  </a:lnTo>
                  <a:lnTo>
                    <a:pt x="61" y="48"/>
                  </a:lnTo>
                  <a:lnTo>
                    <a:pt x="44" y="8"/>
                  </a:lnTo>
                  <a:lnTo>
                    <a:pt x="44" y="0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4" y="0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2957400" y="928800"/>
              <a:ext cx="109800" cy="97200"/>
            </a:xfrm>
            <a:custGeom>
              <a:avLst/>
              <a:gdLst/>
              <a:ahLst/>
              <a:rect l="0" t="0" r="r" b="b"/>
              <a:pathLst>
                <a:path w="305" h="270">
                  <a:moveTo>
                    <a:pt x="0" y="17"/>
                  </a:moveTo>
                  <a:lnTo>
                    <a:pt x="8" y="35"/>
                  </a:lnTo>
                  <a:lnTo>
                    <a:pt x="261" y="270"/>
                  </a:lnTo>
                  <a:lnTo>
                    <a:pt x="305" y="248"/>
                  </a:lnTo>
                  <a:lnTo>
                    <a:pt x="39" y="0"/>
                  </a:lnTo>
                  <a:lnTo>
                    <a:pt x="48" y="17"/>
                  </a:lnTo>
                  <a:lnTo>
                    <a:pt x="0" y="17"/>
                  </a:lnTo>
                  <a:lnTo>
                    <a:pt x="0" y="26"/>
                  </a:lnTo>
                  <a:lnTo>
                    <a:pt x="8" y="35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960640" y="851040"/>
              <a:ext cx="59040" cy="86040"/>
            </a:xfrm>
            <a:custGeom>
              <a:avLst/>
              <a:gdLst/>
              <a:ahLst/>
              <a:rect l="0" t="0" r="r" b="b"/>
              <a:pathLst>
                <a:path w="164" h="239">
                  <a:moveTo>
                    <a:pt x="111" y="0"/>
                  </a:moveTo>
                  <a:lnTo>
                    <a:pt x="111" y="0"/>
                  </a:lnTo>
                  <a:lnTo>
                    <a:pt x="26" y="48"/>
                  </a:lnTo>
                  <a:lnTo>
                    <a:pt x="17" y="105"/>
                  </a:lnTo>
                  <a:lnTo>
                    <a:pt x="0" y="172"/>
                  </a:lnTo>
                  <a:lnTo>
                    <a:pt x="0" y="239"/>
                  </a:lnTo>
                  <a:lnTo>
                    <a:pt x="89" y="239"/>
                  </a:lnTo>
                  <a:lnTo>
                    <a:pt x="89" y="172"/>
                  </a:lnTo>
                  <a:lnTo>
                    <a:pt x="89" y="105"/>
                  </a:lnTo>
                  <a:lnTo>
                    <a:pt x="120" y="57"/>
                  </a:lnTo>
                  <a:lnTo>
                    <a:pt x="164" y="39"/>
                  </a:lnTo>
                  <a:lnTo>
                    <a:pt x="164" y="39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1040" bIns="41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978280" y="847800"/>
              <a:ext cx="168480" cy="79560"/>
            </a:xfrm>
            <a:custGeom>
              <a:avLst/>
              <a:gdLst/>
              <a:ahLst/>
              <a:rect l="0" t="0" r="r" b="b"/>
              <a:pathLst>
                <a:path w="468" h="221">
                  <a:moveTo>
                    <a:pt x="437" y="190"/>
                  </a:moveTo>
                  <a:lnTo>
                    <a:pt x="468" y="195"/>
                  </a:lnTo>
                  <a:lnTo>
                    <a:pt x="415" y="137"/>
                  </a:lnTo>
                  <a:lnTo>
                    <a:pt x="358" y="97"/>
                  </a:lnTo>
                  <a:lnTo>
                    <a:pt x="296" y="57"/>
                  </a:lnTo>
                  <a:lnTo>
                    <a:pt x="224" y="30"/>
                  </a:lnTo>
                  <a:lnTo>
                    <a:pt x="163" y="17"/>
                  </a:lnTo>
                  <a:lnTo>
                    <a:pt x="92" y="0"/>
                  </a:lnTo>
                  <a:lnTo>
                    <a:pt x="52" y="0"/>
                  </a:lnTo>
                  <a:lnTo>
                    <a:pt x="0" y="8"/>
                  </a:lnTo>
                  <a:lnTo>
                    <a:pt x="30" y="48"/>
                  </a:lnTo>
                  <a:lnTo>
                    <a:pt x="52" y="39"/>
                  </a:lnTo>
                  <a:lnTo>
                    <a:pt x="92" y="39"/>
                  </a:lnTo>
                  <a:lnTo>
                    <a:pt x="154" y="48"/>
                  </a:lnTo>
                  <a:lnTo>
                    <a:pt x="211" y="74"/>
                  </a:lnTo>
                  <a:lnTo>
                    <a:pt x="274" y="97"/>
                  </a:lnTo>
                  <a:lnTo>
                    <a:pt x="327" y="124"/>
                  </a:lnTo>
                  <a:lnTo>
                    <a:pt x="389" y="164"/>
                  </a:lnTo>
                  <a:lnTo>
                    <a:pt x="415" y="212"/>
                  </a:lnTo>
                  <a:lnTo>
                    <a:pt x="437" y="221"/>
                  </a:lnTo>
                  <a:lnTo>
                    <a:pt x="415" y="212"/>
                  </a:lnTo>
                  <a:lnTo>
                    <a:pt x="428" y="221"/>
                  </a:lnTo>
                  <a:lnTo>
                    <a:pt x="437" y="221"/>
                  </a:lnTo>
                  <a:lnTo>
                    <a:pt x="437" y="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133800" y="915840"/>
              <a:ext cx="171720" cy="101880"/>
            </a:xfrm>
            <a:custGeom>
              <a:avLst/>
              <a:gdLst/>
              <a:ahLst/>
              <a:rect l="0" t="0" r="r" b="b"/>
              <a:pathLst>
                <a:path w="477" h="283">
                  <a:moveTo>
                    <a:pt x="477" y="265"/>
                  </a:moveTo>
                  <a:lnTo>
                    <a:pt x="477" y="265"/>
                  </a:lnTo>
                  <a:lnTo>
                    <a:pt x="437" y="208"/>
                  </a:lnTo>
                  <a:lnTo>
                    <a:pt x="375" y="155"/>
                  </a:lnTo>
                  <a:lnTo>
                    <a:pt x="314" y="114"/>
                  </a:lnTo>
                  <a:lnTo>
                    <a:pt x="252" y="70"/>
                  </a:lnTo>
                  <a:lnTo>
                    <a:pt x="180" y="39"/>
                  </a:lnTo>
                  <a:lnTo>
                    <a:pt x="119" y="22"/>
                  </a:lnTo>
                  <a:lnTo>
                    <a:pt x="61" y="8"/>
                  </a:lnTo>
                  <a:lnTo>
                    <a:pt x="0" y="0"/>
                  </a:lnTo>
                  <a:lnTo>
                    <a:pt x="0" y="30"/>
                  </a:lnTo>
                  <a:lnTo>
                    <a:pt x="48" y="39"/>
                  </a:lnTo>
                  <a:lnTo>
                    <a:pt x="110" y="57"/>
                  </a:lnTo>
                  <a:lnTo>
                    <a:pt x="163" y="79"/>
                  </a:lnTo>
                  <a:lnTo>
                    <a:pt x="233" y="105"/>
                  </a:lnTo>
                  <a:lnTo>
                    <a:pt x="283" y="136"/>
                  </a:lnTo>
                  <a:lnTo>
                    <a:pt x="344" y="177"/>
                  </a:lnTo>
                  <a:lnTo>
                    <a:pt x="384" y="225"/>
                  </a:lnTo>
                  <a:lnTo>
                    <a:pt x="424" y="283"/>
                  </a:lnTo>
                  <a:lnTo>
                    <a:pt x="424" y="274"/>
                  </a:lnTo>
                  <a:lnTo>
                    <a:pt x="477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89320" y="1009800"/>
              <a:ext cx="59040" cy="87840"/>
            </a:xfrm>
            <a:custGeom>
              <a:avLst/>
              <a:gdLst/>
              <a:ahLst/>
              <a:rect l="0" t="0" r="r" b="b"/>
              <a:pathLst>
                <a:path w="164" h="244">
                  <a:moveTo>
                    <a:pt x="164" y="240"/>
                  </a:moveTo>
                  <a:lnTo>
                    <a:pt x="164" y="231"/>
                  </a:lnTo>
                  <a:lnTo>
                    <a:pt x="133" y="172"/>
                  </a:lnTo>
                  <a:lnTo>
                    <a:pt x="102" y="124"/>
                  </a:lnTo>
                  <a:lnTo>
                    <a:pt x="70" y="57"/>
                  </a:lnTo>
                  <a:lnTo>
                    <a:pt x="48" y="0"/>
                  </a:lnTo>
                  <a:lnTo>
                    <a:pt x="0" y="8"/>
                  </a:lnTo>
                  <a:lnTo>
                    <a:pt x="26" y="67"/>
                  </a:lnTo>
                  <a:lnTo>
                    <a:pt x="48" y="133"/>
                  </a:lnTo>
                  <a:lnTo>
                    <a:pt x="89" y="196"/>
                  </a:lnTo>
                  <a:lnTo>
                    <a:pt x="120" y="244"/>
                  </a:lnTo>
                  <a:lnTo>
                    <a:pt x="120" y="244"/>
                  </a:lnTo>
                  <a:lnTo>
                    <a:pt x="164" y="2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2840" bIns="42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330720" y="1095480"/>
              <a:ext cx="76680" cy="103680"/>
            </a:xfrm>
            <a:custGeom>
              <a:avLst/>
              <a:gdLst/>
              <a:ahLst/>
              <a:rect l="0" t="0" r="r" b="b"/>
              <a:pathLst>
                <a:path w="213" h="288">
                  <a:moveTo>
                    <a:pt x="173" y="284"/>
                  </a:moveTo>
                  <a:lnTo>
                    <a:pt x="213" y="275"/>
                  </a:lnTo>
                  <a:lnTo>
                    <a:pt x="204" y="248"/>
                  </a:lnTo>
                  <a:lnTo>
                    <a:pt x="182" y="226"/>
                  </a:lnTo>
                  <a:lnTo>
                    <a:pt x="159" y="190"/>
                  </a:lnTo>
                  <a:lnTo>
                    <a:pt x="133" y="142"/>
                  </a:lnTo>
                  <a:lnTo>
                    <a:pt x="102" y="102"/>
                  </a:lnTo>
                  <a:lnTo>
                    <a:pt x="80" y="57"/>
                  </a:lnTo>
                  <a:lnTo>
                    <a:pt x="62" y="26"/>
                  </a:lnTo>
                  <a:lnTo>
                    <a:pt x="39" y="0"/>
                  </a:lnTo>
                  <a:lnTo>
                    <a:pt x="0" y="8"/>
                  </a:lnTo>
                  <a:lnTo>
                    <a:pt x="8" y="44"/>
                  </a:lnTo>
                  <a:lnTo>
                    <a:pt x="39" y="75"/>
                  </a:lnTo>
                  <a:lnTo>
                    <a:pt x="62" y="124"/>
                  </a:lnTo>
                  <a:lnTo>
                    <a:pt x="89" y="168"/>
                  </a:lnTo>
                  <a:lnTo>
                    <a:pt x="111" y="208"/>
                  </a:lnTo>
                  <a:lnTo>
                    <a:pt x="133" y="240"/>
                  </a:lnTo>
                  <a:lnTo>
                    <a:pt x="159" y="275"/>
                  </a:lnTo>
                  <a:lnTo>
                    <a:pt x="173" y="288"/>
                  </a:lnTo>
                  <a:lnTo>
                    <a:pt x="213" y="275"/>
                  </a:lnTo>
                  <a:lnTo>
                    <a:pt x="173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373560" y="1084320"/>
              <a:ext cx="59040" cy="111600"/>
            </a:xfrm>
            <a:custGeom>
              <a:avLst/>
              <a:gdLst/>
              <a:ahLst/>
              <a:rect l="0" t="0" r="r" b="b"/>
              <a:pathLst>
                <a:path w="164" h="310">
                  <a:moveTo>
                    <a:pt x="26" y="30"/>
                  </a:moveTo>
                  <a:lnTo>
                    <a:pt x="8" y="17"/>
                  </a:lnTo>
                  <a:lnTo>
                    <a:pt x="0" y="89"/>
                  </a:lnTo>
                  <a:lnTo>
                    <a:pt x="26" y="155"/>
                  </a:lnTo>
                  <a:lnTo>
                    <a:pt x="57" y="235"/>
                  </a:lnTo>
                  <a:lnTo>
                    <a:pt x="102" y="310"/>
                  </a:lnTo>
                  <a:lnTo>
                    <a:pt x="164" y="301"/>
                  </a:lnTo>
                  <a:lnTo>
                    <a:pt x="111" y="230"/>
                  </a:lnTo>
                  <a:lnTo>
                    <a:pt x="79" y="155"/>
                  </a:lnTo>
                  <a:lnTo>
                    <a:pt x="79" y="89"/>
                  </a:lnTo>
                  <a:lnTo>
                    <a:pt x="79" y="17"/>
                  </a:lnTo>
                  <a:lnTo>
                    <a:pt x="57" y="0"/>
                  </a:lnTo>
                  <a:lnTo>
                    <a:pt x="79" y="17"/>
                  </a:lnTo>
                  <a:lnTo>
                    <a:pt x="79" y="8"/>
                  </a:lnTo>
                  <a:lnTo>
                    <a:pt x="57" y="0"/>
                  </a:lnTo>
                  <a:lnTo>
                    <a:pt x="2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87880" y="1011240"/>
              <a:ext cx="95760" cy="84600"/>
            </a:xfrm>
            <a:custGeom>
              <a:avLst/>
              <a:gdLst/>
              <a:ahLst/>
              <a:rect l="0" t="0" r="r" b="b"/>
              <a:pathLst>
                <a:path w="266" h="235">
                  <a:moveTo>
                    <a:pt x="0" y="8"/>
                  </a:moveTo>
                  <a:lnTo>
                    <a:pt x="0" y="8"/>
                  </a:lnTo>
                  <a:lnTo>
                    <a:pt x="22" y="48"/>
                  </a:lnTo>
                  <a:lnTo>
                    <a:pt x="39" y="93"/>
                  </a:lnTo>
                  <a:lnTo>
                    <a:pt x="71" y="124"/>
                  </a:lnTo>
                  <a:lnTo>
                    <a:pt x="102" y="155"/>
                  </a:lnTo>
                  <a:lnTo>
                    <a:pt x="133" y="172"/>
                  </a:lnTo>
                  <a:lnTo>
                    <a:pt x="172" y="196"/>
                  </a:lnTo>
                  <a:lnTo>
                    <a:pt x="213" y="222"/>
                  </a:lnTo>
                  <a:lnTo>
                    <a:pt x="244" y="235"/>
                  </a:lnTo>
                  <a:lnTo>
                    <a:pt x="266" y="204"/>
                  </a:lnTo>
                  <a:lnTo>
                    <a:pt x="235" y="182"/>
                  </a:lnTo>
                  <a:lnTo>
                    <a:pt x="204" y="172"/>
                  </a:lnTo>
                  <a:lnTo>
                    <a:pt x="172" y="146"/>
                  </a:lnTo>
                  <a:lnTo>
                    <a:pt x="133" y="124"/>
                  </a:lnTo>
                  <a:lnTo>
                    <a:pt x="111" y="98"/>
                  </a:lnTo>
                  <a:lnTo>
                    <a:pt x="80" y="75"/>
                  </a:lnTo>
                  <a:lnTo>
                    <a:pt x="71" y="44"/>
                  </a:lnTo>
                  <a:lnTo>
                    <a:pt x="52" y="0"/>
                  </a:lnTo>
                  <a:lnTo>
                    <a:pt x="52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289320" y="965160"/>
              <a:ext cx="132120" cy="51120"/>
            </a:xfrm>
            <a:custGeom>
              <a:avLst/>
              <a:gdLst/>
              <a:ahLst/>
              <a:rect l="0" t="0" r="r" b="b"/>
              <a:pathLst>
                <a:path w="367" h="142">
                  <a:moveTo>
                    <a:pt x="367" y="17"/>
                  </a:moveTo>
                  <a:lnTo>
                    <a:pt x="367" y="17"/>
                  </a:lnTo>
                  <a:lnTo>
                    <a:pt x="305" y="8"/>
                  </a:lnTo>
                  <a:lnTo>
                    <a:pt x="252" y="0"/>
                  </a:lnTo>
                  <a:lnTo>
                    <a:pt x="203" y="8"/>
                  </a:lnTo>
                  <a:lnTo>
                    <a:pt x="127" y="17"/>
                  </a:lnTo>
                  <a:lnTo>
                    <a:pt x="79" y="30"/>
                  </a:lnTo>
                  <a:lnTo>
                    <a:pt x="39" y="57"/>
                  </a:lnTo>
                  <a:lnTo>
                    <a:pt x="8" y="102"/>
                  </a:lnTo>
                  <a:lnTo>
                    <a:pt x="0" y="142"/>
                  </a:lnTo>
                  <a:lnTo>
                    <a:pt x="48" y="142"/>
                  </a:lnTo>
                  <a:lnTo>
                    <a:pt x="48" y="106"/>
                  </a:lnTo>
                  <a:lnTo>
                    <a:pt x="70" y="93"/>
                  </a:lnTo>
                  <a:lnTo>
                    <a:pt x="110" y="66"/>
                  </a:lnTo>
                  <a:lnTo>
                    <a:pt x="149" y="57"/>
                  </a:lnTo>
                  <a:lnTo>
                    <a:pt x="203" y="39"/>
                  </a:lnTo>
                  <a:lnTo>
                    <a:pt x="252" y="48"/>
                  </a:lnTo>
                  <a:lnTo>
                    <a:pt x="305" y="39"/>
                  </a:lnTo>
                  <a:lnTo>
                    <a:pt x="344" y="57"/>
                  </a:lnTo>
                  <a:lnTo>
                    <a:pt x="344" y="57"/>
                  </a:lnTo>
                  <a:lnTo>
                    <a:pt x="36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411360" y="971640"/>
              <a:ext cx="82800" cy="46440"/>
            </a:xfrm>
            <a:custGeom>
              <a:avLst/>
              <a:gdLst/>
              <a:ahLst/>
              <a:rect l="0" t="0" r="r" b="b"/>
              <a:pathLst>
                <a:path w="230" h="129">
                  <a:moveTo>
                    <a:pt x="230" y="89"/>
                  </a:moveTo>
                  <a:lnTo>
                    <a:pt x="230" y="89"/>
                  </a:lnTo>
                  <a:lnTo>
                    <a:pt x="208" y="84"/>
                  </a:lnTo>
                  <a:lnTo>
                    <a:pt x="199" y="75"/>
                  </a:lnTo>
                  <a:lnTo>
                    <a:pt x="168" y="67"/>
                  </a:lnTo>
                  <a:lnTo>
                    <a:pt x="150" y="49"/>
                  </a:lnTo>
                  <a:lnTo>
                    <a:pt x="120" y="45"/>
                  </a:lnTo>
                  <a:lnTo>
                    <a:pt x="79" y="26"/>
                  </a:lnTo>
                  <a:lnTo>
                    <a:pt x="48" y="17"/>
                  </a:lnTo>
                  <a:lnTo>
                    <a:pt x="17" y="0"/>
                  </a:lnTo>
                  <a:lnTo>
                    <a:pt x="0" y="45"/>
                  </a:lnTo>
                  <a:lnTo>
                    <a:pt x="39" y="49"/>
                  </a:lnTo>
                  <a:lnTo>
                    <a:pt x="70" y="58"/>
                  </a:lnTo>
                  <a:lnTo>
                    <a:pt x="97" y="75"/>
                  </a:lnTo>
                  <a:lnTo>
                    <a:pt x="128" y="89"/>
                  </a:lnTo>
                  <a:lnTo>
                    <a:pt x="150" y="107"/>
                  </a:lnTo>
                  <a:lnTo>
                    <a:pt x="168" y="116"/>
                  </a:lnTo>
                  <a:lnTo>
                    <a:pt x="199" y="129"/>
                  </a:lnTo>
                  <a:lnTo>
                    <a:pt x="221" y="129"/>
                  </a:lnTo>
                  <a:lnTo>
                    <a:pt x="221" y="129"/>
                  </a:lnTo>
                  <a:lnTo>
                    <a:pt x="23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494160" y="1001880"/>
              <a:ext cx="59040" cy="47880"/>
            </a:xfrm>
            <a:custGeom>
              <a:avLst/>
              <a:gdLst/>
              <a:ahLst/>
              <a:rect l="0" t="0" r="r" b="b"/>
              <a:pathLst>
                <a:path w="164" h="133">
                  <a:moveTo>
                    <a:pt x="133" y="75"/>
                  </a:moveTo>
                  <a:lnTo>
                    <a:pt x="164" y="93"/>
                  </a:lnTo>
                  <a:lnTo>
                    <a:pt x="133" y="67"/>
                  </a:lnTo>
                  <a:lnTo>
                    <a:pt x="89" y="39"/>
                  </a:lnTo>
                  <a:lnTo>
                    <a:pt x="48" y="26"/>
                  </a:lnTo>
                  <a:lnTo>
                    <a:pt x="8" y="0"/>
                  </a:lnTo>
                  <a:lnTo>
                    <a:pt x="0" y="39"/>
                  </a:lnTo>
                  <a:lnTo>
                    <a:pt x="26" y="67"/>
                  </a:lnTo>
                  <a:lnTo>
                    <a:pt x="48" y="75"/>
                  </a:lnTo>
                  <a:lnTo>
                    <a:pt x="79" y="98"/>
                  </a:lnTo>
                  <a:lnTo>
                    <a:pt x="111" y="124"/>
                  </a:lnTo>
                  <a:lnTo>
                    <a:pt x="133" y="133"/>
                  </a:lnTo>
                  <a:lnTo>
                    <a:pt x="111" y="124"/>
                  </a:lnTo>
                  <a:lnTo>
                    <a:pt x="120" y="133"/>
                  </a:lnTo>
                  <a:lnTo>
                    <a:pt x="133" y="133"/>
                  </a:lnTo>
                  <a:lnTo>
                    <a:pt x="133" y="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533760" y="1022400"/>
              <a:ext cx="59040" cy="47880"/>
            </a:xfrm>
            <a:custGeom>
              <a:avLst/>
              <a:gdLst/>
              <a:ahLst/>
              <a:rect l="0" t="0" r="r" b="b"/>
              <a:pathLst>
                <a:path w="164" h="133">
                  <a:moveTo>
                    <a:pt x="164" y="48"/>
                  </a:moveTo>
                  <a:lnTo>
                    <a:pt x="164" y="48"/>
                  </a:lnTo>
                  <a:lnTo>
                    <a:pt x="111" y="30"/>
                  </a:lnTo>
                  <a:lnTo>
                    <a:pt x="70" y="17"/>
                  </a:lnTo>
                  <a:lnTo>
                    <a:pt x="39" y="17"/>
                  </a:lnTo>
                  <a:lnTo>
                    <a:pt x="0" y="0"/>
                  </a:lnTo>
                  <a:lnTo>
                    <a:pt x="0" y="84"/>
                  </a:lnTo>
                  <a:lnTo>
                    <a:pt x="39" y="84"/>
                  </a:lnTo>
                  <a:lnTo>
                    <a:pt x="70" y="98"/>
                  </a:lnTo>
                  <a:lnTo>
                    <a:pt x="102" y="115"/>
                  </a:lnTo>
                  <a:lnTo>
                    <a:pt x="142" y="133"/>
                  </a:lnTo>
                  <a:lnTo>
                    <a:pt x="142" y="133"/>
                  </a:lnTo>
                  <a:lnTo>
                    <a:pt x="164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578400" y="1031760"/>
              <a:ext cx="114840" cy="84600"/>
            </a:xfrm>
            <a:custGeom>
              <a:avLst/>
              <a:gdLst/>
              <a:ahLst/>
              <a:rect l="0" t="0" r="r" b="b"/>
              <a:pathLst>
                <a:path w="319" h="235">
                  <a:moveTo>
                    <a:pt x="319" y="196"/>
                  </a:moveTo>
                  <a:lnTo>
                    <a:pt x="319" y="196"/>
                  </a:lnTo>
                  <a:lnTo>
                    <a:pt x="279" y="172"/>
                  </a:lnTo>
                  <a:lnTo>
                    <a:pt x="234" y="146"/>
                  </a:lnTo>
                  <a:lnTo>
                    <a:pt x="195" y="115"/>
                  </a:lnTo>
                  <a:lnTo>
                    <a:pt x="164" y="93"/>
                  </a:lnTo>
                  <a:lnTo>
                    <a:pt x="124" y="67"/>
                  </a:lnTo>
                  <a:lnTo>
                    <a:pt x="93" y="44"/>
                  </a:lnTo>
                  <a:lnTo>
                    <a:pt x="48" y="17"/>
                  </a:lnTo>
                  <a:lnTo>
                    <a:pt x="8" y="0"/>
                  </a:lnTo>
                  <a:lnTo>
                    <a:pt x="0" y="44"/>
                  </a:lnTo>
                  <a:lnTo>
                    <a:pt x="30" y="48"/>
                  </a:lnTo>
                  <a:lnTo>
                    <a:pt x="61" y="67"/>
                  </a:lnTo>
                  <a:lnTo>
                    <a:pt x="93" y="93"/>
                  </a:lnTo>
                  <a:lnTo>
                    <a:pt x="124" y="115"/>
                  </a:lnTo>
                  <a:lnTo>
                    <a:pt x="164" y="146"/>
                  </a:lnTo>
                  <a:lnTo>
                    <a:pt x="203" y="172"/>
                  </a:lnTo>
                  <a:lnTo>
                    <a:pt x="248" y="204"/>
                  </a:lnTo>
                  <a:lnTo>
                    <a:pt x="297" y="235"/>
                  </a:lnTo>
                  <a:lnTo>
                    <a:pt x="297" y="235"/>
                  </a:lnTo>
                  <a:lnTo>
                    <a:pt x="319" y="19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686040" y="1100160"/>
              <a:ext cx="174960" cy="176400"/>
            </a:xfrm>
            <a:custGeom>
              <a:avLst/>
              <a:gdLst/>
              <a:ahLst/>
              <a:rect l="0" t="0" r="r" b="b"/>
              <a:pathLst>
                <a:path w="486" h="490">
                  <a:moveTo>
                    <a:pt x="446" y="353"/>
                  </a:moveTo>
                  <a:lnTo>
                    <a:pt x="486" y="344"/>
                  </a:lnTo>
                  <a:lnTo>
                    <a:pt x="455" y="265"/>
                  </a:lnTo>
                  <a:lnTo>
                    <a:pt x="406" y="198"/>
                  </a:lnTo>
                  <a:lnTo>
                    <a:pt x="344" y="149"/>
                  </a:lnTo>
                  <a:lnTo>
                    <a:pt x="274" y="110"/>
                  </a:lnTo>
                  <a:lnTo>
                    <a:pt x="211" y="74"/>
                  </a:lnTo>
                  <a:lnTo>
                    <a:pt x="141" y="52"/>
                  </a:lnTo>
                  <a:lnTo>
                    <a:pt x="79" y="26"/>
                  </a:lnTo>
                  <a:lnTo>
                    <a:pt x="22" y="0"/>
                  </a:lnTo>
                  <a:lnTo>
                    <a:pt x="0" y="44"/>
                  </a:lnTo>
                  <a:lnTo>
                    <a:pt x="48" y="57"/>
                  </a:lnTo>
                  <a:lnTo>
                    <a:pt x="123" y="92"/>
                  </a:lnTo>
                  <a:lnTo>
                    <a:pt x="180" y="114"/>
                  </a:lnTo>
                  <a:lnTo>
                    <a:pt x="252" y="149"/>
                  </a:lnTo>
                  <a:lnTo>
                    <a:pt x="314" y="180"/>
                  </a:lnTo>
                  <a:lnTo>
                    <a:pt x="367" y="220"/>
                  </a:lnTo>
                  <a:lnTo>
                    <a:pt x="406" y="278"/>
                  </a:lnTo>
                  <a:lnTo>
                    <a:pt x="446" y="353"/>
                  </a:lnTo>
                  <a:lnTo>
                    <a:pt x="486" y="353"/>
                  </a:lnTo>
                  <a:lnTo>
                    <a:pt x="446" y="353"/>
                  </a:lnTo>
                  <a:lnTo>
                    <a:pt x="477" y="490"/>
                  </a:lnTo>
                  <a:lnTo>
                    <a:pt x="486" y="353"/>
                  </a:lnTo>
                  <a:lnTo>
                    <a:pt x="446" y="3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3848040" y="1092240"/>
              <a:ext cx="59040" cy="136800"/>
            </a:xfrm>
            <a:custGeom>
              <a:avLst/>
              <a:gdLst/>
              <a:ahLst/>
              <a:rect l="0" t="0" r="r" b="b"/>
              <a:pathLst>
                <a:path w="164" h="380">
                  <a:moveTo>
                    <a:pt x="120" y="8"/>
                  </a:moveTo>
                  <a:lnTo>
                    <a:pt x="120" y="0"/>
                  </a:lnTo>
                  <a:lnTo>
                    <a:pt x="89" y="57"/>
                  </a:lnTo>
                  <a:lnTo>
                    <a:pt x="48" y="154"/>
                  </a:lnTo>
                  <a:lnTo>
                    <a:pt x="17" y="274"/>
                  </a:lnTo>
                  <a:lnTo>
                    <a:pt x="0" y="380"/>
                  </a:lnTo>
                  <a:lnTo>
                    <a:pt x="39" y="380"/>
                  </a:lnTo>
                  <a:lnTo>
                    <a:pt x="57" y="274"/>
                  </a:lnTo>
                  <a:lnTo>
                    <a:pt x="89" y="167"/>
                  </a:lnTo>
                  <a:lnTo>
                    <a:pt x="133" y="70"/>
                  </a:lnTo>
                  <a:lnTo>
                    <a:pt x="164" y="22"/>
                  </a:lnTo>
                  <a:lnTo>
                    <a:pt x="164" y="22"/>
                  </a:lnTo>
                  <a:lnTo>
                    <a:pt x="12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895560" y="1049400"/>
              <a:ext cx="59040" cy="49680"/>
            </a:xfrm>
            <a:custGeom>
              <a:avLst/>
              <a:gdLst/>
              <a:ahLst/>
              <a:rect l="0" t="0" r="r" b="b"/>
              <a:pathLst>
                <a:path w="164" h="138">
                  <a:moveTo>
                    <a:pt x="70" y="0"/>
                  </a:moveTo>
                  <a:lnTo>
                    <a:pt x="79" y="0"/>
                  </a:lnTo>
                  <a:lnTo>
                    <a:pt x="70" y="26"/>
                  </a:lnTo>
                  <a:lnTo>
                    <a:pt x="57" y="58"/>
                  </a:lnTo>
                  <a:lnTo>
                    <a:pt x="8" y="89"/>
                  </a:lnTo>
                  <a:lnTo>
                    <a:pt x="0" y="125"/>
                  </a:lnTo>
                  <a:lnTo>
                    <a:pt x="57" y="138"/>
                  </a:lnTo>
                  <a:lnTo>
                    <a:pt x="79" y="107"/>
                  </a:lnTo>
                  <a:lnTo>
                    <a:pt x="111" y="67"/>
                  </a:lnTo>
                  <a:lnTo>
                    <a:pt x="133" y="36"/>
                  </a:lnTo>
                  <a:lnTo>
                    <a:pt x="164" y="0"/>
                  </a:lnTo>
                  <a:lnTo>
                    <a:pt x="164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909960" y="982800"/>
              <a:ext cx="59040" cy="65520"/>
            </a:xfrm>
            <a:custGeom>
              <a:avLst/>
              <a:gdLst/>
              <a:ahLst/>
              <a:rect l="0" t="0" r="r" b="b"/>
              <a:pathLst>
                <a:path w="164" h="182">
                  <a:moveTo>
                    <a:pt x="102" y="0"/>
                  </a:moveTo>
                  <a:lnTo>
                    <a:pt x="102" y="0"/>
                  </a:lnTo>
                  <a:lnTo>
                    <a:pt x="48" y="53"/>
                  </a:lnTo>
                  <a:lnTo>
                    <a:pt x="26" y="102"/>
                  </a:lnTo>
                  <a:lnTo>
                    <a:pt x="17" y="151"/>
                  </a:lnTo>
                  <a:lnTo>
                    <a:pt x="0" y="182"/>
                  </a:lnTo>
                  <a:lnTo>
                    <a:pt x="102" y="182"/>
                  </a:lnTo>
                  <a:lnTo>
                    <a:pt x="102" y="151"/>
                  </a:lnTo>
                  <a:lnTo>
                    <a:pt x="111" y="102"/>
                  </a:lnTo>
                  <a:lnTo>
                    <a:pt x="133" y="62"/>
                  </a:lnTo>
                  <a:lnTo>
                    <a:pt x="164" y="17"/>
                  </a:lnTo>
                  <a:lnTo>
                    <a:pt x="164" y="17"/>
                  </a:lnTo>
                  <a:lnTo>
                    <a:pt x="10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0520" bIns="20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930480" y="949320"/>
              <a:ext cx="117720" cy="47880"/>
            </a:xfrm>
            <a:custGeom>
              <a:avLst/>
              <a:gdLst/>
              <a:ahLst/>
              <a:rect l="0" t="0" r="r" b="b"/>
              <a:pathLst>
                <a:path w="327" h="133">
                  <a:moveTo>
                    <a:pt x="327" y="57"/>
                  </a:moveTo>
                  <a:lnTo>
                    <a:pt x="327" y="8"/>
                  </a:lnTo>
                  <a:lnTo>
                    <a:pt x="287" y="0"/>
                  </a:lnTo>
                  <a:lnTo>
                    <a:pt x="247" y="0"/>
                  </a:lnTo>
                  <a:lnTo>
                    <a:pt x="203" y="0"/>
                  </a:lnTo>
                  <a:lnTo>
                    <a:pt x="154" y="8"/>
                  </a:lnTo>
                  <a:lnTo>
                    <a:pt x="110" y="26"/>
                  </a:lnTo>
                  <a:lnTo>
                    <a:pt x="70" y="39"/>
                  </a:lnTo>
                  <a:lnTo>
                    <a:pt x="30" y="75"/>
                  </a:lnTo>
                  <a:lnTo>
                    <a:pt x="0" y="115"/>
                  </a:lnTo>
                  <a:lnTo>
                    <a:pt x="39" y="133"/>
                  </a:lnTo>
                  <a:lnTo>
                    <a:pt x="61" y="106"/>
                  </a:lnTo>
                  <a:lnTo>
                    <a:pt x="92" y="84"/>
                  </a:lnTo>
                  <a:lnTo>
                    <a:pt x="132" y="67"/>
                  </a:lnTo>
                  <a:lnTo>
                    <a:pt x="172" y="48"/>
                  </a:lnTo>
                  <a:lnTo>
                    <a:pt x="203" y="48"/>
                  </a:lnTo>
                  <a:lnTo>
                    <a:pt x="247" y="48"/>
                  </a:lnTo>
                  <a:lnTo>
                    <a:pt x="287" y="48"/>
                  </a:lnTo>
                  <a:lnTo>
                    <a:pt x="327" y="48"/>
                  </a:lnTo>
                  <a:lnTo>
                    <a:pt x="327" y="0"/>
                  </a:lnTo>
                  <a:lnTo>
                    <a:pt x="327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976560" y="947880"/>
              <a:ext cx="70200" cy="52920"/>
            </a:xfrm>
            <a:custGeom>
              <a:avLst/>
              <a:gdLst/>
              <a:ahLst/>
              <a:rect l="0" t="0" r="r" b="b"/>
              <a:pathLst>
                <a:path w="195" h="147">
                  <a:moveTo>
                    <a:pt x="39" y="147"/>
                  </a:moveTo>
                  <a:lnTo>
                    <a:pt x="39" y="147"/>
                  </a:lnTo>
                  <a:lnTo>
                    <a:pt x="48" y="134"/>
                  </a:lnTo>
                  <a:lnTo>
                    <a:pt x="70" y="116"/>
                  </a:lnTo>
                  <a:lnTo>
                    <a:pt x="102" y="98"/>
                  </a:lnTo>
                  <a:lnTo>
                    <a:pt x="124" y="84"/>
                  </a:lnTo>
                  <a:lnTo>
                    <a:pt x="142" y="67"/>
                  </a:lnTo>
                  <a:lnTo>
                    <a:pt x="164" y="58"/>
                  </a:lnTo>
                  <a:lnTo>
                    <a:pt x="186" y="49"/>
                  </a:lnTo>
                  <a:lnTo>
                    <a:pt x="195" y="49"/>
                  </a:lnTo>
                  <a:lnTo>
                    <a:pt x="195" y="0"/>
                  </a:lnTo>
                  <a:lnTo>
                    <a:pt x="172" y="8"/>
                  </a:lnTo>
                  <a:lnTo>
                    <a:pt x="142" y="26"/>
                  </a:lnTo>
                  <a:lnTo>
                    <a:pt x="111" y="35"/>
                  </a:lnTo>
                  <a:lnTo>
                    <a:pt x="92" y="58"/>
                  </a:lnTo>
                  <a:lnTo>
                    <a:pt x="61" y="75"/>
                  </a:lnTo>
                  <a:lnTo>
                    <a:pt x="39" y="84"/>
                  </a:lnTo>
                  <a:lnTo>
                    <a:pt x="17" y="106"/>
                  </a:lnTo>
                  <a:lnTo>
                    <a:pt x="0" y="116"/>
                  </a:lnTo>
                  <a:lnTo>
                    <a:pt x="0" y="116"/>
                  </a:lnTo>
                  <a:lnTo>
                    <a:pt x="39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957480" y="990720"/>
              <a:ext cx="59040" cy="84600"/>
            </a:xfrm>
            <a:custGeom>
              <a:avLst/>
              <a:gdLst/>
              <a:ahLst/>
              <a:rect l="0" t="0" r="r" b="b"/>
              <a:pathLst>
                <a:path w="164" h="235">
                  <a:moveTo>
                    <a:pt x="57" y="235"/>
                  </a:moveTo>
                  <a:lnTo>
                    <a:pt x="57" y="235"/>
                  </a:lnTo>
                  <a:lnTo>
                    <a:pt x="102" y="172"/>
                  </a:lnTo>
                  <a:lnTo>
                    <a:pt x="111" y="115"/>
                  </a:lnTo>
                  <a:lnTo>
                    <a:pt x="133" y="57"/>
                  </a:lnTo>
                  <a:lnTo>
                    <a:pt x="164" y="35"/>
                  </a:lnTo>
                  <a:lnTo>
                    <a:pt x="102" y="0"/>
                  </a:lnTo>
                  <a:lnTo>
                    <a:pt x="48" y="48"/>
                  </a:lnTo>
                  <a:lnTo>
                    <a:pt x="26" y="115"/>
                  </a:lnTo>
                  <a:lnTo>
                    <a:pt x="17" y="172"/>
                  </a:lnTo>
                  <a:lnTo>
                    <a:pt x="0" y="235"/>
                  </a:lnTo>
                  <a:lnTo>
                    <a:pt x="0" y="235"/>
                  </a:lnTo>
                  <a:lnTo>
                    <a:pt x="57" y="2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935520" y="1074600"/>
              <a:ext cx="59040" cy="117720"/>
            </a:xfrm>
            <a:custGeom>
              <a:avLst/>
              <a:gdLst/>
              <a:ahLst/>
              <a:rect l="0" t="0" r="r" b="b"/>
              <a:pathLst>
                <a:path w="164" h="327">
                  <a:moveTo>
                    <a:pt x="79" y="327"/>
                  </a:moveTo>
                  <a:lnTo>
                    <a:pt x="79" y="327"/>
                  </a:lnTo>
                  <a:lnTo>
                    <a:pt x="102" y="252"/>
                  </a:lnTo>
                  <a:lnTo>
                    <a:pt x="133" y="164"/>
                  </a:lnTo>
                  <a:lnTo>
                    <a:pt x="142" y="74"/>
                  </a:lnTo>
                  <a:lnTo>
                    <a:pt x="164" y="0"/>
                  </a:lnTo>
                  <a:lnTo>
                    <a:pt x="102" y="0"/>
                  </a:lnTo>
                  <a:lnTo>
                    <a:pt x="79" y="74"/>
                  </a:lnTo>
                  <a:lnTo>
                    <a:pt x="57" y="164"/>
                  </a:lnTo>
                  <a:lnTo>
                    <a:pt x="26" y="252"/>
                  </a:lnTo>
                  <a:lnTo>
                    <a:pt x="0" y="318"/>
                  </a:lnTo>
                  <a:lnTo>
                    <a:pt x="0" y="318"/>
                  </a:lnTo>
                  <a:lnTo>
                    <a:pt x="79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886200" y="1187280"/>
              <a:ext cx="66960" cy="128880"/>
            </a:xfrm>
            <a:custGeom>
              <a:avLst/>
              <a:gdLst/>
              <a:ahLst/>
              <a:rect l="0" t="0" r="r" b="b"/>
              <a:pathLst>
                <a:path w="186" h="358">
                  <a:moveTo>
                    <a:pt x="22" y="358"/>
                  </a:moveTo>
                  <a:lnTo>
                    <a:pt x="52" y="344"/>
                  </a:lnTo>
                  <a:lnTo>
                    <a:pt x="61" y="247"/>
                  </a:lnTo>
                  <a:lnTo>
                    <a:pt x="102" y="149"/>
                  </a:lnTo>
                  <a:lnTo>
                    <a:pt x="146" y="74"/>
                  </a:lnTo>
                  <a:lnTo>
                    <a:pt x="186" y="8"/>
                  </a:lnTo>
                  <a:lnTo>
                    <a:pt x="133" y="0"/>
                  </a:lnTo>
                  <a:lnTo>
                    <a:pt x="102" y="66"/>
                  </a:lnTo>
                  <a:lnTo>
                    <a:pt x="61" y="141"/>
                  </a:lnTo>
                  <a:lnTo>
                    <a:pt x="22" y="239"/>
                  </a:lnTo>
                  <a:lnTo>
                    <a:pt x="0" y="344"/>
                  </a:lnTo>
                  <a:lnTo>
                    <a:pt x="22" y="318"/>
                  </a:lnTo>
                  <a:lnTo>
                    <a:pt x="22" y="358"/>
                  </a:lnTo>
                  <a:lnTo>
                    <a:pt x="52" y="358"/>
                  </a:lnTo>
                  <a:lnTo>
                    <a:pt x="52" y="344"/>
                  </a:lnTo>
                  <a:lnTo>
                    <a:pt x="22" y="3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73600" y="1303200"/>
              <a:ext cx="59040" cy="47880"/>
            </a:xfrm>
            <a:custGeom>
              <a:avLst/>
              <a:gdLst/>
              <a:ahLst/>
              <a:rect l="0" t="0" r="r" b="b"/>
              <a:pathLst>
                <a:path w="164" h="133">
                  <a:moveTo>
                    <a:pt x="0" y="67"/>
                  </a:moveTo>
                  <a:lnTo>
                    <a:pt x="48" y="133"/>
                  </a:lnTo>
                  <a:lnTo>
                    <a:pt x="164" y="106"/>
                  </a:lnTo>
                  <a:lnTo>
                    <a:pt x="164" y="0"/>
                  </a:lnTo>
                  <a:lnTo>
                    <a:pt x="48" y="26"/>
                  </a:lnTo>
                  <a:lnTo>
                    <a:pt x="120" y="67"/>
                  </a:lnTo>
                  <a:lnTo>
                    <a:pt x="0" y="67"/>
                  </a:lnTo>
                  <a:lnTo>
                    <a:pt x="0" y="133"/>
                  </a:lnTo>
                  <a:lnTo>
                    <a:pt x="48" y="133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836880" y="1217520"/>
              <a:ext cx="59040" cy="93960"/>
            </a:xfrm>
            <a:custGeom>
              <a:avLst/>
              <a:gdLst/>
              <a:ahLst/>
              <a:rect l="0" t="0" r="r" b="b"/>
              <a:pathLst>
                <a:path w="164" h="261">
                  <a:moveTo>
                    <a:pt x="8" y="26"/>
                  </a:moveTo>
                  <a:lnTo>
                    <a:pt x="0" y="26"/>
                  </a:lnTo>
                  <a:lnTo>
                    <a:pt x="26" y="74"/>
                  </a:lnTo>
                  <a:lnTo>
                    <a:pt x="70" y="133"/>
                  </a:lnTo>
                  <a:lnTo>
                    <a:pt x="89" y="199"/>
                  </a:lnTo>
                  <a:lnTo>
                    <a:pt x="102" y="261"/>
                  </a:lnTo>
                  <a:lnTo>
                    <a:pt x="164" y="261"/>
                  </a:lnTo>
                  <a:lnTo>
                    <a:pt x="142" y="199"/>
                  </a:lnTo>
                  <a:lnTo>
                    <a:pt x="133" y="123"/>
                  </a:lnTo>
                  <a:lnTo>
                    <a:pt x="89" y="57"/>
                  </a:lnTo>
                  <a:lnTo>
                    <a:pt x="57" y="0"/>
                  </a:lnTo>
                  <a:lnTo>
                    <a:pt x="48" y="0"/>
                  </a:lnTo>
                  <a:lnTo>
                    <a:pt x="8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662280" y="1166760"/>
              <a:ext cx="189360" cy="59040"/>
            </a:xfrm>
            <a:custGeom>
              <a:avLst/>
              <a:gdLst/>
              <a:ahLst/>
              <a:rect l="0" t="0" r="r" b="b"/>
              <a:pathLst>
                <a:path w="526" h="164">
                  <a:moveTo>
                    <a:pt x="57" y="74"/>
                  </a:moveTo>
                  <a:lnTo>
                    <a:pt x="48" y="102"/>
                  </a:lnTo>
                  <a:lnTo>
                    <a:pt x="127" y="57"/>
                  </a:lnTo>
                  <a:lnTo>
                    <a:pt x="199" y="35"/>
                  </a:lnTo>
                  <a:lnTo>
                    <a:pt x="283" y="35"/>
                  </a:lnTo>
                  <a:lnTo>
                    <a:pt x="331" y="57"/>
                  </a:lnTo>
                  <a:lnTo>
                    <a:pt x="380" y="84"/>
                  </a:lnTo>
                  <a:lnTo>
                    <a:pt x="425" y="111"/>
                  </a:lnTo>
                  <a:lnTo>
                    <a:pt x="465" y="142"/>
                  </a:lnTo>
                  <a:lnTo>
                    <a:pt x="495" y="164"/>
                  </a:lnTo>
                  <a:lnTo>
                    <a:pt x="526" y="142"/>
                  </a:lnTo>
                  <a:lnTo>
                    <a:pt x="504" y="111"/>
                  </a:lnTo>
                  <a:lnTo>
                    <a:pt x="465" y="84"/>
                  </a:lnTo>
                  <a:lnTo>
                    <a:pt x="412" y="44"/>
                  </a:lnTo>
                  <a:lnTo>
                    <a:pt x="353" y="17"/>
                  </a:lnTo>
                  <a:lnTo>
                    <a:pt x="283" y="0"/>
                  </a:lnTo>
                  <a:lnTo>
                    <a:pt x="199" y="0"/>
                  </a:lnTo>
                  <a:lnTo>
                    <a:pt x="110" y="26"/>
                  </a:lnTo>
                  <a:lnTo>
                    <a:pt x="17" y="74"/>
                  </a:lnTo>
                  <a:lnTo>
                    <a:pt x="17" y="102"/>
                  </a:lnTo>
                  <a:lnTo>
                    <a:pt x="17" y="74"/>
                  </a:lnTo>
                  <a:lnTo>
                    <a:pt x="0" y="93"/>
                  </a:lnTo>
                  <a:lnTo>
                    <a:pt x="17" y="102"/>
                  </a:lnTo>
                  <a:lnTo>
                    <a:pt x="57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65520" y="1195560"/>
              <a:ext cx="92520" cy="214560"/>
            </a:xfrm>
            <a:custGeom>
              <a:avLst/>
              <a:gdLst/>
              <a:ahLst/>
              <a:rect l="0" t="0" r="r" b="b"/>
              <a:pathLst>
                <a:path w="257" h="596">
                  <a:moveTo>
                    <a:pt x="226" y="591"/>
                  </a:moveTo>
                  <a:lnTo>
                    <a:pt x="248" y="574"/>
                  </a:lnTo>
                  <a:lnTo>
                    <a:pt x="257" y="486"/>
                  </a:lnTo>
                  <a:lnTo>
                    <a:pt x="235" y="393"/>
                  </a:lnTo>
                  <a:lnTo>
                    <a:pt x="226" y="305"/>
                  </a:lnTo>
                  <a:lnTo>
                    <a:pt x="196" y="229"/>
                  </a:lnTo>
                  <a:lnTo>
                    <a:pt x="155" y="163"/>
                  </a:lnTo>
                  <a:lnTo>
                    <a:pt x="124" y="101"/>
                  </a:lnTo>
                  <a:lnTo>
                    <a:pt x="80" y="52"/>
                  </a:lnTo>
                  <a:lnTo>
                    <a:pt x="39" y="0"/>
                  </a:lnTo>
                  <a:lnTo>
                    <a:pt x="0" y="26"/>
                  </a:lnTo>
                  <a:lnTo>
                    <a:pt x="30" y="66"/>
                  </a:lnTo>
                  <a:lnTo>
                    <a:pt x="71" y="123"/>
                  </a:lnTo>
                  <a:lnTo>
                    <a:pt x="111" y="180"/>
                  </a:lnTo>
                  <a:lnTo>
                    <a:pt x="142" y="238"/>
                  </a:lnTo>
                  <a:lnTo>
                    <a:pt x="172" y="322"/>
                  </a:lnTo>
                  <a:lnTo>
                    <a:pt x="196" y="393"/>
                  </a:lnTo>
                  <a:lnTo>
                    <a:pt x="196" y="486"/>
                  </a:lnTo>
                  <a:lnTo>
                    <a:pt x="196" y="574"/>
                  </a:lnTo>
                  <a:lnTo>
                    <a:pt x="226" y="556"/>
                  </a:lnTo>
                  <a:lnTo>
                    <a:pt x="226" y="591"/>
                  </a:lnTo>
                  <a:lnTo>
                    <a:pt x="248" y="596"/>
                  </a:lnTo>
                  <a:lnTo>
                    <a:pt x="248" y="574"/>
                  </a:lnTo>
                  <a:lnTo>
                    <a:pt x="226" y="5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713040" y="1387440"/>
              <a:ext cx="59040" cy="46440"/>
            </a:xfrm>
            <a:custGeom>
              <a:avLst/>
              <a:gdLst/>
              <a:ahLst/>
              <a:rect l="0" t="0" r="r" b="b"/>
              <a:pathLst>
                <a:path w="164" h="129">
                  <a:moveTo>
                    <a:pt x="8" y="67"/>
                  </a:moveTo>
                  <a:lnTo>
                    <a:pt x="39" y="107"/>
                  </a:lnTo>
                  <a:lnTo>
                    <a:pt x="164" y="129"/>
                  </a:lnTo>
                  <a:lnTo>
                    <a:pt x="164" y="45"/>
                  </a:lnTo>
                  <a:lnTo>
                    <a:pt x="39" y="0"/>
                  </a:lnTo>
                  <a:lnTo>
                    <a:pt x="79" y="67"/>
                  </a:lnTo>
                  <a:lnTo>
                    <a:pt x="0" y="67"/>
                  </a:lnTo>
                  <a:lnTo>
                    <a:pt x="8" y="107"/>
                  </a:lnTo>
                  <a:lnTo>
                    <a:pt x="39" y="107"/>
                  </a:lnTo>
                  <a:lnTo>
                    <a:pt x="8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57600" y="1230480"/>
              <a:ext cx="73440" cy="167040"/>
            </a:xfrm>
            <a:custGeom>
              <a:avLst/>
              <a:gdLst/>
              <a:ahLst/>
              <a:rect l="0" t="0" r="r" b="b"/>
              <a:pathLst>
                <a:path w="204" h="464">
                  <a:moveTo>
                    <a:pt x="0" y="17"/>
                  </a:moveTo>
                  <a:lnTo>
                    <a:pt x="0" y="17"/>
                  </a:lnTo>
                  <a:lnTo>
                    <a:pt x="53" y="114"/>
                  </a:lnTo>
                  <a:lnTo>
                    <a:pt x="102" y="229"/>
                  </a:lnTo>
                  <a:lnTo>
                    <a:pt x="133" y="344"/>
                  </a:lnTo>
                  <a:lnTo>
                    <a:pt x="156" y="464"/>
                  </a:lnTo>
                  <a:lnTo>
                    <a:pt x="204" y="464"/>
                  </a:lnTo>
                  <a:lnTo>
                    <a:pt x="182" y="344"/>
                  </a:lnTo>
                  <a:lnTo>
                    <a:pt x="156" y="220"/>
                  </a:lnTo>
                  <a:lnTo>
                    <a:pt x="102" y="101"/>
                  </a:lnTo>
                  <a:lnTo>
                    <a:pt x="53" y="0"/>
                  </a:lnTo>
                  <a:lnTo>
                    <a:pt x="53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97120" y="1130400"/>
              <a:ext cx="76680" cy="108360"/>
            </a:xfrm>
            <a:custGeom>
              <a:avLst/>
              <a:gdLst/>
              <a:ahLst/>
              <a:rect l="0" t="0" r="r" b="b"/>
              <a:pathLst>
                <a:path w="213" h="301">
                  <a:moveTo>
                    <a:pt x="0" y="17"/>
                  </a:moveTo>
                  <a:lnTo>
                    <a:pt x="0" y="17"/>
                  </a:lnTo>
                  <a:lnTo>
                    <a:pt x="30" y="66"/>
                  </a:lnTo>
                  <a:lnTo>
                    <a:pt x="71" y="128"/>
                  </a:lnTo>
                  <a:lnTo>
                    <a:pt x="111" y="212"/>
                  </a:lnTo>
                  <a:lnTo>
                    <a:pt x="159" y="301"/>
                  </a:lnTo>
                  <a:lnTo>
                    <a:pt x="213" y="284"/>
                  </a:lnTo>
                  <a:lnTo>
                    <a:pt x="159" y="195"/>
                  </a:lnTo>
                  <a:lnTo>
                    <a:pt x="111" y="115"/>
                  </a:lnTo>
                  <a:lnTo>
                    <a:pt x="80" y="48"/>
                  </a:lnTo>
                  <a:lnTo>
                    <a:pt x="39" y="0"/>
                  </a:lnTo>
                  <a:lnTo>
                    <a:pt x="39" y="0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495600" y="1109520"/>
              <a:ext cx="117720" cy="47880"/>
            </a:xfrm>
            <a:custGeom>
              <a:avLst/>
              <a:gdLst/>
              <a:ahLst/>
              <a:rect l="0" t="0" r="r" b="b"/>
              <a:pathLst>
                <a:path w="327" h="133">
                  <a:moveTo>
                    <a:pt x="52" y="93"/>
                  </a:moveTo>
                  <a:lnTo>
                    <a:pt x="52" y="115"/>
                  </a:lnTo>
                  <a:lnTo>
                    <a:pt x="70" y="98"/>
                  </a:lnTo>
                  <a:lnTo>
                    <a:pt x="101" y="75"/>
                  </a:lnTo>
                  <a:lnTo>
                    <a:pt x="132" y="57"/>
                  </a:lnTo>
                  <a:lnTo>
                    <a:pt x="186" y="57"/>
                  </a:lnTo>
                  <a:lnTo>
                    <a:pt x="203" y="75"/>
                  </a:lnTo>
                  <a:lnTo>
                    <a:pt x="247" y="93"/>
                  </a:lnTo>
                  <a:lnTo>
                    <a:pt x="265" y="98"/>
                  </a:lnTo>
                  <a:lnTo>
                    <a:pt x="287" y="133"/>
                  </a:lnTo>
                  <a:lnTo>
                    <a:pt x="327" y="98"/>
                  </a:lnTo>
                  <a:lnTo>
                    <a:pt x="305" y="57"/>
                  </a:lnTo>
                  <a:lnTo>
                    <a:pt x="265" y="17"/>
                  </a:lnTo>
                  <a:lnTo>
                    <a:pt x="225" y="0"/>
                  </a:lnTo>
                  <a:lnTo>
                    <a:pt x="186" y="0"/>
                  </a:lnTo>
                  <a:lnTo>
                    <a:pt x="132" y="0"/>
                  </a:lnTo>
                  <a:lnTo>
                    <a:pt x="92" y="17"/>
                  </a:lnTo>
                  <a:lnTo>
                    <a:pt x="52" y="26"/>
                  </a:lnTo>
                  <a:lnTo>
                    <a:pt x="8" y="75"/>
                  </a:lnTo>
                  <a:lnTo>
                    <a:pt x="8" y="98"/>
                  </a:lnTo>
                  <a:lnTo>
                    <a:pt x="8" y="75"/>
                  </a:lnTo>
                  <a:lnTo>
                    <a:pt x="0" y="93"/>
                  </a:lnTo>
                  <a:lnTo>
                    <a:pt x="8" y="98"/>
                  </a:lnTo>
                  <a:lnTo>
                    <a:pt x="52" y="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127160"/>
              <a:ext cx="59040" cy="66960"/>
            </a:xfrm>
            <a:custGeom>
              <a:avLst/>
              <a:gdLst/>
              <a:ahLst/>
              <a:rect l="0" t="0" r="r" b="b"/>
              <a:pathLst>
                <a:path w="164" h="186">
                  <a:moveTo>
                    <a:pt x="142" y="186"/>
                  </a:moveTo>
                  <a:lnTo>
                    <a:pt x="142" y="186"/>
                  </a:lnTo>
                  <a:lnTo>
                    <a:pt x="164" y="146"/>
                  </a:lnTo>
                  <a:lnTo>
                    <a:pt x="142" y="106"/>
                  </a:lnTo>
                  <a:lnTo>
                    <a:pt x="120" y="48"/>
                  </a:lnTo>
                  <a:lnTo>
                    <a:pt x="89" y="0"/>
                  </a:lnTo>
                  <a:lnTo>
                    <a:pt x="0" y="8"/>
                  </a:lnTo>
                  <a:lnTo>
                    <a:pt x="17" y="48"/>
                  </a:lnTo>
                  <a:lnTo>
                    <a:pt x="17" y="106"/>
                  </a:lnTo>
                  <a:lnTo>
                    <a:pt x="17" y="146"/>
                  </a:lnTo>
                  <a:lnTo>
                    <a:pt x="17" y="186"/>
                  </a:lnTo>
                  <a:lnTo>
                    <a:pt x="17" y="186"/>
                  </a:lnTo>
                  <a:lnTo>
                    <a:pt x="142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508200" y="1192320"/>
              <a:ext cx="59040" cy="62280"/>
            </a:xfrm>
            <a:custGeom>
              <a:avLst/>
              <a:gdLst/>
              <a:ahLst/>
              <a:rect l="0" t="0" r="r" b="b"/>
              <a:pathLst>
                <a:path w="164" h="173">
                  <a:moveTo>
                    <a:pt x="164" y="160"/>
                  </a:moveTo>
                  <a:lnTo>
                    <a:pt x="164" y="160"/>
                  </a:lnTo>
                  <a:lnTo>
                    <a:pt x="120" y="124"/>
                  </a:lnTo>
                  <a:lnTo>
                    <a:pt x="89" y="75"/>
                  </a:lnTo>
                  <a:lnTo>
                    <a:pt x="89" y="45"/>
                  </a:lnTo>
                  <a:lnTo>
                    <a:pt x="89" y="0"/>
                  </a:lnTo>
                  <a:lnTo>
                    <a:pt x="0" y="0"/>
                  </a:lnTo>
                  <a:lnTo>
                    <a:pt x="0" y="45"/>
                  </a:lnTo>
                  <a:lnTo>
                    <a:pt x="17" y="93"/>
                  </a:lnTo>
                  <a:lnTo>
                    <a:pt x="48" y="134"/>
                  </a:lnTo>
                  <a:lnTo>
                    <a:pt x="89" y="173"/>
                  </a:lnTo>
                  <a:lnTo>
                    <a:pt x="89" y="173"/>
                  </a:lnTo>
                  <a:lnTo>
                    <a:pt x="164" y="1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19360" y="1247760"/>
              <a:ext cx="92520" cy="70200"/>
            </a:xfrm>
            <a:custGeom>
              <a:avLst/>
              <a:gdLst/>
              <a:ahLst/>
              <a:rect l="0" t="0" r="r" b="b"/>
              <a:pathLst>
                <a:path w="257" h="195">
                  <a:moveTo>
                    <a:pt x="186" y="186"/>
                  </a:moveTo>
                  <a:lnTo>
                    <a:pt x="204" y="155"/>
                  </a:lnTo>
                  <a:lnTo>
                    <a:pt x="155" y="115"/>
                  </a:lnTo>
                  <a:lnTo>
                    <a:pt x="111" y="70"/>
                  </a:lnTo>
                  <a:lnTo>
                    <a:pt x="71" y="30"/>
                  </a:lnTo>
                  <a:lnTo>
                    <a:pt x="39" y="0"/>
                  </a:lnTo>
                  <a:lnTo>
                    <a:pt x="0" y="17"/>
                  </a:lnTo>
                  <a:lnTo>
                    <a:pt x="30" y="48"/>
                  </a:lnTo>
                  <a:lnTo>
                    <a:pt x="71" y="98"/>
                  </a:lnTo>
                  <a:lnTo>
                    <a:pt x="124" y="146"/>
                  </a:lnTo>
                  <a:lnTo>
                    <a:pt x="164" y="186"/>
                  </a:lnTo>
                  <a:lnTo>
                    <a:pt x="186" y="155"/>
                  </a:lnTo>
                  <a:lnTo>
                    <a:pt x="186" y="186"/>
                  </a:lnTo>
                  <a:lnTo>
                    <a:pt x="257" y="195"/>
                  </a:lnTo>
                  <a:lnTo>
                    <a:pt x="204" y="155"/>
                  </a:lnTo>
                  <a:lnTo>
                    <a:pt x="186" y="1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502080" y="1297080"/>
              <a:ext cx="84600" cy="47880"/>
            </a:xfrm>
            <a:custGeom>
              <a:avLst/>
              <a:gdLst/>
              <a:ahLst/>
              <a:rect l="0" t="0" r="r" b="b"/>
              <a:pathLst>
                <a:path w="235" h="133">
                  <a:moveTo>
                    <a:pt x="52" y="98"/>
                  </a:moveTo>
                  <a:lnTo>
                    <a:pt x="52" y="75"/>
                  </a:lnTo>
                  <a:lnTo>
                    <a:pt x="44" y="115"/>
                  </a:lnTo>
                  <a:lnTo>
                    <a:pt x="52" y="115"/>
                  </a:lnTo>
                  <a:lnTo>
                    <a:pt x="71" y="115"/>
                  </a:lnTo>
                  <a:lnTo>
                    <a:pt x="102" y="115"/>
                  </a:lnTo>
                  <a:lnTo>
                    <a:pt x="133" y="115"/>
                  </a:lnTo>
                  <a:lnTo>
                    <a:pt x="164" y="133"/>
                  </a:lnTo>
                  <a:lnTo>
                    <a:pt x="204" y="133"/>
                  </a:lnTo>
                  <a:lnTo>
                    <a:pt x="235" y="133"/>
                  </a:lnTo>
                  <a:lnTo>
                    <a:pt x="235" y="57"/>
                  </a:lnTo>
                  <a:lnTo>
                    <a:pt x="204" y="39"/>
                  </a:lnTo>
                  <a:lnTo>
                    <a:pt x="164" y="39"/>
                  </a:lnTo>
                  <a:lnTo>
                    <a:pt x="133" y="39"/>
                  </a:lnTo>
                  <a:lnTo>
                    <a:pt x="102" y="17"/>
                  </a:lnTo>
                  <a:lnTo>
                    <a:pt x="71" y="17"/>
                  </a:lnTo>
                  <a:lnTo>
                    <a:pt x="52" y="0"/>
                  </a:lnTo>
                  <a:lnTo>
                    <a:pt x="22" y="17"/>
                  </a:lnTo>
                  <a:lnTo>
                    <a:pt x="0" y="75"/>
                  </a:lnTo>
                  <a:lnTo>
                    <a:pt x="0" y="57"/>
                  </a:lnTo>
                  <a:lnTo>
                    <a:pt x="52" y="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494160" y="1305000"/>
              <a:ext cx="59040" cy="120960"/>
            </a:xfrm>
            <a:custGeom>
              <a:avLst/>
              <a:gdLst/>
              <a:ahLst/>
              <a:rect l="0" t="0" r="r" b="b"/>
              <a:pathLst>
                <a:path w="164" h="336">
                  <a:moveTo>
                    <a:pt x="0" y="252"/>
                  </a:moveTo>
                  <a:lnTo>
                    <a:pt x="79" y="252"/>
                  </a:lnTo>
                  <a:lnTo>
                    <a:pt x="120" y="190"/>
                  </a:lnTo>
                  <a:lnTo>
                    <a:pt x="142" y="114"/>
                  </a:lnTo>
                  <a:lnTo>
                    <a:pt x="142" y="48"/>
                  </a:lnTo>
                  <a:lnTo>
                    <a:pt x="164" y="17"/>
                  </a:lnTo>
                  <a:lnTo>
                    <a:pt x="57" y="0"/>
                  </a:lnTo>
                  <a:lnTo>
                    <a:pt x="57" y="48"/>
                  </a:lnTo>
                  <a:lnTo>
                    <a:pt x="39" y="114"/>
                  </a:lnTo>
                  <a:lnTo>
                    <a:pt x="17" y="190"/>
                  </a:lnTo>
                  <a:lnTo>
                    <a:pt x="0" y="252"/>
                  </a:lnTo>
                  <a:lnTo>
                    <a:pt x="79" y="247"/>
                  </a:lnTo>
                  <a:lnTo>
                    <a:pt x="0" y="252"/>
                  </a:lnTo>
                  <a:lnTo>
                    <a:pt x="57" y="336"/>
                  </a:lnTo>
                  <a:lnTo>
                    <a:pt x="79" y="252"/>
                  </a:lnTo>
                  <a:lnTo>
                    <a:pt x="0" y="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429000" y="1270080"/>
              <a:ext cx="76680" cy="122760"/>
            </a:xfrm>
            <a:custGeom>
              <a:avLst/>
              <a:gdLst/>
              <a:ahLst/>
              <a:rect l="0" t="0" r="r" b="b"/>
              <a:pathLst>
                <a:path w="213" h="341">
                  <a:moveTo>
                    <a:pt x="0" y="44"/>
                  </a:moveTo>
                  <a:lnTo>
                    <a:pt x="0" y="44"/>
                  </a:lnTo>
                  <a:lnTo>
                    <a:pt x="8" y="44"/>
                  </a:lnTo>
                  <a:lnTo>
                    <a:pt x="30" y="66"/>
                  </a:lnTo>
                  <a:lnTo>
                    <a:pt x="39" y="98"/>
                  </a:lnTo>
                  <a:lnTo>
                    <a:pt x="71" y="142"/>
                  </a:lnTo>
                  <a:lnTo>
                    <a:pt x="102" y="181"/>
                  </a:lnTo>
                  <a:lnTo>
                    <a:pt x="120" y="239"/>
                  </a:lnTo>
                  <a:lnTo>
                    <a:pt x="150" y="288"/>
                  </a:lnTo>
                  <a:lnTo>
                    <a:pt x="173" y="341"/>
                  </a:lnTo>
                  <a:lnTo>
                    <a:pt x="213" y="337"/>
                  </a:lnTo>
                  <a:lnTo>
                    <a:pt x="191" y="279"/>
                  </a:lnTo>
                  <a:lnTo>
                    <a:pt x="173" y="230"/>
                  </a:lnTo>
                  <a:lnTo>
                    <a:pt x="142" y="172"/>
                  </a:lnTo>
                  <a:lnTo>
                    <a:pt x="120" y="124"/>
                  </a:lnTo>
                  <a:lnTo>
                    <a:pt x="89" y="83"/>
                  </a:lnTo>
                  <a:lnTo>
                    <a:pt x="71" y="48"/>
                  </a:lnTo>
                  <a:lnTo>
                    <a:pt x="39" y="26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348000" y="1255680"/>
              <a:ext cx="92520" cy="46440"/>
            </a:xfrm>
            <a:custGeom>
              <a:avLst/>
              <a:gdLst/>
              <a:ahLst/>
              <a:rect l="0" t="0" r="r" b="b"/>
              <a:pathLst>
                <a:path w="257" h="129">
                  <a:moveTo>
                    <a:pt x="8" y="67"/>
                  </a:moveTo>
                  <a:lnTo>
                    <a:pt x="8" y="67"/>
                  </a:lnTo>
                  <a:lnTo>
                    <a:pt x="30" y="67"/>
                  </a:lnTo>
                  <a:lnTo>
                    <a:pt x="61" y="67"/>
                  </a:lnTo>
                  <a:lnTo>
                    <a:pt x="93" y="67"/>
                  </a:lnTo>
                  <a:lnTo>
                    <a:pt x="124" y="84"/>
                  </a:lnTo>
                  <a:lnTo>
                    <a:pt x="164" y="89"/>
                  </a:lnTo>
                  <a:lnTo>
                    <a:pt x="196" y="107"/>
                  </a:lnTo>
                  <a:lnTo>
                    <a:pt x="218" y="116"/>
                  </a:lnTo>
                  <a:lnTo>
                    <a:pt x="226" y="129"/>
                  </a:lnTo>
                  <a:lnTo>
                    <a:pt x="257" y="67"/>
                  </a:lnTo>
                  <a:lnTo>
                    <a:pt x="226" y="67"/>
                  </a:lnTo>
                  <a:lnTo>
                    <a:pt x="204" y="49"/>
                  </a:lnTo>
                  <a:lnTo>
                    <a:pt x="172" y="36"/>
                  </a:lnTo>
                  <a:lnTo>
                    <a:pt x="133" y="26"/>
                  </a:lnTo>
                  <a:lnTo>
                    <a:pt x="93" y="26"/>
                  </a:lnTo>
                  <a:lnTo>
                    <a:pt x="61" y="8"/>
                  </a:lnTo>
                  <a:lnTo>
                    <a:pt x="30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8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159000" y="1258920"/>
              <a:ext cx="194040" cy="114840"/>
            </a:xfrm>
            <a:custGeom>
              <a:avLst/>
              <a:gdLst/>
              <a:ahLst/>
              <a:rect l="0" t="0" r="r" b="b"/>
              <a:pathLst>
                <a:path w="539" h="319">
                  <a:moveTo>
                    <a:pt x="48" y="279"/>
                  </a:moveTo>
                  <a:lnTo>
                    <a:pt x="61" y="310"/>
                  </a:lnTo>
                  <a:lnTo>
                    <a:pt x="142" y="244"/>
                  </a:lnTo>
                  <a:lnTo>
                    <a:pt x="212" y="186"/>
                  </a:lnTo>
                  <a:lnTo>
                    <a:pt x="274" y="146"/>
                  </a:lnTo>
                  <a:lnTo>
                    <a:pt x="353" y="106"/>
                  </a:lnTo>
                  <a:lnTo>
                    <a:pt x="416" y="79"/>
                  </a:lnTo>
                  <a:lnTo>
                    <a:pt x="469" y="57"/>
                  </a:lnTo>
                  <a:lnTo>
                    <a:pt x="509" y="48"/>
                  </a:lnTo>
                  <a:lnTo>
                    <a:pt x="539" y="39"/>
                  </a:lnTo>
                  <a:lnTo>
                    <a:pt x="531" y="0"/>
                  </a:lnTo>
                  <a:lnTo>
                    <a:pt x="500" y="8"/>
                  </a:lnTo>
                  <a:lnTo>
                    <a:pt x="447" y="22"/>
                  </a:lnTo>
                  <a:lnTo>
                    <a:pt x="397" y="39"/>
                  </a:lnTo>
                  <a:lnTo>
                    <a:pt x="336" y="66"/>
                  </a:lnTo>
                  <a:lnTo>
                    <a:pt x="252" y="106"/>
                  </a:lnTo>
                  <a:lnTo>
                    <a:pt x="181" y="155"/>
                  </a:lnTo>
                  <a:lnTo>
                    <a:pt x="101" y="212"/>
                  </a:lnTo>
                  <a:lnTo>
                    <a:pt x="30" y="288"/>
                  </a:lnTo>
                  <a:lnTo>
                    <a:pt x="39" y="319"/>
                  </a:lnTo>
                  <a:lnTo>
                    <a:pt x="30" y="288"/>
                  </a:lnTo>
                  <a:lnTo>
                    <a:pt x="0" y="310"/>
                  </a:lnTo>
                  <a:lnTo>
                    <a:pt x="39" y="319"/>
                  </a:lnTo>
                  <a:lnTo>
                    <a:pt x="48" y="2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173400" y="1359000"/>
              <a:ext cx="92520" cy="47880"/>
            </a:xfrm>
            <a:custGeom>
              <a:avLst/>
              <a:gdLst/>
              <a:ahLst/>
              <a:rect l="0" t="0" r="r" b="b"/>
              <a:pathLst>
                <a:path w="257" h="133">
                  <a:moveTo>
                    <a:pt x="226" y="115"/>
                  </a:moveTo>
                  <a:lnTo>
                    <a:pt x="204" y="57"/>
                  </a:lnTo>
                  <a:lnTo>
                    <a:pt x="172" y="57"/>
                  </a:lnTo>
                  <a:lnTo>
                    <a:pt x="155" y="39"/>
                  </a:lnTo>
                  <a:lnTo>
                    <a:pt x="124" y="39"/>
                  </a:lnTo>
                  <a:lnTo>
                    <a:pt x="102" y="39"/>
                  </a:lnTo>
                  <a:lnTo>
                    <a:pt x="80" y="17"/>
                  </a:lnTo>
                  <a:lnTo>
                    <a:pt x="48" y="17"/>
                  </a:lnTo>
                  <a:lnTo>
                    <a:pt x="17" y="17"/>
                  </a:lnTo>
                  <a:lnTo>
                    <a:pt x="8" y="0"/>
                  </a:lnTo>
                  <a:lnTo>
                    <a:pt x="0" y="98"/>
                  </a:lnTo>
                  <a:lnTo>
                    <a:pt x="17" y="98"/>
                  </a:lnTo>
                  <a:lnTo>
                    <a:pt x="48" y="98"/>
                  </a:lnTo>
                  <a:lnTo>
                    <a:pt x="61" y="115"/>
                  </a:lnTo>
                  <a:lnTo>
                    <a:pt x="93" y="115"/>
                  </a:lnTo>
                  <a:lnTo>
                    <a:pt x="124" y="133"/>
                  </a:lnTo>
                  <a:lnTo>
                    <a:pt x="155" y="133"/>
                  </a:lnTo>
                  <a:lnTo>
                    <a:pt x="172" y="133"/>
                  </a:lnTo>
                  <a:lnTo>
                    <a:pt x="204" y="133"/>
                  </a:lnTo>
                  <a:lnTo>
                    <a:pt x="186" y="75"/>
                  </a:lnTo>
                  <a:lnTo>
                    <a:pt x="226" y="115"/>
                  </a:lnTo>
                  <a:lnTo>
                    <a:pt x="257" y="57"/>
                  </a:lnTo>
                  <a:lnTo>
                    <a:pt x="204" y="57"/>
                  </a:lnTo>
                  <a:lnTo>
                    <a:pt x="226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176640" y="1368360"/>
              <a:ext cx="78120" cy="111600"/>
            </a:xfrm>
            <a:custGeom>
              <a:avLst/>
              <a:gdLst/>
              <a:ahLst/>
              <a:rect l="0" t="0" r="r" b="b"/>
              <a:pathLst>
                <a:path w="217" h="310">
                  <a:moveTo>
                    <a:pt x="52" y="310"/>
                  </a:moveTo>
                  <a:lnTo>
                    <a:pt x="52" y="310"/>
                  </a:lnTo>
                  <a:lnTo>
                    <a:pt x="52" y="284"/>
                  </a:lnTo>
                  <a:lnTo>
                    <a:pt x="74" y="253"/>
                  </a:lnTo>
                  <a:lnTo>
                    <a:pt x="83" y="212"/>
                  </a:lnTo>
                  <a:lnTo>
                    <a:pt x="115" y="172"/>
                  </a:lnTo>
                  <a:lnTo>
                    <a:pt x="146" y="124"/>
                  </a:lnTo>
                  <a:lnTo>
                    <a:pt x="177" y="80"/>
                  </a:lnTo>
                  <a:lnTo>
                    <a:pt x="208" y="39"/>
                  </a:lnTo>
                  <a:lnTo>
                    <a:pt x="217" y="17"/>
                  </a:lnTo>
                  <a:lnTo>
                    <a:pt x="177" y="0"/>
                  </a:lnTo>
                  <a:lnTo>
                    <a:pt x="155" y="26"/>
                  </a:lnTo>
                  <a:lnTo>
                    <a:pt x="124" y="57"/>
                  </a:lnTo>
                  <a:lnTo>
                    <a:pt x="92" y="106"/>
                  </a:lnTo>
                  <a:lnTo>
                    <a:pt x="74" y="146"/>
                  </a:lnTo>
                  <a:lnTo>
                    <a:pt x="44" y="203"/>
                  </a:lnTo>
                  <a:lnTo>
                    <a:pt x="22" y="244"/>
                  </a:lnTo>
                  <a:lnTo>
                    <a:pt x="0" y="279"/>
                  </a:lnTo>
                  <a:lnTo>
                    <a:pt x="0" y="310"/>
                  </a:lnTo>
                  <a:lnTo>
                    <a:pt x="0" y="310"/>
                  </a:lnTo>
                  <a:lnTo>
                    <a:pt x="52" y="3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79880" y="1479600"/>
              <a:ext cx="59040" cy="228960"/>
            </a:xfrm>
            <a:custGeom>
              <a:avLst/>
              <a:gdLst/>
              <a:ahLst/>
              <a:rect l="0" t="0" r="r" b="b"/>
              <a:pathLst>
                <a:path w="164" h="636">
                  <a:moveTo>
                    <a:pt x="150" y="636"/>
                  </a:moveTo>
                  <a:lnTo>
                    <a:pt x="150" y="636"/>
                  </a:lnTo>
                  <a:lnTo>
                    <a:pt x="164" y="464"/>
                  </a:lnTo>
                  <a:lnTo>
                    <a:pt x="133" y="268"/>
                  </a:lnTo>
                  <a:lnTo>
                    <a:pt x="79" y="97"/>
                  </a:lnTo>
                  <a:lnTo>
                    <a:pt x="57" y="0"/>
                  </a:lnTo>
                  <a:lnTo>
                    <a:pt x="0" y="0"/>
                  </a:lnTo>
                  <a:lnTo>
                    <a:pt x="26" y="97"/>
                  </a:lnTo>
                  <a:lnTo>
                    <a:pt x="79" y="268"/>
                  </a:lnTo>
                  <a:lnTo>
                    <a:pt x="102" y="464"/>
                  </a:lnTo>
                  <a:lnTo>
                    <a:pt x="102" y="618"/>
                  </a:lnTo>
                  <a:lnTo>
                    <a:pt x="102" y="618"/>
                  </a:lnTo>
                  <a:lnTo>
                    <a:pt x="150" y="6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191040" y="1700280"/>
              <a:ext cx="59040" cy="246600"/>
            </a:xfrm>
            <a:custGeom>
              <a:avLst/>
              <a:gdLst/>
              <a:ahLst/>
              <a:rect l="0" t="0" r="r" b="b"/>
              <a:pathLst>
                <a:path w="164" h="685">
                  <a:moveTo>
                    <a:pt x="26" y="685"/>
                  </a:moveTo>
                  <a:lnTo>
                    <a:pt x="39" y="685"/>
                  </a:lnTo>
                  <a:lnTo>
                    <a:pt x="70" y="623"/>
                  </a:lnTo>
                  <a:lnTo>
                    <a:pt x="79" y="490"/>
                  </a:lnTo>
                  <a:lnTo>
                    <a:pt x="79" y="287"/>
                  </a:lnTo>
                  <a:lnTo>
                    <a:pt x="164" y="17"/>
                  </a:lnTo>
                  <a:lnTo>
                    <a:pt x="102" y="0"/>
                  </a:lnTo>
                  <a:lnTo>
                    <a:pt x="26" y="287"/>
                  </a:lnTo>
                  <a:lnTo>
                    <a:pt x="0" y="490"/>
                  </a:lnTo>
                  <a:lnTo>
                    <a:pt x="8" y="623"/>
                  </a:lnTo>
                  <a:lnTo>
                    <a:pt x="8" y="654"/>
                  </a:lnTo>
                  <a:lnTo>
                    <a:pt x="8" y="654"/>
                  </a:lnTo>
                  <a:lnTo>
                    <a:pt x="26" y="6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157560" y="1935000"/>
              <a:ext cx="57600" cy="68760"/>
            </a:xfrm>
            <a:custGeom>
              <a:avLst/>
              <a:gdLst/>
              <a:ahLst/>
              <a:rect l="0" t="0" r="r" b="b"/>
              <a:pathLst>
                <a:path w="160" h="191">
                  <a:moveTo>
                    <a:pt x="80" y="191"/>
                  </a:moveTo>
                  <a:lnTo>
                    <a:pt x="80" y="191"/>
                  </a:lnTo>
                  <a:lnTo>
                    <a:pt x="80" y="93"/>
                  </a:lnTo>
                  <a:lnTo>
                    <a:pt x="102" y="53"/>
                  </a:lnTo>
                  <a:lnTo>
                    <a:pt x="111" y="44"/>
                  </a:lnTo>
                  <a:lnTo>
                    <a:pt x="160" y="35"/>
                  </a:lnTo>
                  <a:lnTo>
                    <a:pt x="143" y="0"/>
                  </a:lnTo>
                  <a:lnTo>
                    <a:pt x="80" y="8"/>
                  </a:lnTo>
                  <a:lnTo>
                    <a:pt x="30" y="35"/>
                  </a:lnTo>
                  <a:lnTo>
                    <a:pt x="0" y="93"/>
                  </a:lnTo>
                  <a:lnTo>
                    <a:pt x="22" y="191"/>
                  </a:lnTo>
                  <a:lnTo>
                    <a:pt x="22" y="191"/>
                  </a:lnTo>
                  <a:lnTo>
                    <a:pt x="80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165480" y="2006640"/>
              <a:ext cx="59040" cy="46440"/>
            </a:xfrm>
            <a:custGeom>
              <a:avLst/>
              <a:gdLst/>
              <a:ahLst/>
              <a:rect l="0" t="0" r="r" b="b"/>
              <a:pathLst>
                <a:path w="164" h="129">
                  <a:moveTo>
                    <a:pt x="164" y="129"/>
                  </a:moveTo>
                  <a:lnTo>
                    <a:pt x="164" y="129"/>
                  </a:lnTo>
                  <a:lnTo>
                    <a:pt x="133" y="62"/>
                  </a:lnTo>
                  <a:lnTo>
                    <a:pt x="89" y="45"/>
                  </a:lnTo>
                  <a:lnTo>
                    <a:pt x="70" y="30"/>
                  </a:lnTo>
                  <a:lnTo>
                    <a:pt x="48" y="0"/>
                  </a:lnTo>
                  <a:lnTo>
                    <a:pt x="0" y="0"/>
                  </a:lnTo>
                  <a:lnTo>
                    <a:pt x="8" y="62"/>
                  </a:lnTo>
                  <a:lnTo>
                    <a:pt x="57" y="84"/>
                  </a:lnTo>
                  <a:lnTo>
                    <a:pt x="89" y="112"/>
                  </a:lnTo>
                  <a:lnTo>
                    <a:pt x="111" y="129"/>
                  </a:lnTo>
                  <a:lnTo>
                    <a:pt x="111" y="129"/>
                  </a:lnTo>
                  <a:lnTo>
                    <a:pt x="164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191040" y="2036880"/>
              <a:ext cx="59040" cy="51120"/>
            </a:xfrm>
            <a:custGeom>
              <a:avLst/>
              <a:gdLst/>
              <a:ahLst/>
              <a:rect l="0" t="0" r="r" b="b"/>
              <a:pathLst>
                <a:path w="164" h="142">
                  <a:moveTo>
                    <a:pt x="0" y="142"/>
                  </a:moveTo>
                  <a:lnTo>
                    <a:pt x="0" y="133"/>
                  </a:lnTo>
                  <a:lnTo>
                    <a:pt x="133" y="106"/>
                  </a:lnTo>
                  <a:lnTo>
                    <a:pt x="164" y="75"/>
                  </a:lnTo>
                  <a:lnTo>
                    <a:pt x="164" y="30"/>
                  </a:lnTo>
                  <a:lnTo>
                    <a:pt x="133" y="0"/>
                  </a:lnTo>
                  <a:lnTo>
                    <a:pt x="26" y="0"/>
                  </a:lnTo>
                  <a:lnTo>
                    <a:pt x="26" y="30"/>
                  </a:lnTo>
                  <a:lnTo>
                    <a:pt x="26" y="75"/>
                  </a:lnTo>
                  <a:lnTo>
                    <a:pt x="26" y="93"/>
                  </a:lnTo>
                  <a:lnTo>
                    <a:pt x="0" y="102"/>
                  </a:lnTo>
                  <a:lnTo>
                    <a:pt x="0" y="93"/>
                  </a:lnTo>
                  <a:lnTo>
                    <a:pt x="0" y="1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162240" y="2066760"/>
              <a:ext cx="59040" cy="124200"/>
            </a:xfrm>
            <a:custGeom>
              <a:avLst/>
              <a:gdLst/>
              <a:ahLst/>
              <a:rect l="0" t="0" r="r" b="b"/>
              <a:pathLst>
                <a:path w="164" h="345">
                  <a:moveTo>
                    <a:pt x="102" y="315"/>
                  </a:moveTo>
                  <a:lnTo>
                    <a:pt x="120" y="328"/>
                  </a:lnTo>
                  <a:lnTo>
                    <a:pt x="79" y="190"/>
                  </a:lnTo>
                  <a:lnTo>
                    <a:pt x="102" y="98"/>
                  </a:lnTo>
                  <a:lnTo>
                    <a:pt x="142" y="48"/>
                  </a:lnTo>
                  <a:lnTo>
                    <a:pt x="164" y="48"/>
                  </a:lnTo>
                  <a:lnTo>
                    <a:pt x="164" y="0"/>
                  </a:lnTo>
                  <a:lnTo>
                    <a:pt x="39" y="30"/>
                  </a:lnTo>
                  <a:lnTo>
                    <a:pt x="0" y="98"/>
                  </a:lnTo>
                  <a:lnTo>
                    <a:pt x="0" y="190"/>
                  </a:lnTo>
                  <a:lnTo>
                    <a:pt x="17" y="328"/>
                  </a:lnTo>
                  <a:lnTo>
                    <a:pt x="39" y="345"/>
                  </a:lnTo>
                  <a:lnTo>
                    <a:pt x="17" y="328"/>
                  </a:lnTo>
                  <a:lnTo>
                    <a:pt x="17" y="337"/>
                  </a:lnTo>
                  <a:lnTo>
                    <a:pt x="39" y="345"/>
                  </a:lnTo>
                  <a:lnTo>
                    <a:pt x="102" y="3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166920" y="2179800"/>
              <a:ext cx="89280" cy="70200"/>
            </a:xfrm>
            <a:custGeom>
              <a:avLst/>
              <a:gdLst/>
              <a:ahLst/>
              <a:rect l="0" t="0" r="r" b="b"/>
              <a:pathLst>
                <a:path w="248" h="195">
                  <a:moveTo>
                    <a:pt x="187" y="177"/>
                  </a:moveTo>
                  <a:lnTo>
                    <a:pt x="209" y="146"/>
                  </a:lnTo>
                  <a:lnTo>
                    <a:pt x="164" y="106"/>
                  </a:lnTo>
                  <a:lnTo>
                    <a:pt x="115" y="66"/>
                  </a:lnTo>
                  <a:lnTo>
                    <a:pt x="71" y="30"/>
                  </a:lnTo>
                  <a:lnTo>
                    <a:pt x="30" y="0"/>
                  </a:lnTo>
                  <a:lnTo>
                    <a:pt x="0" y="30"/>
                  </a:lnTo>
                  <a:lnTo>
                    <a:pt x="39" y="57"/>
                  </a:lnTo>
                  <a:lnTo>
                    <a:pt x="84" y="98"/>
                  </a:lnTo>
                  <a:lnTo>
                    <a:pt x="124" y="128"/>
                  </a:lnTo>
                  <a:lnTo>
                    <a:pt x="164" y="177"/>
                  </a:lnTo>
                  <a:lnTo>
                    <a:pt x="187" y="146"/>
                  </a:lnTo>
                  <a:lnTo>
                    <a:pt x="187" y="177"/>
                  </a:lnTo>
                  <a:lnTo>
                    <a:pt x="248" y="195"/>
                  </a:lnTo>
                  <a:lnTo>
                    <a:pt x="209" y="146"/>
                  </a:lnTo>
                  <a:lnTo>
                    <a:pt x="187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5200" bIns="25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198960" y="2149560"/>
              <a:ext cx="964080" cy="471960"/>
            </a:xfrm>
            <a:custGeom>
              <a:avLst/>
              <a:gdLst/>
              <a:ahLst/>
              <a:rect l="0" t="0" r="r" b="b"/>
              <a:pathLst>
                <a:path w="2678" h="1311">
                  <a:moveTo>
                    <a:pt x="189" y="393"/>
                  </a:moveTo>
                  <a:lnTo>
                    <a:pt x="180" y="393"/>
                  </a:lnTo>
                  <a:lnTo>
                    <a:pt x="149" y="419"/>
                  </a:lnTo>
                  <a:lnTo>
                    <a:pt x="110" y="441"/>
                  </a:lnTo>
                  <a:lnTo>
                    <a:pt x="57" y="468"/>
                  </a:lnTo>
                  <a:lnTo>
                    <a:pt x="48" y="481"/>
                  </a:lnTo>
                  <a:lnTo>
                    <a:pt x="26" y="490"/>
                  </a:lnTo>
                  <a:lnTo>
                    <a:pt x="17" y="499"/>
                  </a:lnTo>
                  <a:lnTo>
                    <a:pt x="0" y="508"/>
                  </a:lnTo>
                  <a:lnTo>
                    <a:pt x="39" y="565"/>
                  </a:lnTo>
                  <a:lnTo>
                    <a:pt x="110" y="653"/>
                  </a:lnTo>
                  <a:lnTo>
                    <a:pt x="180" y="777"/>
                  </a:lnTo>
                  <a:lnTo>
                    <a:pt x="273" y="904"/>
                  </a:lnTo>
                  <a:lnTo>
                    <a:pt x="343" y="1038"/>
                  </a:lnTo>
                  <a:lnTo>
                    <a:pt x="423" y="1157"/>
                  </a:lnTo>
                  <a:lnTo>
                    <a:pt x="476" y="1258"/>
                  </a:lnTo>
                  <a:lnTo>
                    <a:pt x="502" y="1311"/>
                  </a:lnTo>
                  <a:lnTo>
                    <a:pt x="577" y="1289"/>
                  </a:lnTo>
                  <a:lnTo>
                    <a:pt x="648" y="1263"/>
                  </a:lnTo>
                  <a:lnTo>
                    <a:pt x="728" y="1232"/>
                  </a:lnTo>
                  <a:lnTo>
                    <a:pt x="807" y="1205"/>
                  </a:lnTo>
                  <a:lnTo>
                    <a:pt x="900" y="1174"/>
                  </a:lnTo>
                  <a:lnTo>
                    <a:pt x="993" y="1152"/>
                  </a:lnTo>
                  <a:lnTo>
                    <a:pt x="1094" y="1117"/>
                  </a:lnTo>
                  <a:lnTo>
                    <a:pt x="1196" y="1095"/>
                  </a:lnTo>
                  <a:lnTo>
                    <a:pt x="1297" y="1060"/>
                  </a:lnTo>
                  <a:lnTo>
                    <a:pt x="1398" y="1038"/>
                  </a:lnTo>
                  <a:lnTo>
                    <a:pt x="1509" y="1020"/>
                  </a:lnTo>
                  <a:lnTo>
                    <a:pt x="1619" y="994"/>
                  </a:lnTo>
                  <a:lnTo>
                    <a:pt x="1734" y="979"/>
                  </a:lnTo>
                  <a:lnTo>
                    <a:pt x="1844" y="962"/>
                  </a:lnTo>
                  <a:lnTo>
                    <a:pt x="1967" y="953"/>
                  </a:lnTo>
                  <a:lnTo>
                    <a:pt x="2078" y="944"/>
                  </a:lnTo>
                  <a:lnTo>
                    <a:pt x="2149" y="944"/>
                  </a:lnTo>
                  <a:lnTo>
                    <a:pt x="2220" y="944"/>
                  </a:lnTo>
                  <a:lnTo>
                    <a:pt x="2299" y="953"/>
                  </a:lnTo>
                  <a:lnTo>
                    <a:pt x="2374" y="953"/>
                  </a:lnTo>
                  <a:lnTo>
                    <a:pt x="2444" y="962"/>
                  </a:lnTo>
                  <a:lnTo>
                    <a:pt x="2515" y="979"/>
                  </a:lnTo>
                  <a:lnTo>
                    <a:pt x="2586" y="994"/>
                  </a:lnTo>
                  <a:lnTo>
                    <a:pt x="2656" y="1011"/>
                  </a:lnTo>
                  <a:lnTo>
                    <a:pt x="2656" y="874"/>
                  </a:lnTo>
                  <a:lnTo>
                    <a:pt x="2665" y="662"/>
                  </a:lnTo>
                  <a:lnTo>
                    <a:pt x="2678" y="459"/>
                  </a:lnTo>
                  <a:lnTo>
                    <a:pt x="2678" y="295"/>
                  </a:lnTo>
                  <a:lnTo>
                    <a:pt x="2656" y="277"/>
                  </a:lnTo>
                  <a:lnTo>
                    <a:pt x="2634" y="260"/>
                  </a:lnTo>
                  <a:lnTo>
                    <a:pt x="2616" y="255"/>
                  </a:lnTo>
                  <a:lnTo>
                    <a:pt x="2586" y="246"/>
                  </a:lnTo>
                  <a:lnTo>
                    <a:pt x="2564" y="229"/>
                  </a:lnTo>
                  <a:lnTo>
                    <a:pt x="2546" y="211"/>
                  </a:lnTo>
                  <a:lnTo>
                    <a:pt x="2524" y="207"/>
                  </a:lnTo>
                  <a:lnTo>
                    <a:pt x="2493" y="189"/>
                  </a:lnTo>
                  <a:lnTo>
                    <a:pt x="2444" y="163"/>
                  </a:lnTo>
                  <a:lnTo>
                    <a:pt x="2392" y="149"/>
                  </a:lnTo>
                  <a:lnTo>
                    <a:pt x="2343" y="123"/>
                  </a:lnTo>
                  <a:lnTo>
                    <a:pt x="2281" y="105"/>
                  </a:lnTo>
                  <a:lnTo>
                    <a:pt x="2228" y="92"/>
                  </a:lnTo>
                  <a:lnTo>
                    <a:pt x="2180" y="74"/>
                  </a:lnTo>
                  <a:lnTo>
                    <a:pt x="2127" y="57"/>
                  </a:lnTo>
                  <a:lnTo>
                    <a:pt x="2087" y="48"/>
                  </a:lnTo>
                  <a:lnTo>
                    <a:pt x="1923" y="17"/>
                  </a:lnTo>
                  <a:lnTo>
                    <a:pt x="1773" y="8"/>
                  </a:lnTo>
                  <a:lnTo>
                    <a:pt x="1619" y="0"/>
                  </a:lnTo>
                  <a:lnTo>
                    <a:pt x="1478" y="8"/>
                  </a:lnTo>
                  <a:lnTo>
                    <a:pt x="1337" y="17"/>
                  </a:lnTo>
                  <a:lnTo>
                    <a:pt x="1196" y="44"/>
                  </a:lnTo>
                  <a:lnTo>
                    <a:pt x="1063" y="66"/>
                  </a:lnTo>
                  <a:lnTo>
                    <a:pt x="940" y="101"/>
                  </a:lnTo>
                  <a:lnTo>
                    <a:pt x="821" y="132"/>
                  </a:lnTo>
                  <a:lnTo>
                    <a:pt x="706" y="171"/>
                  </a:lnTo>
                  <a:lnTo>
                    <a:pt x="604" y="211"/>
                  </a:lnTo>
                  <a:lnTo>
                    <a:pt x="502" y="255"/>
                  </a:lnTo>
                  <a:lnTo>
                    <a:pt x="414" y="286"/>
                  </a:lnTo>
                  <a:lnTo>
                    <a:pt x="330" y="326"/>
                  </a:lnTo>
                  <a:lnTo>
                    <a:pt x="251" y="362"/>
                  </a:lnTo>
                  <a:lnTo>
                    <a:pt x="189" y="3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219480" y="2149560"/>
              <a:ext cx="933840" cy="416160"/>
            </a:xfrm>
            <a:custGeom>
              <a:avLst/>
              <a:gdLst/>
              <a:ahLst/>
              <a:rect l="0" t="0" r="r" b="b"/>
              <a:pathLst>
                <a:path w="2594" h="1156">
                  <a:moveTo>
                    <a:pt x="2431" y="185"/>
                  </a:moveTo>
                  <a:lnTo>
                    <a:pt x="2383" y="163"/>
                  </a:lnTo>
                  <a:lnTo>
                    <a:pt x="2330" y="145"/>
                  </a:lnTo>
                  <a:lnTo>
                    <a:pt x="2281" y="123"/>
                  </a:lnTo>
                  <a:lnTo>
                    <a:pt x="2220" y="105"/>
                  </a:lnTo>
                  <a:lnTo>
                    <a:pt x="2171" y="88"/>
                  </a:lnTo>
                  <a:lnTo>
                    <a:pt x="2118" y="74"/>
                  </a:lnTo>
                  <a:lnTo>
                    <a:pt x="2070" y="57"/>
                  </a:lnTo>
                  <a:lnTo>
                    <a:pt x="2026" y="48"/>
                  </a:lnTo>
                  <a:lnTo>
                    <a:pt x="1866" y="17"/>
                  </a:lnTo>
                  <a:lnTo>
                    <a:pt x="1711" y="8"/>
                  </a:lnTo>
                  <a:lnTo>
                    <a:pt x="1562" y="0"/>
                  </a:lnTo>
                  <a:lnTo>
                    <a:pt x="1420" y="8"/>
                  </a:lnTo>
                  <a:lnTo>
                    <a:pt x="1275" y="17"/>
                  </a:lnTo>
                  <a:lnTo>
                    <a:pt x="1134" y="39"/>
                  </a:lnTo>
                  <a:lnTo>
                    <a:pt x="1002" y="66"/>
                  </a:lnTo>
                  <a:lnTo>
                    <a:pt x="882" y="97"/>
                  </a:lnTo>
                  <a:lnTo>
                    <a:pt x="759" y="132"/>
                  </a:lnTo>
                  <a:lnTo>
                    <a:pt x="649" y="171"/>
                  </a:lnTo>
                  <a:lnTo>
                    <a:pt x="546" y="211"/>
                  </a:lnTo>
                  <a:lnTo>
                    <a:pt x="445" y="251"/>
                  </a:lnTo>
                  <a:lnTo>
                    <a:pt x="352" y="286"/>
                  </a:lnTo>
                  <a:lnTo>
                    <a:pt x="273" y="326"/>
                  </a:lnTo>
                  <a:lnTo>
                    <a:pt x="194" y="357"/>
                  </a:lnTo>
                  <a:lnTo>
                    <a:pt x="132" y="392"/>
                  </a:lnTo>
                  <a:lnTo>
                    <a:pt x="123" y="392"/>
                  </a:lnTo>
                  <a:lnTo>
                    <a:pt x="92" y="414"/>
                  </a:lnTo>
                  <a:lnTo>
                    <a:pt x="48" y="440"/>
                  </a:lnTo>
                  <a:lnTo>
                    <a:pt x="0" y="463"/>
                  </a:lnTo>
                  <a:lnTo>
                    <a:pt x="304" y="498"/>
                  </a:lnTo>
                  <a:lnTo>
                    <a:pt x="132" y="644"/>
                  </a:lnTo>
                  <a:lnTo>
                    <a:pt x="414" y="658"/>
                  </a:lnTo>
                  <a:lnTo>
                    <a:pt x="251" y="821"/>
                  </a:lnTo>
                  <a:lnTo>
                    <a:pt x="524" y="847"/>
                  </a:lnTo>
                  <a:lnTo>
                    <a:pt x="366" y="993"/>
                  </a:lnTo>
                  <a:lnTo>
                    <a:pt x="608" y="993"/>
                  </a:lnTo>
                  <a:lnTo>
                    <a:pt x="454" y="1156"/>
                  </a:lnTo>
                  <a:lnTo>
                    <a:pt x="537" y="1129"/>
                  </a:lnTo>
                  <a:lnTo>
                    <a:pt x="626" y="1107"/>
                  </a:lnTo>
                  <a:lnTo>
                    <a:pt x="710" y="1081"/>
                  </a:lnTo>
                  <a:lnTo>
                    <a:pt x="799" y="1059"/>
                  </a:lnTo>
                  <a:lnTo>
                    <a:pt x="900" y="1041"/>
                  </a:lnTo>
                  <a:lnTo>
                    <a:pt x="993" y="1024"/>
                  </a:lnTo>
                  <a:lnTo>
                    <a:pt x="1085" y="1002"/>
                  </a:lnTo>
                  <a:lnTo>
                    <a:pt x="1187" y="993"/>
                  </a:lnTo>
                  <a:lnTo>
                    <a:pt x="1288" y="975"/>
                  </a:lnTo>
                  <a:lnTo>
                    <a:pt x="1390" y="971"/>
                  </a:lnTo>
                  <a:lnTo>
                    <a:pt x="1491" y="962"/>
                  </a:lnTo>
                  <a:lnTo>
                    <a:pt x="1601" y="953"/>
                  </a:lnTo>
                  <a:lnTo>
                    <a:pt x="1703" y="944"/>
                  </a:lnTo>
                  <a:lnTo>
                    <a:pt x="1804" y="944"/>
                  </a:lnTo>
                  <a:lnTo>
                    <a:pt x="1914" y="944"/>
                  </a:lnTo>
                  <a:lnTo>
                    <a:pt x="2017" y="944"/>
                  </a:lnTo>
                  <a:lnTo>
                    <a:pt x="2087" y="944"/>
                  </a:lnTo>
                  <a:lnTo>
                    <a:pt x="2158" y="944"/>
                  </a:lnTo>
                  <a:lnTo>
                    <a:pt x="2242" y="953"/>
                  </a:lnTo>
                  <a:lnTo>
                    <a:pt x="2312" y="953"/>
                  </a:lnTo>
                  <a:lnTo>
                    <a:pt x="2383" y="962"/>
                  </a:lnTo>
                  <a:lnTo>
                    <a:pt x="2453" y="975"/>
                  </a:lnTo>
                  <a:lnTo>
                    <a:pt x="2524" y="993"/>
                  </a:lnTo>
                  <a:lnTo>
                    <a:pt x="2594" y="1010"/>
                  </a:lnTo>
                  <a:lnTo>
                    <a:pt x="2555" y="944"/>
                  </a:lnTo>
                  <a:lnTo>
                    <a:pt x="2515" y="865"/>
                  </a:lnTo>
                  <a:lnTo>
                    <a:pt x="2471" y="807"/>
                  </a:lnTo>
                  <a:lnTo>
                    <a:pt x="2453" y="781"/>
                  </a:lnTo>
                  <a:lnTo>
                    <a:pt x="2383" y="763"/>
                  </a:lnTo>
                  <a:lnTo>
                    <a:pt x="2330" y="733"/>
                  </a:lnTo>
                  <a:lnTo>
                    <a:pt x="2299" y="693"/>
                  </a:lnTo>
                  <a:lnTo>
                    <a:pt x="2281" y="636"/>
                  </a:lnTo>
                  <a:lnTo>
                    <a:pt x="2281" y="587"/>
                  </a:lnTo>
                  <a:lnTo>
                    <a:pt x="2299" y="537"/>
                  </a:lnTo>
                  <a:lnTo>
                    <a:pt x="2343" y="498"/>
                  </a:lnTo>
                  <a:lnTo>
                    <a:pt x="2414" y="480"/>
                  </a:lnTo>
                  <a:lnTo>
                    <a:pt x="2431" y="18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43440" y="2160720"/>
              <a:ext cx="157680" cy="66960"/>
            </a:xfrm>
            <a:custGeom>
              <a:avLst/>
              <a:gdLst/>
              <a:ahLst/>
              <a:rect l="0" t="0" r="r" b="b"/>
              <a:pathLst>
                <a:path w="438" h="186">
                  <a:moveTo>
                    <a:pt x="0" y="39"/>
                  </a:moveTo>
                  <a:lnTo>
                    <a:pt x="0" y="39"/>
                  </a:lnTo>
                  <a:lnTo>
                    <a:pt x="52" y="57"/>
                  </a:lnTo>
                  <a:lnTo>
                    <a:pt x="101" y="66"/>
                  </a:lnTo>
                  <a:lnTo>
                    <a:pt x="155" y="79"/>
                  </a:lnTo>
                  <a:lnTo>
                    <a:pt x="195" y="98"/>
                  </a:lnTo>
                  <a:lnTo>
                    <a:pt x="256" y="120"/>
                  </a:lnTo>
                  <a:lnTo>
                    <a:pt x="305" y="137"/>
                  </a:lnTo>
                  <a:lnTo>
                    <a:pt x="359" y="159"/>
                  </a:lnTo>
                  <a:lnTo>
                    <a:pt x="407" y="186"/>
                  </a:lnTo>
                  <a:lnTo>
                    <a:pt x="438" y="146"/>
                  </a:lnTo>
                  <a:lnTo>
                    <a:pt x="381" y="120"/>
                  </a:lnTo>
                  <a:lnTo>
                    <a:pt x="327" y="98"/>
                  </a:lnTo>
                  <a:lnTo>
                    <a:pt x="265" y="79"/>
                  </a:lnTo>
                  <a:lnTo>
                    <a:pt x="225" y="66"/>
                  </a:lnTo>
                  <a:lnTo>
                    <a:pt x="164" y="39"/>
                  </a:lnTo>
                  <a:lnTo>
                    <a:pt x="115" y="30"/>
                  </a:lnTo>
                  <a:lnTo>
                    <a:pt x="61" y="17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262320" y="2141640"/>
              <a:ext cx="686160" cy="154440"/>
            </a:xfrm>
            <a:custGeom>
              <a:avLst/>
              <a:gdLst/>
              <a:ahLst/>
              <a:rect l="0" t="0" r="r" b="b"/>
              <a:pathLst>
                <a:path w="1906" h="429">
                  <a:moveTo>
                    <a:pt x="22" y="429"/>
                  </a:moveTo>
                  <a:lnTo>
                    <a:pt x="22" y="429"/>
                  </a:lnTo>
                  <a:lnTo>
                    <a:pt x="92" y="398"/>
                  </a:lnTo>
                  <a:lnTo>
                    <a:pt x="163" y="368"/>
                  </a:lnTo>
                  <a:lnTo>
                    <a:pt x="242" y="332"/>
                  </a:lnTo>
                  <a:lnTo>
                    <a:pt x="335" y="292"/>
                  </a:lnTo>
                  <a:lnTo>
                    <a:pt x="436" y="252"/>
                  </a:lnTo>
                  <a:lnTo>
                    <a:pt x="538" y="212"/>
                  </a:lnTo>
                  <a:lnTo>
                    <a:pt x="649" y="172"/>
                  </a:lnTo>
                  <a:lnTo>
                    <a:pt x="759" y="142"/>
                  </a:lnTo>
                  <a:lnTo>
                    <a:pt x="891" y="105"/>
                  </a:lnTo>
                  <a:lnTo>
                    <a:pt x="1024" y="83"/>
                  </a:lnTo>
                  <a:lnTo>
                    <a:pt x="1156" y="66"/>
                  </a:lnTo>
                  <a:lnTo>
                    <a:pt x="1297" y="48"/>
                  </a:lnTo>
                  <a:lnTo>
                    <a:pt x="1439" y="48"/>
                  </a:lnTo>
                  <a:lnTo>
                    <a:pt x="1593" y="48"/>
                  </a:lnTo>
                  <a:lnTo>
                    <a:pt x="1743" y="66"/>
                  </a:lnTo>
                  <a:lnTo>
                    <a:pt x="1898" y="92"/>
                  </a:lnTo>
                  <a:lnTo>
                    <a:pt x="1906" y="48"/>
                  </a:lnTo>
                  <a:lnTo>
                    <a:pt x="1743" y="26"/>
                  </a:lnTo>
                  <a:lnTo>
                    <a:pt x="1593" y="8"/>
                  </a:lnTo>
                  <a:lnTo>
                    <a:pt x="1439" y="0"/>
                  </a:lnTo>
                  <a:lnTo>
                    <a:pt x="1297" y="8"/>
                  </a:lnTo>
                  <a:lnTo>
                    <a:pt x="1156" y="26"/>
                  </a:lnTo>
                  <a:lnTo>
                    <a:pt x="1015" y="44"/>
                  </a:lnTo>
                  <a:lnTo>
                    <a:pt x="882" y="74"/>
                  </a:lnTo>
                  <a:lnTo>
                    <a:pt x="750" y="105"/>
                  </a:lnTo>
                  <a:lnTo>
                    <a:pt x="640" y="142"/>
                  </a:lnTo>
                  <a:lnTo>
                    <a:pt x="516" y="181"/>
                  </a:lnTo>
                  <a:lnTo>
                    <a:pt x="414" y="212"/>
                  </a:lnTo>
                  <a:lnTo>
                    <a:pt x="313" y="252"/>
                  </a:lnTo>
                  <a:lnTo>
                    <a:pt x="224" y="292"/>
                  </a:lnTo>
                  <a:lnTo>
                    <a:pt x="141" y="332"/>
                  </a:lnTo>
                  <a:lnTo>
                    <a:pt x="61" y="368"/>
                  </a:lnTo>
                  <a:lnTo>
                    <a:pt x="0" y="390"/>
                  </a:lnTo>
                  <a:lnTo>
                    <a:pt x="0" y="390"/>
                  </a:lnTo>
                  <a:lnTo>
                    <a:pt x="22" y="4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197160" y="2284560"/>
              <a:ext cx="73440" cy="46440"/>
            </a:xfrm>
            <a:custGeom>
              <a:avLst/>
              <a:gdLst/>
              <a:ahLst/>
              <a:rect l="0" t="0" r="r" b="b"/>
              <a:pathLst>
                <a:path w="204" h="129">
                  <a:moveTo>
                    <a:pt x="62" y="80"/>
                  </a:moveTo>
                  <a:lnTo>
                    <a:pt x="80" y="112"/>
                  </a:lnTo>
                  <a:lnTo>
                    <a:pt x="124" y="84"/>
                  </a:lnTo>
                  <a:lnTo>
                    <a:pt x="173" y="53"/>
                  </a:lnTo>
                  <a:lnTo>
                    <a:pt x="196" y="45"/>
                  </a:lnTo>
                  <a:lnTo>
                    <a:pt x="204" y="40"/>
                  </a:lnTo>
                  <a:lnTo>
                    <a:pt x="182" y="0"/>
                  </a:lnTo>
                  <a:lnTo>
                    <a:pt x="173" y="4"/>
                  </a:lnTo>
                  <a:lnTo>
                    <a:pt x="133" y="30"/>
                  </a:lnTo>
                  <a:lnTo>
                    <a:pt x="93" y="53"/>
                  </a:lnTo>
                  <a:lnTo>
                    <a:pt x="39" y="84"/>
                  </a:lnTo>
                  <a:lnTo>
                    <a:pt x="62" y="129"/>
                  </a:lnTo>
                  <a:lnTo>
                    <a:pt x="39" y="84"/>
                  </a:lnTo>
                  <a:lnTo>
                    <a:pt x="0" y="112"/>
                  </a:lnTo>
                  <a:lnTo>
                    <a:pt x="62" y="129"/>
                  </a:lnTo>
                  <a:lnTo>
                    <a:pt x="62" y="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219480" y="2313000"/>
              <a:ext cx="130680" cy="47880"/>
            </a:xfrm>
            <a:custGeom>
              <a:avLst/>
              <a:gdLst/>
              <a:ahLst/>
              <a:rect l="0" t="0" r="r" b="b"/>
              <a:pathLst>
                <a:path w="363" h="133">
                  <a:moveTo>
                    <a:pt x="323" y="115"/>
                  </a:moveTo>
                  <a:lnTo>
                    <a:pt x="301" y="57"/>
                  </a:lnTo>
                  <a:lnTo>
                    <a:pt x="0" y="0"/>
                  </a:lnTo>
                  <a:lnTo>
                    <a:pt x="0" y="75"/>
                  </a:lnTo>
                  <a:lnTo>
                    <a:pt x="301" y="133"/>
                  </a:lnTo>
                  <a:lnTo>
                    <a:pt x="284" y="75"/>
                  </a:lnTo>
                  <a:lnTo>
                    <a:pt x="323" y="115"/>
                  </a:lnTo>
                  <a:lnTo>
                    <a:pt x="363" y="75"/>
                  </a:lnTo>
                  <a:lnTo>
                    <a:pt x="301" y="57"/>
                  </a:lnTo>
                  <a:lnTo>
                    <a:pt x="323" y="1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243240" y="2327400"/>
              <a:ext cx="90720" cy="60840"/>
            </a:xfrm>
            <a:custGeom>
              <a:avLst/>
              <a:gdLst/>
              <a:ahLst/>
              <a:rect l="0" t="0" r="r" b="b"/>
              <a:pathLst>
                <a:path w="252" h="169">
                  <a:moveTo>
                    <a:pt x="61" y="138"/>
                  </a:moveTo>
                  <a:lnTo>
                    <a:pt x="83" y="169"/>
                  </a:lnTo>
                  <a:lnTo>
                    <a:pt x="252" y="22"/>
                  </a:lnTo>
                  <a:lnTo>
                    <a:pt x="212" y="0"/>
                  </a:lnTo>
                  <a:lnTo>
                    <a:pt x="39" y="138"/>
                  </a:lnTo>
                  <a:lnTo>
                    <a:pt x="61" y="169"/>
                  </a:lnTo>
                  <a:lnTo>
                    <a:pt x="39" y="138"/>
                  </a:lnTo>
                  <a:lnTo>
                    <a:pt x="0" y="169"/>
                  </a:lnTo>
                  <a:lnTo>
                    <a:pt x="61" y="169"/>
                  </a:lnTo>
                  <a:lnTo>
                    <a:pt x="61" y="1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265560" y="2378160"/>
              <a:ext cx="119520" cy="46440"/>
            </a:xfrm>
            <a:custGeom>
              <a:avLst/>
              <a:gdLst/>
              <a:ahLst/>
              <a:rect l="0" t="0" r="r" b="b"/>
              <a:pathLst>
                <a:path w="332" h="129">
                  <a:moveTo>
                    <a:pt x="306" y="112"/>
                  </a:moveTo>
                  <a:lnTo>
                    <a:pt x="284" y="40"/>
                  </a:lnTo>
                  <a:lnTo>
                    <a:pt x="0" y="0"/>
                  </a:lnTo>
                  <a:lnTo>
                    <a:pt x="0" y="71"/>
                  </a:lnTo>
                  <a:lnTo>
                    <a:pt x="284" y="129"/>
                  </a:lnTo>
                  <a:lnTo>
                    <a:pt x="262" y="53"/>
                  </a:lnTo>
                  <a:lnTo>
                    <a:pt x="306" y="112"/>
                  </a:lnTo>
                  <a:lnTo>
                    <a:pt x="332" y="40"/>
                  </a:lnTo>
                  <a:lnTo>
                    <a:pt x="284" y="40"/>
                  </a:lnTo>
                  <a:lnTo>
                    <a:pt x="306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290760" y="2386080"/>
              <a:ext cx="84600" cy="66960"/>
            </a:xfrm>
            <a:custGeom>
              <a:avLst/>
              <a:gdLst/>
              <a:ahLst/>
              <a:rect l="0" t="0" r="r" b="b"/>
              <a:pathLst>
                <a:path w="235" h="186">
                  <a:moveTo>
                    <a:pt x="52" y="146"/>
                  </a:moveTo>
                  <a:lnTo>
                    <a:pt x="71" y="177"/>
                  </a:lnTo>
                  <a:lnTo>
                    <a:pt x="235" y="22"/>
                  </a:lnTo>
                  <a:lnTo>
                    <a:pt x="196" y="0"/>
                  </a:lnTo>
                  <a:lnTo>
                    <a:pt x="30" y="155"/>
                  </a:lnTo>
                  <a:lnTo>
                    <a:pt x="52" y="186"/>
                  </a:lnTo>
                  <a:lnTo>
                    <a:pt x="30" y="155"/>
                  </a:lnTo>
                  <a:lnTo>
                    <a:pt x="0" y="177"/>
                  </a:lnTo>
                  <a:lnTo>
                    <a:pt x="52" y="186"/>
                  </a:lnTo>
                  <a:lnTo>
                    <a:pt x="52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309840" y="2436840"/>
              <a:ext cx="117720" cy="46440"/>
            </a:xfrm>
            <a:custGeom>
              <a:avLst/>
              <a:gdLst/>
              <a:ahLst/>
              <a:rect l="0" t="0" r="r" b="b"/>
              <a:pathLst>
                <a:path w="327" h="129">
                  <a:moveTo>
                    <a:pt x="287" y="129"/>
                  </a:moveTo>
                  <a:lnTo>
                    <a:pt x="274" y="62"/>
                  </a:lnTo>
                  <a:lnTo>
                    <a:pt x="0" y="0"/>
                  </a:lnTo>
                  <a:lnTo>
                    <a:pt x="0" y="80"/>
                  </a:lnTo>
                  <a:lnTo>
                    <a:pt x="274" y="129"/>
                  </a:lnTo>
                  <a:lnTo>
                    <a:pt x="256" y="62"/>
                  </a:lnTo>
                  <a:lnTo>
                    <a:pt x="287" y="129"/>
                  </a:lnTo>
                  <a:lnTo>
                    <a:pt x="327" y="62"/>
                  </a:lnTo>
                  <a:lnTo>
                    <a:pt x="274" y="62"/>
                  </a:lnTo>
                  <a:lnTo>
                    <a:pt x="287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327480" y="2448000"/>
              <a:ext cx="84600" cy="68760"/>
            </a:xfrm>
            <a:custGeom>
              <a:avLst/>
              <a:gdLst/>
              <a:ahLst/>
              <a:rect l="0" t="0" r="r" b="b"/>
              <a:pathLst>
                <a:path w="235" h="191">
                  <a:moveTo>
                    <a:pt x="62" y="151"/>
                  </a:moveTo>
                  <a:lnTo>
                    <a:pt x="84" y="187"/>
                  </a:lnTo>
                  <a:lnTo>
                    <a:pt x="235" y="35"/>
                  </a:lnTo>
                  <a:lnTo>
                    <a:pt x="204" y="0"/>
                  </a:lnTo>
                  <a:lnTo>
                    <a:pt x="44" y="160"/>
                  </a:lnTo>
                  <a:lnTo>
                    <a:pt x="62" y="191"/>
                  </a:lnTo>
                  <a:lnTo>
                    <a:pt x="44" y="160"/>
                  </a:lnTo>
                  <a:lnTo>
                    <a:pt x="0" y="191"/>
                  </a:lnTo>
                  <a:lnTo>
                    <a:pt x="62" y="191"/>
                  </a:lnTo>
                  <a:lnTo>
                    <a:pt x="62" y="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3348000" y="2498760"/>
              <a:ext cx="106560" cy="46440"/>
            </a:xfrm>
            <a:custGeom>
              <a:avLst/>
              <a:gdLst/>
              <a:ahLst/>
              <a:rect l="0" t="0" r="r" b="b"/>
              <a:pathLst>
                <a:path w="296" h="129">
                  <a:moveTo>
                    <a:pt x="265" y="84"/>
                  </a:moveTo>
                  <a:lnTo>
                    <a:pt x="247" y="0"/>
                  </a:lnTo>
                  <a:lnTo>
                    <a:pt x="0" y="22"/>
                  </a:lnTo>
                  <a:lnTo>
                    <a:pt x="0" y="129"/>
                  </a:lnTo>
                  <a:lnTo>
                    <a:pt x="247" y="103"/>
                  </a:lnTo>
                  <a:lnTo>
                    <a:pt x="217" y="40"/>
                  </a:lnTo>
                  <a:lnTo>
                    <a:pt x="265" y="84"/>
                  </a:lnTo>
                  <a:lnTo>
                    <a:pt x="296" y="0"/>
                  </a:lnTo>
                  <a:lnTo>
                    <a:pt x="247" y="0"/>
                  </a:lnTo>
                  <a:lnTo>
                    <a:pt x="265" y="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359160" y="2505240"/>
              <a:ext cx="87840" cy="79560"/>
            </a:xfrm>
            <a:custGeom>
              <a:avLst/>
              <a:gdLst/>
              <a:ahLst/>
              <a:rect l="0" t="0" r="r" b="b"/>
              <a:pathLst>
                <a:path w="244" h="221">
                  <a:moveTo>
                    <a:pt x="71" y="155"/>
                  </a:moveTo>
                  <a:lnTo>
                    <a:pt x="98" y="181"/>
                  </a:lnTo>
                  <a:lnTo>
                    <a:pt x="244" y="17"/>
                  </a:lnTo>
                  <a:lnTo>
                    <a:pt x="191" y="0"/>
                  </a:lnTo>
                  <a:lnTo>
                    <a:pt x="48" y="164"/>
                  </a:lnTo>
                  <a:lnTo>
                    <a:pt x="80" y="190"/>
                  </a:lnTo>
                  <a:lnTo>
                    <a:pt x="48" y="164"/>
                  </a:lnTo>
                  <a:lnTo>
                    <a:pt x="0" y="221"/>
                  </a:lnTo>
                  <a:lnTo>
                    <a:pt x="80" y="190"/>
                  </a:lnTo>
                  <a:lnTo>
                    <a:pt x="71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382920" y="2481120"/>
              <a:ext cx="562320" cy="92520"/>
            </a:xfrm>
            <a:custGeom>
              <a:avLst/>
              <a:gdLst/>
              <a:ahLst/>
              <a:rect l="0" t="0" r="r" b="b"/>
              <a:pathLst>
                <a:path w="1562" h="257">
                  <a:moveTo>
                    <a:pt x="1562" y="8"/>
                  </a:moveTo>
                  <a:lnTo>
                    <a:pt x="1562" y="8"/>
                  </a:lnTo>
                  <a:lnTo>
                    <a:pt x="1460" y="0"/>
                  </a:lnTo>
                  <a:lnTo>
                    <a:pt x="1350" y="0"/>
                  </a:lnTo>
                  <a:lnTo>
                    <a:pt x="1248" y="0"/>
                  </a:lnTo>
                  <a:lnTo>
                    <a:pt x="1147" y="8"/>
                  </a:lnTo>
                  <a:lnTo>
                    <a:pt x="1032" y="17"/>
                  </a:lnTo>
                  <a:lnTo>
                    <a:pt x="931" y="30"/>
                  </a:lnTo>
                  <a:lnTo>
                    <a:pt x="830" y="39"/>
                  </a:lnTo>
                  <a:lnTo>
                    <a:pt x="732" y="48"/>
                  </a:lnTo>
                  <a:lnTo>
                    <a:pt x="630" y="67"/>
                  </a:lnTo>
                  <a:lnTo>
                    <a:pt x="529" y="84"/>
                  </a:lnTo>
                  <a:lnTo>
                    <a:pt x="436" y="106"/>
                  </a:lnTo>
                  <a:lnTo>
                    <a:pt x="343" y="124"/>
                  </a:lnTo>
                  <a:lnTo>
                    <a:pt x="251" y="150"/>
                  </a:lnTo>
                  <a:lnTo>
                    <a:pt x="163" y="172"/>
                  </a:lnTo>
                  <a:lnTo>
                    <a:pt x="79" y="200"/>
                  </a:lnTo>
                  <a:lnTo>
                    <a:pt x="0" y="222"/>
                  </a:lnTo>
                  <a:lnTo>
                    <a:pt x="8" y="257"/>
                  </a:lnTo>
                  <a:lnTo>
                    <a:pt x="92" y="231"/>
                  </a:lnTo>
                  <a:lnTo>
                    <a:pt x="171" y="209"/>
                  </a:lnTo>
                  <a:lnTo>
                    <a:pt x="264" y="181"/>
                  </a:lnTo>
                  <a:lnTo>
                    <a:pt x="352" y="164"/>
                  </a:lnTo>
                  <a:lnTo>
                    <a:pt x="445" y="142"/>
                  </a:lnTo>
                  <a:lnTo>
                    <a:pt x="537" y="124"/>
                  </a:lnTo>
                  <a:lnTo>
                    <a:pt x="630" y="106"/>
                  </a:lnTo>
                  <a:lnTo>
                    <a:pt x="732" y="93"/>
                  </a:lnTo>
                  <a:lnTo>
                    <a:pt x="830" y="75"/>
                  </a:lnTo>
                  <a:lnTo>
                    <a:pt x="931" y="67"/>
                  </a:lnTo>
                  <a:lnTo>
                    <a:pt x="1032" y="57"/>
                  </a:lnTo>
                  <a:lnTo>
                    <a:pt x="1147" y="48"/>
                  </a:lnTo>
                  <a:lnTo>
                    <a:pt x="1248" y="48"/>
                  </a:lnTo>
                  <a:lnTo>
                    <a:pt x="1350" y="48"/>
                  </a:lnTo>
                  <a:lnTo>
                    <a:pt x="1460" y="48"/>
                  </a:lnTo>
                  <a:lnTo>
                    <a:pt x="1562" y="39"/>
                  </a:lnTo>
                  <a:lnTo>
                    <a:pt x="1562" y="39"/>
                  </a:lnTo>
                  <a:lnTo>
                    <a:pt x="15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943440" y="2479680"/>
              <a:ext cx="230400" cy="47880"/>
            </a:xfrm>
            <a:custGeom>
              <a:avLst/>
              <a:gdLst/>
              <a:ahLst/>
              <a:rect l="0" t="0" r="r" b="b"/>
              <a:pathLst>
                <a:path w="640" h="133">
                  <a:moveTo>
                    <a:pt x="561" y="102"/>
                  </a:moveTo>
                  <a:lnTo>
                    <a:pt x="591" y="75"/>
                  </a:lnTo>
                  <a:lnTo>
                    <a:pt x="521" y="48"/>
                  </a:lnTo>
                  <a:lnTo>
                    <a:pt x="450" y="39"/>
                  </a:lnTo>
                  <a:lnTo>
                    <a:pt x="367" y="26"/>
                  </a:lnTo>
                  <a:lnTo>
                    <a:pt x="295" y="17"/>
                  </a:lnTo>
                  <a:lnTo>
                    <a:pt x="224" y="8"/>
                  </a:lnTo>
                  <a:lnTo>
                    <a:pt x="145" y="0"/>
                  </a:lnTo>
                  <a:lnTo>
                    <a:pt x="70" y="0"/>
                  </a:lnTo>
                  <a:lnTo>
                    <a:pt x="0" y="8"/>
                  </a:lnTo>
                  <a:lnTo>
                    <a:pt x="0" y="39"/>
                  </a:lnTo>
                  <a:lnTo>
                    <a:pt x="70" y="48"/>
                  </a:lnTo>
                  <a:lnTo>
                    <a:pt x="145" y="48"/>
                  </a:lnTo>
                  <a:lnTo>
                    <a:pt x="224" y="48"/>
                  </a:lnTo>
                  <a:lnTo>
                    <a:pt x="295" y="48"/>
                  </a:lnTo>
                  <a:lnTo>
                    <a:pt x="367" y="67"/>
                  </a:lnTo>
                  <a:lnTo>
                    <a:pt x="437" y="75"/>
                  </a:lnTo>
                  <a:lnTo>
                    <a:pt x="508" y="93"/>
                  </a:lnTo>
                  <a:lnTo>
                    <a:pt x="583" y="106"/>
                  </a:lnTo>
                  <a:lnTo>
                    <a:pt x="609" y="84"/>
                  </a:lnTo>
                  <a:lnTo>
                    <a:pt x="583" y="106"/>
                  </a:lnTo>
                  <a:lnTo>
                    <a:pt x="640" y="133"/>
                  </a:lnTo>
                  <a:lnTo>
                    <a:pt x="609" y="84"/>
                  </a:lnTo>
                  <a:lnTo>
                    <a:pt x="561" y="1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092480" y="2422440"/>
              <a:ext cx="70200" cy="93960"/>
            </a:xfrm>
            <a:custGeom>
              <a:avLst/>
              <a:gdLst/>
              <a:ahLst/>
              <a:rect l="0" t="0" r="r" b="b"/>
              <a:pathLst>
                <a:path w="195" h="261">
                  <a:moveTo>
                    <a:pt x="17" y="39"/>
                  </a:moveTo>
                  <a:lnTo>
                    <a:pt x="0" y="30"/>
                  </a:lnTo>
                  <a:lnTo>
                    <a:pt x="17" y="52"/>
                  </a:lnTo>
                  <a:lnTo>
                    <a:pt x="61" y="119"/>
                  </a:lnTo>
                  <a:lnTo>
                    <a:pt x="102" y="195"/>
                  </a:lnTo>
                  <a:lnTo>
                    <a:pt x="142" y="261"/>
                  </a:lnTo>
                  <a:lnTo>
                    <a:pt x="195" y="243"/>
                  </a:lnTo>
                  <a:lnTo>
                    <a:pt x="155" y="177"/>
                  </a:lnTo>
                  <a:lnTo>
                    <a:pt x="102" y="97"/>
                  </a:lnTo>
                  <a:lnTo>
                    <a:pt x="61" y="39"/>
                  </a:lnTo>
                  <a:lnTo>
                    <a:pt x="39" y="4"/>
                  </a:lnTo>
                  <a:lnTo>
                    <a:pt x="17" y="0"/>
                  </a:lnTo>
                  <a:lnTo>
                    <a:pt x="39" y="4"/>
                  </a:lnTo>
                  <a:lnTo>
                    <a:pt x="39" y="0"/>
                  </a:lnTo>
                  <a:lnTo>
                    <a:pt x="17" y="0"/>
                  </a:lnTo>
                  <a:lnTo>
                    <a:pt x="17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030560" y="2317680"/>
              <a:ext cx="70200" cy="120960"/>
            </a:xfrm>
            <a:custGeom>
              <a:avLst/>
              <a:gdLst/>
              <a:ahLst/>
              <a:rect l="0" t="0" r="r" b="b"/>
              <a:pathLst>
                <a:path w="195" h="336">
                  <a:moveTo>
                    <a:pt x="124" y="17"/>
                  </a:moveTo>
                  <a:lnTo>
                    <a:pt x="155" y="0"/>
                  </a:lnTo>
                  <a:lnTo>
                    <a:pt x="70" y="17"/>
                  </a:lnTo>
                  <a:lnTo>
                    <a:pt x="17" y="66"/>
                  </a:lnTo>
                  <a:lnTo>
                    <a:pt x="0" y="123"/>
                  </a:lnTo>
                  <a:lnTo>
                    <a:pt x="0" y="172"/>
                  </a:lnTo>
                  <a:lnTo>
                    <a:pt x="17" y="230"/>
                  </a:lnTo>
                  <a:lnTo>
                    <a:pt x="61" y="287"/>
                  </a:lnTo>
                  <a:lnTo>
                    <a:pt x="124" y="318"/>
                  </a:lnTo>
                  <a:lnTo>
                    <a:pt x="195" y="336"/>
                  </a:lnTo>
                  <a:lnTo>
                    <a:pt x="195" y="296"/>
                  </a:lnTo>
                  <a:lnTo>
                    <a:pt x="133" y="287"/>
                  </a:lnTo>
                  <a:lnTo>
                    <a:pt x="92" y="261"/>
                  </a:lnTo>
                  <a:lnTo>
                    <a:pt x="61" y="221"/>
                  </a:lnTo>
                  <a:lnTo>
                    <a:pt x="39" y="172"/>
                  </a:lnTo>
                  <a:lnTo>
                    <a:pt x="39" y="123"/>
                  </a:lnTo>
                  <a:lnTo>
                    <a:pt x="61" y="79"/>
                  </a:lnTo>
                  <a:lnTo>
                    <a:pt x="92" y="57"/>
                  </a:lnTo>
                  <a:lnTo>
                    <a:pt x="155" y="30"/>
                  </a:lnTo>
                  <a:lnTo>
                    <a:pt x="172" y="17"/>
                  </a:lnTo>
                  <a:lnTo>
                    <a:pt x="155" y="30"/>
                  </a:lnTo>
                  <a:lnTo>
                    <a:pt x="172" y="30"/>
                  </a:lnTo>
                  <a:lnTo>
                    <a:pt x="172" y="17"/>
                  </a:lnTo>
                  <a:lnTo>
                    <a:pt x="12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078440" y="2211480"/>
              <a:ext cx="59040" cy="111600"/>
            </a:xfrm>
            <a:custGeom>
              <a:avLst/>
              <a:gdLst/>
              <a:ahLst/>
              <a:rect l="0" t="0" r="r" b="b"/>
              <a:pathLst>
                <a:path w="164" h="310">
                  <a:moveTo>
                    <a:pt x="79" y="39"/>
                  </a:moveTo>
                  <a:lnTo>
                    <a:pt x="57" y="17"/>
                  </a:lnTo>
                  <a:lnTo>
                    <a:pt x="0" y="310"/>
                  </a:lnTo>
                  <a:lnTo>
                    <a:pt x="102" y="310"/>
                  </a:lnTo>
                  <a:lnTo>
                    <a:pt x="164" y="17"/>
                  </a:lnTo>
                  <a:lnTo>
                    <a:pt x="142" y="0"/>
                  </a:lnTo>
                  <a:lnTo>
                    <a:pt x="164" y="17"/>
                  </a:lnTo>
                  <a:lnTo>
                    <a:pt x="164" y="8"/>
                  </a:lnTo>
                  <a:lnTo>
                    <a:pt x="142" y="0"/>
                  </a:lnTo>
                  <a:lnTo>
                    <a:pt x="79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7" name=""/>
          <p:cNvGrpSpPr/>
          <p:nvPr/>
        </p:nvGrpSpPr>
        <p:grpSpPr>
          <a:xfrm>
            <a:off x="2171520" y="2700360"/>
            <a:ext cx="1438920" cy="2224440"/>
            <a:chOff x="2171520" y="2700360"/>
            <a:chExt cx="1438920" cy="2224440"/>
          </a:xfrm>
        </p:grpSpPr>
        <p:sp>
          <p:nvSpPr>
            <p:cNvPr id="438" name=""/>
            <p:cNvSpPr/>
            <p:nvPr/>
          </p:nvSpPr>
          <p:spPr>
            <a:xfrm>
              <a:off x="2197080" y="4749840"/>
              <a:ext cx="1413360" cy="174960"/>
            </a:xfrm>
            <a:custGeom>
              <a:avLst/>
              <a:gdLst/>
              <a:ahLst/>
              <a:rect l="0" t="0" r="r" b="b"/>
              <a:pathLst>
                <a:path w="3926" h="486">
                  <a:moveTo>
                    <a:pt x="0" y="486"/>
                  </a:moveTo>
                  <a:lnTo>
                    <a:pt x="0" y="0"/>
                  </a:lnTo>
                  <a:lnTo>
                    <a:pt x="3926" y="0"/>
                  </a:lnTo>
                  <a:lnTo>
                    <a:pt x="3926" y="486"/>
                  </a:lnTo>
                  <a:lnTo>
                    <a:pt x="0" y="4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71520" y="2700360"/>
              <a:ext cx="140040" cy="356040"/>
            </a:xfrm>
            <a:custGeom>
              <a:avLst/>
              <a:gdLst/>
              <a:ahLst/>
              <a:rect l="0" t="0" r="r" b="b"/>
              <a:pathLst>
                <a:path w="389" h="989">
                  <a:moveTo>
                    <a:pt x="314" y="989"/>
                  </a:moveTo>
                  <a:lnTo>
                    <a:pt x="389" y="941"/>
                  </a:lnTo>
                  <a:lnTo>
                    <a:pt x="22" y="8"/>
                  </a:lnTo>
                  <a:lnTo>
                    <a:pt x="8" y="0"/>
                  </a:lnTo>
                  <a:lnTo>
                    <a:pt x="0" y="30"/>
                  </a:lnTo>
                  <a:lnTo>
                    <a:pt x="314" y="9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762280" y="3699000"/>
              <a:ext cx="451080" cy="1002240"/>
            </a:xfrm>
            <a:custGeom>
              <a:avLst/>
              <a:gdLst/>
              <a:ahLst/>
              <a:rect l="0" t="0" r="r" b="b"/>
              <a:pathLst>
                <a:path w="1253" h="2784">
                  <a:moveTo>
                    <a:pt x="238" y="2766"/>
                  </a:moveTo>
                  <a:lnTo>
                    <a:pt x="216" y="2691"/>
                  </a:lnTo>
                  <a:lnTo>
                    <a:pt x="229" y="2608"/>
                  </a:lnTo>
                  <a:lnTo>
                    <a:pt x="251" y="2608"/>
                  </a:lnTo>
                  <a:lnTo>
                    <a:pt x="202" y="2286"/>
                  </a:lnTo>
                  <a:lnTo>
                    <a:pt x="198" y="2033"/>
                  </a:lnTo>
                  <a:lnTo>
                    <a:pt x="171" y="1826"/>
                  </a:lnTo>
                  <a:lnTo>
                    <a:pt x="176" y="1623"/>
                  </a:lnTo>
                  <a:lnTo>
                    <a:pt x="145" y="1456"/>
                  </a:lnTo>
                  <a:lnTo>
                    <a:pt x="136" y="1143"/>
                  </a:lnTo>
                  <a:lnTo>
                    <a:pt x="136" y="781"/>
                  </a:lnTo>
                  <a:lnTo>
                    <a:pt x="79" y="661"/>
                  </a:lnTo>
                  <a:lnTo>
                    <a:pt x="35" y="485"/>
                  </a:lnTo>
                  <a:lnTo>
                    <a:pt x="0" y="119"/>
                  </a:lnTo>
                  <a:lnTo>
                    <a:pt x="4" y="0"/>
                  </a:lnTo>
                  <a:lnTo>
                    <a:pt x="167" y="35"/>
                  </a:lnTo>
                  <a:lnTo>
                    <a:pt x="246" y="39"/>
                  </a:lnTo>
                  <a:lnTo>
                    <a:pt x="268" y="4"/>
                  </a:lnTo>
                  <a:lnTo>
                    <a:pt x="423" y="30"/>
                  </a:lnTo>
                  <a:lnTo>
                    <a:pt x="577" y="101"/>
                  </a:lnTo>
                  <a:lnTo>
                    <a:pt x="781" y="238"/>
                  </a:lnTo>
                  <a:lnTo>
                    <a:pt x="1006" y="423"/>
                  </a:lnTo>
                  <a:lnTo>
                    <a:pt x="1147" y="546"/>
                  </a:lnTo>
                  <a:lnTo>
                    <a:pt x="1222" y="661"/>
                  </a:lnTo>
                  <a:lnTo>
                    <a:pt x="1196" y="944"/>
                  </a:lnTo>
                  <a:lnTo>
                    <a:pt x="1187" y="1006"/>
                  </a:lnTo>
                  <a:lnTo>
                    <a:pt x="1187" y="1196"/>
                  </a:lnTo>
                  <a:lnTo>
                    <a:pt x="1191" y="1341"/>
                  </a:lnTo>
                  <a:lnTo>
                    <a:pt x="1187" y="1425"/>
                  </a:lnTo>
                  <a:lnTo>
                    <a:pt x="1253" y="1954"/>
                  </a:lnTo>
                  <a:lnTo>
                    <a:pt x="1231" y="2171"/>
                  </a:lnTo>
                  <a:lnTo>
                    <a:pt x="1204" y="2497"/>
                  </a:lnTo>
                  <a:lnTo>
                    <a:pt x="1196" y="2555"/>
                  </a:lnTo>
                  <a:lnTo>
                    <a:pt x="1151" y="2731"/>
                  </a:lnTo>
                  <a:lnTo>
                    <a:pt x="1129" y="2753"/>
                  </a:lnTo>
                  <a:lnTo>
                    <a:pt x="812" y="2731"/>
                  </a:lnTo>
                  <a:lnTo>
                    <a:pt x="807" y="2731"/>
                  </a:lnTo>
                  <a:lnTo>
                    <a:pt x="781" y="2718"/>
                  </a:lnTo>
                  <a:lnTo>
                    <a:pt x="755" y="2630"/>
                  </a:lnTo>
                  <a:lnTo>
                    <a:pt x="799" y="2577"/>
                  </a:lnTo>
                  <a:lnTo>
                    <a:pt x="777" y="2480"/>
                  </a:lnTo>
                  <a:lnTo>
                    <a:pt x="812" y="2493"/>
                  </a:lnTo>
                  <a:lnTo>
                    <a:pt x="755" y="2427"/>
                  </a:lnTo>
                  <a:lnTo>
                    <a:pt x="737" y="2356"/>
                  </a:lnTo>
                  <a:lnTo>
                    <a:pt x="706" y="1972"/>
                  </a:lnTo>
                  <a:lnTo>
                    <a:pt x="702" y="2396"/>
                  </a:lnTo>
                  <a:lnTo>
                    <a:pt x="675" y="2537"/>
                  </a:lnTo>
                  <a:lnTo>
                    <a:pt x="688" y="2749"/>
                  </a:lnTo>
                  <a:lnTo>
                    <a:pt x="636" y="2771"/>
                  </a:lnTo>
                  <a:lnTo>
                    <a:pt x="449" y="2784"/>
                  </a:lnTo>
                  <a:lnTo>
                    <a:pt x="238" y="27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819520" y="3127320"/>
              <a:ext cx="697320" cy="914760"/>
            </a:xfrm>
            <a:custGeom>
              <a:avLst/>
              <a:gdLst/>
              <a:ahLst/>
              <a:rect l="0" t="0" r="r" b="b"/>
              <a:pathLst>
                <a:path w="1937" h="2541">
                  <a:moveTo>
                    <a:pt x="110" y="1592"/>
                  </a:moveTo>
                  <a:lnTo>
                    <a:pt x="264" y="1619"/>
                  </a:lnTo>
                  <a:lnTo>
                    <a:pt x="418" y="1689"/>
                  </a:lnTo>
                  <a:lnTo>
                    <a:pt x="622" y="1826"/>
                  </a:lnTo>
                  <a:lnTo>
                    <a:pt x="847" y="2011"/>
                  </a:lnTo>
                  <a:lnTo>
                    <a:pt x="988" y="2135"/>
                  </a:lnTo>
                  <a:lnTo>
                    <a:pt x="1063" y="2249"/>
                  </a:lnTo>
                  <a:lnTo>
                    <a:pt x="1037" y="2532"/>
                  </a:lnTo>
                  <a:lnTo>
                    <a:pt x="1090" y="2541"/>
                  </a:lnTo>
                  <a:lnTo>
                    <a:pt x="1262" y="2536"/>
                  </a:lnTo>
                  <a:lnTo>
                    <a:pt x="1390" y="2492"/>
                  </a:lnTo>
                  <a:lnTo>
                    <a:pt x="1420" y="2488"/>
                  </a:lnTo>
                  <a:lnTo>
                    <a:pt x="1416" y="2510"/>
                  </a:lnTo>
                  <a:lnTo>
                    <a:pt x="1488" y="2488"/>
                  </a:lnTo>
                  <a:lnTo>
                    <a:pt x="1279" y="2166"/>
                  </a:lnTo>
                  <a:lnTo>
                    <a:pt x="1143" y="1628"/>
                  </a:lnTo>
                  <a:lnTo>
                    <a:pt x="1024" y="1385"/>
                  </a:lnTo>
                  <a:lnTo>
                    <a:pt x="1002" y="1394"/>
                  </a:lnTo>
                  <a:lnTo>
                    <a:pt x="1090" y="1199"/>
                  </a:lnTo>
                  <a:lnTo>
                    <a:pt x="1125" y="1071"/>
                  </a:lnTo>
                  <a:lnTo>
                    <a:pt x="1173" y="1027"/>
                  </a:lnTo>
                  <a:lnTo>
                    <a:pt x="1262" y="996"/>
                  </a:lnTo>
                  <a:lnTo>
                    <a:pt x="1407" y="970"/>
                  </a:lnTo>
                  <a:lnTo>
                    <a:pt x="1633" y="1001"/>
                  </a:lnTo>
                  <a:lnTo>
                    <a:pt x="1805" y="917"/>
                  </a:lnTo>
                  <a:lnTo>
                    <a:pt x="1929" y="881"/>
                  </a:lnTo>
                  <a:lnTo>
                    <a:pt x="1937" y="767"/>
                  </a:lnTo>
                  <a:lnTo>
                    <a:pt x="1898" y="833"/>
                  </a:lnTo>
                  <a:lnTo>
                    <a:pt x="1871" y="833"/>
                  </a:lnTo>
                  <a:lnTo>
                    <a:pt x="1796" y="740"/>
                  </a:lnTo>
                  <a:lnTo>
                    <a:pt x="1730" y="657"/>
                  </a:lnTo>
                  <a:lnTo>
                    <a:pt x="1712" y="604"/>
                  </a:lnTo>
                  <a:lnTo>
                    <a:pt x="1761" y="568"/>
                  </a:lnTo>
                  <a:lnTo>
                    <a:pt x="1730" y="560"/>
                  </a:lnTo>
                  <a:lnTo>
                    <a:pt x="1699" y="577"/>
                  </a:lnTo>
                  <a:lnTo>
                    <a:pt x="1607" y="573"/>
                  </a:lnTo>
                  <a:lnTo>
                    <a:pt x="1518" y="546"/>
                  </a:lnTo>
                  <a:lnTo>
                    <a:pt x="1474" y="520"/>
                  </a:lnTo>
                  <a:lnTo>
                    <a:pt x="1385" y="476"/>
                  </a:lnTo>
                  <a:lnTo>
                    <a:pt x="1319" y="427"/>
                  </a:lnTo>
                  <a:lnTo>
                    <a:pt x="1244" y="423"/>
                  </a:lnTo>
                  <a:lnTo>
                    <a:pt x="1103" y="255"/>
                  </a:lnTo>
                  <a:lnTo>
                    <a:pt x="1063" y="220"/>
                  </a:lnTo>
                  <a:lnTo>
                    <a:pt x="1002" y="189"/>
                  </a:lnTo>
                  <a:lnTo>
                    <a:pt x="807" y="189"/>
                  </a:lnTo>
                  <a:lnTo>
                    <a:pt x="763" y="145"/>
                  </a:lnTo>
                  <a:lnTo>
                    <a:pt x="658" y="4"/>
                  </a:lnTo>
                  <a:lnTo>
                    <a:pt x="640" y="0"/>
                  </a:lnTo>
                  <a:lnTo>
                    <a:pt x="436" y="260"/>
                  </a:lnTo>
                  <a:lnTo>
                    <a:pt x="427" y="348"/>
                  </a:lnTo>
                  <a:lnTo>
                    <a:pt x="299" y="458"/>
                  </a:lnTo>
                  <a:lnTo>
                    <a:pt x="229" y="546"/>
                  </a:lnTo>
                  <a:lnTo>
                    <a:pt x="207" y="577"/>
                  </a:lnTo>
                  <a:lnTo>
                    <a:pt x="229" y="604"/>
                  </a:lnTo>
                  <a:lnTo>
                    <a:pt x="123" y="784"/>
                  </a:lnTo>
                  <a:lnTo>
                    <a:pt x="48" y="1005"/>
                  </a:lnTo>
                  <a:lnTo>
                    <a:pt x="0" y="1434"/>
                  </a:lnTo>
                  <a:lnTo>
                    <a:pt x="110" y="15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378160" y="3129120"/>
              <a:ext cx="481320" cy="613080"/>
            </a:xfrm>
            <a:custGeom>
              <a:avLst/>
              <a:gdLst/>
              <a:ahLst/>
              <a:rect l="0" t="0" r="r" b="b"/>
              <a:pathLst>
                <a:path w="1337" h="1703">
                  <a:moveTo>
                    <a:pt x="1226" y="1429"/>
                  </a:moveTo>
                  <a:lnTo>
                    <a:pt x="1337" y="1588"/>
                  </a:lnTo>
                  <a:lnTo>
                    <a:pt x="1315" y="1623"/>
                  </a:lnTo>
                  <a:lnTo>
                    <a:pt x="1235" y="1619"/>
                  </a:lnTo>
                  <a:lnTo>
                    <a:pt x="1072" y="1584"/>
                  </a:lnTo>
                  <a:lnTo>
                    <a:pt x="1068" y="1703"/>
                  </a:lnTo>
                  <a:lnTo>
                    <a:pt x="984" y="1659"/>
                  </a:lnTo>
                  <a:lnTo>
                    <a:pt x="904" y="1584"/>
                  </a:lnTo>
                  <a:lnTo>
                    <a:pt x="882" y="1562"/>
                  </a:lnTo>
                  <a:lnTo>
                    <a:pt x="874" y="1557"/>
                  </a:lnTo>
                  <a:lnTo>
                    <a:pt x="878" y="1368"/>
                  </a:lnTo>
                  <a:lnTo>
                    <a:pt x="904" y="1218"/>
                  </a:lnTo>
                  <a:lnTo>
                    <a:pt x="918" y="1085"/>
                  </a:lnTo>
                  <a:lnTo>
                    <a:pt x="918" y="993"/>
                  </a:lnTo>
                  <a:lnTo>
                    <a:pt x="887" y="639"/>
                  </a:lnTo>
                  <a:lnTo>
                    <a:pt x="803" y="643"/>
                  </a:lnTo>
                  <a:lnTo>
                    <a:pt x="635" y="612"/>
                  </a:lnTo>
                  <a:lnTo>
                    <a:pt x="498" y="599"/>
                  </a:lnTo>
                  <a:lnTo>
                    <a:pt x="335" y="471"/>
                  </a:lnTo>
                  <a:lnTo>
                    <a:pt x="176" y="401"/>
                  </a:lnTo>
                  <a:lnTo>
                    <a:pt x="70" y="339"/>
                  </a:lnTo>
                  <a:lnTo>
                    <a:pt x="0" y="251"/>
                  </a:lnTo>
                  <a:lnTo>
                    <a:pt x="22" y="246"/>
                  </a:lnTo>
                  <a:lnTo>
                    <a:pt x="66" y="277"/>
                  </a:lnTo>
                  <a:lnTo>
                    <a:pt x="101" y="251"/>
                  </a:lnTo>
                  <a:lnTo>
                    <a:pt x="149" y="127"/>
                  </a:lnTo>
                  <a:lnTo>
                    <a:pt x="149" y="0"/>
                  </a:lnTo>
                  <a:lnTo>
                    <a:pt x="308" y="39"/>
                  </a:lnTo>
                  <a:lnTo>
                    <a:pt x="374" y="57"/>
                  </a:lnTo>
                  <a:lnTo>
                    <a:pt x="449" y="70"/>
                  </a:lnTo>
                  <a:lnTo>
                    <a:pt x="515" y="114"/>
                  </a:lnTo>
                  <a:lnTo>
                    <a:pt x="568" y="127"/>
                  </a:lnTo>
                  <a:lnTo>
                    <a:pt x="608" y="132"/>
                  </a:lnTo>
                  <a:lnTo>
                    <a:pt x="675" y="127"/>
                  </a:lnTo>
                  <a:lnTo>
                    <a:pt x="737" y="141"/>
                  </a:lnTo>
                  <a:lnTo>
                    <a:pt x="794" y="114"/>
                  </a:lnTo>
                  <a:lnTo>
                    <a:pt x="834" y="123"/>
                  </a:lnTo>
                  <a:lnTo>
                    <a:pt x="865" y="110"/>
                  </a:lnTo>
                  <a:lnTo>
                    <a:pt x="909" y="127"/>
                  </a:lnTo>
                  <a:lnTo>
                    <a:pt x="1032" y="127"/>
                  </a:lnTo>
                  <a:lnTo>
                    <a:pt x="1063" y="127"/>
                  </a:lnTo>
                  <a:lnTo>
                    <a:pt x="1076" y="127"/>
                  </a:lnTo>
                  <a:lnTo>
                    <a:pt x="1099" y="198"/>
                  </a:lnTo>
                  <a:lnTo>
                    <a:pt x="1103" y="299"/>
                  </a:lnTo>
                  <a:lnTo>
                    <a:pt x="1187" y="313"/>
                  </a:lnTo>
                  <a:lnTo>
                    <a:pt x="1244" y="361"/>
                  </a:lnTo>
                  <a:lnTo>
                    <a:pt x="1213" y="357"/>
                  </a:lnTo>
                  <a:lnTo>
                    <a:pt x="1240" y="418"/>
                  </a:lnTo>
                  <a:lnTo>
                    <a:pt x="1178" y="643"/>
                  </a:lnTo>
                  <a:lnTo>
                    <a:pt x="1138" y="940"/>
                  </a:lnTo>
                  <a:lnTo>
                    <a:pt x="1129" y="1094"/>
                  </a:lnTo>
                  <a:lnTo>
                    <a:pt x="1156" y="1218"/>
                  </a:lnTo>
                  <a:lnTo>
                    <a:pt x="1226" y="14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436920" y="3218040"/>
              <a:ext cx="138600" cy="155880"/>
            </a:xfrm>
            <a:custGeom>
              <a:avLst/>
              <a:gdLst/>
              <a:ahLst/>
              <a:rect l="0" t="0" r="r" b="b"/>
              <a:pathLst>
                <a:path w="385" h="433">
                  <a:moveTo>
                    <a:pt x="310" y="327"/>
                  </a:moveTo>
                  <a:lnTo>
                    <a:pt x="306" y="397"/>
                  </a:lnTo>
                  <a:lnTo>
                    <a:pt x="164" y="433"/>
                  </a:lnTo>
                  <a:lnTo>
                    <a:pt x="92" y="375"/>
                  </a:lnTo>
                  <a:lnTo>
                    <a:pt x="44" y="318"/>
                  </a:lnTo>
                  <a:lnTo>
                    <a:pt x="61" y="292"/>
                  </a:lnTo>
                  <a:lnTo>
                    <a:pt x="57" y="198"/>
                  </a:lnTo>
                  <a:lnTo>
                    <a:pt x="26" y="185"/>
                  </a:lnTo>
                  <a:lnTo>
                    <a:pt x="0" y="123"/>
                  </a:lnTo>
                  <a:lnTo>
                    <a:pt x="30" y="70"/>
                  </a:lnTo>
                  <a:lnTo>
                    <a:pt x="44" y="39"/>
                  </a:lnTo>
                  <a:lnTo>
                    <a:pt x="79" y="26"/>
                  </a:lnTo>
                  <a:lnTo>
                    <a:pt x="120" y="0"/>
                  </a:lnTo>
                  <a:lnTo>
                    <a:pt x="212" y="0"/>
                  </a:lnTo>
                  <a:lnTo>
                    <a:pt x="243" y="30"/>
                  </a:lnTo>
                  <a:lnTo>
                    <a:pt x="293" y="30"/>
                  </a:lnTo>
                  <a:lnTo>
                    <a:pt x="323" y="48"/>
                  </a:lnTo>
                  <a:lnTo>
                    <a:pt x="337" y="66"/>
                  </a:lnTo>
                  <a:lnTo>
                    <a:pt x="381" y="83"/>
                  </a:lnTo>
                  <a:lnTo>
                    <a:pt x="385" y="136"/>
                  </a:lnTo>
                  <a:lnTo>
                    <a:pt x="368" y="167"/>
                  </a:lnTo>
                  <a:lnTo>
                    <a:pt x="381" y="176"/>
                  </a:lnTo>
                  <a:lnTo>
                    <a:pt x="368" y="269"/>
                  </a:lnTo>
                  <a:lnTo>
                    <a:pt x="310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276640" y="3043080"/>
              <a:ext cx="125640" cy="133560"/>
            </a:xfrm>
            <a:custGeom>
              <a:avLst/>
              <a:gdLst/>
              <a:ahLst/>
              <a:rect l="0" t="0" r="r" b="b"/>
              <a:pathLst>
                <a:path w="349" h="371">
                  <a:moveTo>
                    <a:pt x="101" y="269"/>
                  </a:moveTo>
                  <a:lnTo>
                    <a:pt x="44" y="269"/>
                  </a:lnTo>
                  <a:lnTo>
                    <a:pt x="30" y="287"/>
                  </a:lnTo>
                  <a:lnTo>
                    <a:pt x="0" y="269"/>
                  </a:lnTo>
                  <a:lnTo>
                    <a:pt x="4" y="208"/>
                  </a:lnTo>
                  <a:lnTo>
                    <a:pt x="4" y="167"/>
                  </a:lnTo>
                  <a:lnTo>
                    <a:pt x="4" y="127"/>
                  </a:lnTo>
                  <a:lnTo>
                    <a:pt x="13" y="88"/>
                  </a:lnTo>
                  <a:lnTo>
                    <a:pt x="39" y="35"/>
                  </a:lnTo>
                  <a:lnTo>
                    <a:pt x="101" y="0"/>
                  </a:lnTo>
                  <a:lnTo>
                    <a:pt x="158" y="13"/>
                  </a:lnTo>
                  <a:lnTo>
                    <a:pt x="195" y="39"/>
                  </a:lnTo>
                  <a:lnTo>
                    <a:pt x="230" y="88"/>
                  </a:lnTo>
                  <a:lnTo>
                    <a:pt x="318" y="154"/>
                  </a:lnTo>
                  <a:lnTo>
                    <a:pt x="349" y="199"/>
                  </a:lnTo>
                  <a:lnTo>
                    <a:pt x="305" y="305"/>
                  </a:lnTo>
                  <a:lnTo>
                    <a:pt x="256" y="353"/>
                  </a:lnTo>
                  <a:lnTo>
                    <a:pt x="181" y="371"/>
                  </a:lnTo>
                  <a:lnTo>
                    <a:pt x="101" y="2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762280" y="2913120"/>
              <a:ext cx="351360" cy="346320"/>
            </a:xfrm>
            <a:custGeom>
              <a:avLst/>
              <a:gdLst/>
              <a:ahLst/>
              <a:rect l="0" t="0" r="r" b="b"/>
              <a:pathLst>
                <a:path w="976" h="962">
                  <a:moveTo>
                    <a:pt x="176" y="962"/>
                  </a:moveTo>
                  <a:lnTo>
                    <a:pt x="119" y="913"/>
                  </a:lnTo>
                  <a:lnTo>
                    <a:pt x="35" y="900"/>
                  </a:lnTo>
                  <a:lnTo>
                    <a:pt x="30" y="799"/>
                  </a:lnTo>
                  <a:lnTo>
                    <a:pt x="8" y="728"/>
                  </a:lnTo>
                  <a:lnTo>
                    <a:pt x="39" y="622"/>
                  </a:lnTo>
                  <a:lnTo>
                    <a:pt x="26" y="587"/>
                  </a:lnTo>
                  <a:lnTo>
                    <a:pt x="0" y="561"/>
                  </a:lnTo>
                  <a:lnTo>
                    <a:pt x="0" y="530"/>
                  </a:lnTo>
                  <a:lnTo>
                    <a:pt x="30" y="556"/>
                  </a:lnTo>
                  <a:lnTo>
                    <a:pt x="66" y="525"/>
                  </a:lnTo>
                  <a:lnTo>
                    <a:pt x="17" y="476"/>
                  </a:lnTo>
                  <a:lnTo>
                    <a:pt x="48" y="440"/>
                  </a:lnTo>
                  <a:lnTo>
                    <a:pt x="92" y="396"/>
                  </a:lnTo>
                  <a:lnTo>
                    <a:pt x="70" y="361"/>
                  </a:lnTo>
                  <a:lnTo>
                    <a:pt x="61" y="343"/>
                  </a:lnTo>
                  <a:lnTo>
                    <a:pt x="119" y="326"/>
                  </a:lnTo>
                  <a:lnTo>
                    <a:pt x="119" y="304"/>
                  </a:lnTo>
                  <a:lnTo>
                    <a:pt x="167" y="255"/>
                  </a:lnTo>
                  <a:lnTo>
                    <a:pt x="185" y="185"/>
                  </a:lnTo>
                  <a:lnTo>
                    <a:pt x="176" y="114"/>
                  </a:lnTo>
                  <a:lnTo>
                    <a:pt x="261" y="97"/>
                  </a:lnTo>
                  <a:lnTo>
                    <a:pt x="247" y="132"/>
                  </a:lnTo>
                  <a:lnTo>
                    <a:pt x="216" y="136"/>
                  </a:lnTo>
                  <a:lnTo>
                    <a:pt x="220" y="158"/>
                  </a:lnTo>
                  <a:lnTo>
                    <a:pt x="247" y="132"/>
                  </a:lnTo>
                  <a:lnTo>
                    <a:pt x="261" y="97"/>
                  </a:lnTo>
                  <a:lnTo>
                    <a:pt x="353" y="44"/>
                  </a:lnTo>
                  <a:lnTo>
                    <a:pt x="397" y="0"/>
                  </a:lnTo>
                  <a:lnTo>
                    <a:pt x="419" y="4"/>
                  </a:lnTo>
                  <a:lnTo>
                    <a:pt x="375" y="61"/>
                  </a:lnTo>
                  <a:lnTo>
                    <a:pt x="300" y="105"/>
                  </a:lnTo>
                  <a:lnTo>
                    <a:pt x="389" y="79"/>
                  </a:lnTo>
                  <a:lnTo>
                    <a:pt x="433" y="74"/>
                  </a:lnTo>
                  <a:lnTo>
                    <a:pt x="486" y="70"/>
                  </a:lnTo>
                  <a:lnTo>
                    <a:pt x="538" y="61"/>
                  </a:lnTo>
                  <a:lnTo>
                    <a:pt x="605" y="52"/>
                  </a:lnTo>
                  <a:lnTo>
                    <a:pt x="675" y="97"/>
                  </a:lnTo>
                  <a:lnTo>
                    <a:pt x="715" y="114"/>
                  </a:lnTo>
                  <a:lnTo>
                    <a:pt x="782" y="136"/>
                  </a:lnTo>
                  <a:lnTo>
                    <a:pt x="813" y="167"/>
                  </a:lnTo>
                  <a:lnTo>
                    <a:pt x="795" y="171"/>
                  </a:lnTo>
                  <a:lnTo>
                    <a:pt x="747" y="145"/>
                  </a:lnTo>
                  <a:lnTo>
                    <a:pt x="706" y="145"/>
                  </a:lnTo>
                  <a:lnTo>
                    <a:pt x="778" y="185"/>
                  </a:lnTo>
                  <a:lnTo>
                    <a:pt x="786" y="238"/>
                  </a:lnTo>
                  <a:lnTo>
                    <a:pt x="844" y="286"/>
                  </a:lnTo>
                  <a:lnTo>
                    <a:pt x="870" y="361"/>
                  </a:lnTo>
                  <a:lnTo>
                    <a:pt x="923" y="370"/>
                  </a:lnTo>
                  <a:lnTo>
                    <a:pt x="923" y="396"/>
                  </a:lnTo>
                  <a:lnTo>
                    <a:pt x="861" y="396"/>
                  </a:lnTo>
                  <a:lnTo>
                    <a:pt x="976" y="423"/>
                  </a:lnTo>
                  <a:lnTo>
                    <a:pt x="967" y="454"/>
                  </a:lnTo>
                  <a:lnTo>
                    <a:pt x="857" y="440"/>
                  </a:lnTo>
                  <a:lnTo>
                    <a:pt x="910" y="486"/>
                  </a:lnTo>
                  <a:lnTo>
                    <a:pt x="936" y="538"/>
                  </a:lnTo>
                  <a:lnTo>
                    <a:pt x="923" y="561"/>
                  </a:lnTo>
                  <a:lnTo>
                    <a:pt x="923" y="547"/>
                  </a:lnTo>
                  <a:lnTo>
                    <a:pt x="901" y="525"/>
                  </a:lnTo>
                  <a:lnTo>
                    <a:pt x="901" y="561"/>
                  </a:lnTo>
                  <a:lnTo>
                    <a:pt x="879" y="565"/>
                  </a:lnTo>
                  <a:lnTo>
                    <a:pt x="848" y="534"/>
                  </a:lnTo>
                  <a:lnTo>
                    <a:pt x="795" y="534"/>
                  </a:lnTo>
                  <a:lnTo>
                    <a:pt x="800" y="596"/>
                  </a:lnTo>
                  <a:lnTo>
                    <a:pt x="596" y="856"/>
                  </a:lnTo>
                  <a:lnTo>
                    <a:pt x="556" y="874"/>
                  </a:lnTo>
                  <a:lnTo>
                    <a:pt x="508" y="887"/>
                  </a:lnTo>
                  <a:lnTo>
                    <a:pt x="459" y="944"/>
                  </a:lnTo>
                  <a:lnTo>
                    <a:pt x="419" y="944"/>
                  </a:lnTo>
                  <a:lnTo>
                    <a:pt x="415" y="918"/>
                  </a:lnTo>
                  <a:lnTo>
                    <a:pt x="375" y="931"/>
                  </a:lnTo>
                  <a:lnTo>
                    <a:pt x="353" y="957"/>
                  </a:lnTo>
                  <a:lnTo>
                    <a:pt x="261" y="962"/>
                  </a:lnTo>
                  <a:lnTo>
                    <a:pt x="176" y="9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814480" y="3255840"/>
              <a:ext cx="87840" cy="55800"/>
            </a:xfrm>
            <a:custGeom>
              <a:avLst/>
              <a:gdLst/>
              <a:ahLst/>
              <a:rect l="0" t="0" r="r" b="b"/>
              <a:pathLst>
                <a:path w="244" h="155">
                  <a:moveTo>
                    <a:pt x="26" y="66"/>
                  </a:moveTo>
                  <a:lnTo>
                    <a:pt x="39" y="155"/>
                  </a:lnTo>
                  <a:lnTo>
                    <a:pt x="84" y="124"/>
                  </a:lnTo>
                  <a:lnTo>
                    <a:pt x="93" y="80"/>
                  </a:lnTo>
                  <a:lnTo>
                    <a:pt x="128" y="80"/>
                  </a:lnTo>
                  <a:lnTo>
                    <a:pt x="187" y="137"/>
                  </a:lnTo>
                  <a:lnTo>
                    <a:pt x="244" y="137"/>
                  </a:lnTo>
                  <a:lnTo>
                    <a:pt x="240" y="48"/>
                  </a:lnTo>
                  <a:lnTo>
                    <a:pt x="244" y="0"/>
                  </a:lnTo>
                  <a:lnTo>
                    <a:pt x="209" y="4"/>
                  </a:lnTo>
                  <a:lnTo>
                    <a:pt x="115" y="8"/>
                  </a:lnTo>
                  <a:lnTo>
                    <a:pt x="30" y="8"/>
                  </a:lnTo>
                  <a:lnTo>
                    <a:pt x="0" y="4"/>
                  </a:lnTo>
                  <a:lnTo>
                    <a:pt x="26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795760" y="345924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36" y="72"/>
                  </a:moveTo>
                  <a:lnTo>
                    <a:pt x="0" y="31"/>
                  </a:lnTo>
                  <a:lnTo>
                    <a:pt x="36" y="0"/>
                  </a:lnTo>
                  <a:lnTo>
                    <a:pt x="72" y="31"/>
                  </a:lnTo>
                  <a:lnTo>
                    <a:pt x="36" y="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741760" y="4694400"/>
              <a:ext cx="260640" cy="63720"/>
            </a:xfrm>
            <a:custGeom>
              <a:avLst/>
              <a:gdLst/>
              <a:ahLst/>
              <a:rect l="0" t="0" r="r" b="b"/>
              <a:pathLst>
                <a:path w="724" h="177">
                  <a:moveTo>
                    <a:pt x="295" y="0"/>
                  </a:moveTo>
                  <a:lnTo>
                    <a:pt x="255" y="30"/>
                  </a:lnTo>
                  <a:lnTo>
                    <a:pt x="260" y="48"/>
                  </a:lnTo>
                  <a:lnTo>
                    <a:pt x="194" y="57"/>
                  </a:lnTo>
                  <a:lnTo>
                    <a:pt x="83" y="89"/>
                  </a:lnTo>
                  <a:lnTo>
                    <a:pt x="4" y="146"/>
                  </a:lnTo>
                  <a:lnTo>
                    <a:pt x="0" y="159"/>
                  </a:lnTo>
                  <a:lnTo>
                    <a:pt x="44" y="177"/>
                  </a:lnTo>
                  <a:lnTo>
                    <a:pt x="697" y="159"/>
                  </a:lnTo>
                  <a:lnTo>
                    <a:pt x="724" y="89"/>
                  </a:lnTo>
                  <a:lnTo>
                    <a:pt x="693" y="4"/>
                  </a:lnTo>
                  <a:lnTo>
                    <a:pt x="508" y="17"/>
                  </a:lnTo>
                  <a:lnTo>
                    <a:pt x="2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030480" y="4681440"/>
              <a:ext cx="146520" cy="76680"/>
            </a:xfrm>
            <a:custGeom>
              <a:avLst/>
              <a:gdLst/>
              <a:ahLst/>
              <a:rect l="0" t="0" r="r" b="b"/>
              <a:pathLst>
                <a:path w="407" h="213">
                  <a:moveTo>
                    <a:pt x="66" y="26"/>
                  </a:moveTo>
                  <a:lnTo>
                    <a:pt x="17" y="106"/>
                  </a:lnTo>
                  <a:lnTo>
                    <a:pt x="0" y="182"/>
                  </a:lnTo>
                  <a:lnTo>
                    <a:pt x="22" y="213"/>
                  </a:lnTo>
                  <a:lnTo>
                    <a:pt x="385" y="200"/>
                  </a:lnTo>
                  <a:lnTo>
                    <a:pt x="407" y="137"/>
                  </a:lnTo>
                  <a:lnTo>
                    <a:pt x="390" y="35"/>
                  </a:lnTo>
                  <a:lnTo>
                    <a:pt x="385" y="22"/>
                  </a:lnTo>
                  <a:lnTo>
                    <a:pt x="66" y="0"/>
                  </a:lnTo>
                  <a:lnTo>
                    <a:pt x="66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31680" bIns="31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1562040" y="1165320"/>
            <a:ext cx="1280160" cy="1311840"/>
            <a:chOff x="1562040" y="1165320"/>
            <a:chExt cx="1280160" cy="1311840"/>
          </a:xfrm>
        </p:grpSpPr>
        <p:sp>
          <p:nvSpPr>
            <p:cNvPr id="451" name=""/>
            <p:cNvSpPr/>
            <p:nvPr/>
          </p:nvSpPr>
          <p:spPr>
            <a:xfrm>
              <a:off x="2421000" y="1425600"/>
              <a:ext cx="402120" cy="360720"/>
            </a:xfrm>
            <a:custGeom>
              <a:avLst/>
              <a:gdLst/>
              <a:ahLst/>
              <a:rect l="0" t="0" r="r" b="b"/>
              <a:pathLst>
                <a:path w="1117" h="1002">
                  <a:moveTo>
                    <a:pt x="936" y="847"/>
                  </a:moveTo>
                  <a:lnTo>
                    <a:pt x="905" y="856"/>
                  </a:lnTo>
                  <a:lnTo>
                    <a:pt x="879" y="865"/>
                  </a:lnTo>
                  <a:lnTo>
                    <a:pt x="861" y="878"/>
                  </a:lnTo>
                  <a:lnTo>
                    <a:pt x="853" y="891"/>
                  </a:lnTo>
                  <a:lnTo>
                    <a:pt x="844" y="909"/>
                  </a:lnTo>
                  <a:lnTo>
                    <a:pt x="834" y="927"/>
                  </a:lnTo>
                  <a:lnTo>
                    <a:pt x="830" y="940"/>
                  </a:lnTo>
                  <a:lnTo>
                    <a:pt x="825" y="957"/>
                  </a:lnTo>
                  <a:lnTo>
                    <a:pt x="803" y="953"/>
                  </a:lnTo>
                  <a:lnTo>
                    <a:pt x="781" y="953"/>
                  </a:lnTo>
                  <a:lnTo>
                    <a:pt x="750" y="949"/>
                  </a:lnTo>
                  <a:lnTo>
                    <a:pt x="724" y="953"/>
                  </a:lnTo>
                  <a:lnTo>
                    <a:pt x="684" y="953"/>
                  </a:lnTo>
                  <a:lnTo>
                    <a:pt x="644" y="957"/>
                  </a:lnTo>
                  <a:lnTo>
                    <a:pt x="605" y="957"/>
                  </a:lnTo>
                  <a:lnTo>
                    <a:pt x="565" y="962"/>
                  </a:lnTo>
                  <a:lnTo>
                    <a:pt x="525" y="966"/>
                  </a:lnTo>
                  <a:lnTo>
                    <a:pt x="486" y="971"/>
                  </a:lnTo>
                  <a:lnTo>
                    <a:pt x="446" y="975"/>
                  </a:lnTo>
                  <a:lnTo>
                    <a:pt x="406" y="979"/>
                  </a:lnTo>
                  <a:lnTo>
                    <a:pt x="375" y="984"/>
                  </a:lnTo>
                  <a:lnTo>
                    <a:pt x="340" y="993"/>
                  </a:lnTo>
                  <a:lnTo>
                    <a:pt x="309" y="997"/>
                  </a:lnTo>
                  <a:lnTo>
                    <a:pt x="287" y="1002"/>
                  </a:lnTo>
                  <a:lnTo>
                    <a:pt x="283" y="993"/>
                  </a:lnTo>
                  <a:lnTo>
                    <a:pt x="268" y="979"/>
                  </a:lnTo>
                  <a:lnTo>
                    <a:pt x="251" y="971"/>
                  </a:lnTo>
                  <a:lnTo>
                    <a:pt x="220" y="957"/>
                  </a:lnTo>
                  <a:lnTo>
                    <a:pt x="194" y="949"/>
                  </a:lnTo>
                  <a:lnTo>
                    <a:pt x="158" y="944"/>
                  </a:lnTo>
                  <a:lnTo>
                    <a:pt x="123" y="940"/>
                  </a:lnTo>
                  <a:lnTo>
                    <a:pt x="92" y="935"/>
                  </a:lnTo>
                  <a:lnTo>
                    <a:pt x="66" y="931"/>
                  </a:lnTo>
                  <a:lnTo>
                    <a:pt x="48" y="922"/>
                  </a:lnTo>
                  <a:lnTo>
                    <a:pt x="35" y="909"/>
                  </a:lnTo>
                  <a:lnTo>
                    <a:pt x="30" y="887"/>
                  </a:lnTo>
                  <a:lnTo>
                    <a:pt x="35" y="869"/>
                  </a:lnTo>
                  <a:lnTo>
                    <a:pt x="39" y="847"/>
                  </a:lnTo>
                  <a:lnTo>
                    <a:pt x="44" y="825"/>
                  </a:lnTo>
                  <a:lnTo>
                    <a:pt x="52" y="807"/>
                  </a:lnTo>
                  <a:lnTo>
                    <a:pt x="52" y="785"/>
                  </a:lnTo>
                  <a:lnTo>
                    <a:pt x="48" y="777"/>
                  </a:lnTo>
                  <a:lnTo>
                    <a:pt x="39" y="755"/>
                  </a:lnTo>
                  <a:lnTo>
                    <a:pt x="39" y="710"/>
                  </a:lnTo>
                  <a:lnTo>
                    <a:pt x="44" y="706"/>
                  </a:lnTo>
                  <a:lnTo>
                    <a:pt x="57" y="693"/>
                  </a:lnTo>
                  <a:lnTo>
                    <a:pt x="70" y="675"/>
                  </a:lnTo>
                  <a:lnTo>
                    <a:pt x="83" y="653"/>
                  </a:lnTo>
                  <a:lnTo>
                    <a:pt x="92" y="631"/>
                  </a:lnTo>
                  <a:lnTo>
                    <a:pt x="88" y="613"/>
                  </a:lnTo>
                  <a:lnTo>
                    <a:pt x="74" y="605"/>
                  </a:lnTo>
                  <a:lnTo>
                    <a:pt x="61" y="596"/>
                  </a:lnTo>
                  <a:lnTo>
                    <a:pt x="39" y="591"/>
                  </a:lnTo>
                  <a:lnTo>
                    <a:pt x="22" y="587"/>
                  </a:lnTo>
                  <a:lnTo>
                    <a:pt x="13" y="578"/>
                  </a:lnTo>
                  <a:lnTo>
                    <a:pt x="4" y="565"/>
                  </a:lnTo>
                  <a:lnTo>
                    <a:pt x="0" y="547"/>
                  </a:lnTo>
                  <a:lnTo>
                    <a:pt x="4" y="538"/>
                  </a:lnTo>
                  <a:lnTo>
                    <a:pt x="13" y="530"/>
                  </a:lnTo>
                  <a:lnTo>
                    <a:pt x="22" y="516"/>
                  </a:lnTo>
                  <a:lnTo>
                    <a:pt x="35" y="508"/>
                  </a:lnTo>
                  <a:lnTo>
                    <a:pt x="48" y="489"/>
                  </a:lnTo>
                  <a:lnTo>
                    <a:pt x="66" y="471"/>
                  </a:lnTo>
                  <a:lnTo>
                    <a:pt x="83" y="449"/>
                  </a:lnTo>
                  <a:lnTo>
                    <a:pt x="101" y="414"/>
                  </a:lnTo>
                  <a:lnTo>
                    <a:pt x="110" y="383"/>
                  </a:lnTo>
                  <a:lnTo>
                    <a:pt x="110" y="348"/>
                  </a:lnTo>
                  <a:lnTo>
                    <a:pt x="127" y="308"/>
                  </a:lnTo>
                  <a:lnTo>
                    <a:pt x="141" y="291"/>
                  </a:lnTo>
                  <a:lnTo>
                    <a:pt x="163" y="277"/>
                  </a:lnTo>
                  <a:lnTo>
                    <a:pt x="180" y="260"/>
                  </a:lnTo>
                  <a:lnTo>
                    <a:pt x="198" y="246"/>
                  </a:lnTo>
                  <a:lnTo>
                    <a:pt x="255" y="158"/>
                  </a:lnTo>
                  <a:lnTo>
                    <a:pt x="314" y="92"/>
                  </a:lnTo>
                  <a:lnTo>
                    <a:pt x="384" y="44"/>
                  </a:lnTo>
                  <a:lnTo>
                    <a:pt x="455" y="17"/>
                  </a:lnTo>
                  <a:lnTo>
                    <a:pt x="525" y="0"/>
                  </a:lnTo>
                  <a:lnTo>
                    <a:pt x="596" y="0"/>
                  </a:lnTo>
                  <a:lnTo>
                    <a:pt x="671" y="13"/>
                  </a:lnTo>
                  <a:lnTo>
                    <a:pt x="737" y="35"/>
                  </a:lnTo>
                  <a:lnTo>
                    <a:pt x="803" y="66"/>
                  </a:lnTo>
                  <a:lnTo>
                    <a:pt x="861" y="101"/>
                  </a:lnTo>
                  <a:lnTo>
                    <a:pt x="914" y="141"/>
                  </a:lnTo>
                  <a:lnTo>
                    <a:pt x="963" y="180"/>
                  </a:lnTo>
                  <a:lnTo>
                    <a:pt x="998" y="220"/>
                  </a:lnTo>
                  <a:lnTo>
                    <a:pt x="1020" y="260"/>
                  </a:lnTo>
                  <a:lnTo>
                    <a:pt x="1033" y="295"/>
                  </a:lnTo>
                  <a:lnTo>
                    <a:pt x="1029" y="326"/>
                  </a:lnTo>
                  <a:lnTo>
                    <a:pt x="1051" y="330"/>
                  </a:lnTo>
                  <a:lnTo>
                    <a:pt x="1073" y="339"/>
                  </a:lnTo>
                  <a:lnTo>
                    <a:pt x="1095" y="357"/>
                  </a:lnTo>
                  <a:lnTo>
                    <a:pt x="1108" y="374"/>
                  </a:lnTo>
                  <a:lnTo>
                    <a:pt x="1117" y="396"/>
                  </a:lnTo>
                  <a:lnTo>
                    <a:pt x="1113" y="423"/>
                  </a:lnTo>
                  <a:lnTo>
                    <a:pt x="1100" y="454"/>
                  </a:lnTo>
                  <a:lnTo>
                    <a:pt x="1064" y="485"/>
                  </a:lnTo>
                  <a:lnTo>
                    <a:pt x="1077" y="493"/>
                  </a:lnTo>
                  <a:lnTo>
                    <a:pt x="1086" y="512"/>
                  </a:lnTo>
                  <a:lnTo>
                    <a:pt x="1095" y="530"/>
                  </a:lnTo>
                  <a:lnTo>
                    <a:pt x="1095" y="547"/>
                  </a:lnTo>
                  <a:lnTo>
                    <a:pt x="1086" y="569"/>
                  </a:lnTo>
                  <a:lnTo>
                    <a:pt x="1073" y="587"/>
                  </a:lnTo>
                  <a:lnTo>
                    <a:pt x="1047" y="600"/>
                  </a:lnTo>
                  <a:lnTo>
                    <a:pt x="1007" y="613"/>
                  </a:lnTo>
                  <a:lnTo>
                    <a:pt x="1025" y="622"/>
                  </a:lnTo>
                  <a:lnTo>
                    <a:pt x="1042" y="640"/>
                  </a:lnTo>
                  <a:lnTo>
                    <a:pt x="1051" y="653"/>
                  </a:lnTo>
                  <a:lnTo>
                    <a:pt x="1055" y="675"/>
                  </a:lnTo>
                  <a:lnTo>
                    <a:pt x="1047" y="693"/>
                  </a:lnTo>
                  <a:lnTo>
                    <a:pt x="1038" y="710"/>
                  </a:lnTo>
                  <a:lnTo>
                    <a:pt x="1016" y="728"/>
                  </a:lnTo>
                  <a:lnTo>
                    <a:pt x="985" y="741"/>
                  </a:lnTo>
                  <a:lnTo>
                    <a:pt x="1003" y="750"/>
                  </a:lnTo>
                  <a:lnTo>
                    <a:pt x="1007" y="763"/>
                  </a:lnTo>
                  <a:lnTo>
                    <a:pt x="1007" y="781"/>
                  </a:lnTo>
                  <a:lnTo>
                    <a:pt x="1003" y="799"/>
                  </a:lnTo>
                  <a:lnTo>
                    <a:pt x="989" y="816"/>
                  </a:lnTo>
                  <a:lnTo>
                    <a:pt x="976" y="830"/>
                  </a:lnTo>
                  <a:lnTo>
                    <a:pt x="958" y="843"/>
                  </a:lnTo>
                  <a:lnTo>
                    <a:pt x="936" y="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428920" y="1765440"/>
              <a:ext cx="321120" cy="97200"/>
            </a:xfrm>
            <a:custGeom>
              <a:avLst/>
              <a:gdLst/>
              <a:ahLst/>
              <a:rect l="0" t="0" r="r" b="b"/>
              <a:pathLst>
                <a:path w="892" h="270">
                  <a:moveTo>
                    <a:pt x="778" y="0"/>
                  </a:moveTo>
                  <a:lnTo>
                    <a:pt x="782" y="0"/>
                  </a:lnTo>
                  <a:lnTo>
                    <a:pt x="786" y="0"/>
                  </a:lnTo>
                  <a:lnTo>
                    <a:pt x="795" y="4"/>
                  </a:lnTo>
                  <a:lnTo>
                    <a:pt x="808" y="4"/>
                  </a:lnTo>
                  <a:lnTo>
                    <a:pt x="826" y="4"/>
                  </a:lnTo>
                  <a:lnTo>
                    <a:pt x="848" y="8"/>
                  </a:lnTo>
                  <a:lnTo>
                    <a:pt x="870" y="8"/>
                  </a:lnTo>
                  <a:lnTo>
                    <a:pt x="892" y="8"/>
                  </a:lnTo>
                  <a:lnTo>
                    <a:pt x="892" y="17"/>
                  </a:lnTo>
                  <a:lnTo>
                    <a:pt x="879" y="39"/>
                  </a:lnTo>
                  <a:lnTo>
                    <a:pt x="870" y="71"/>
                  </a:lnTo>
                  <a:lnTo>
                    <a:pt x="853" y="106"/>
                  </a:lnTo>
                  <a:lnTo>
                    <a:pt x="813" y="98"/>
                  </a:lnTo>
                  <a:lnTo>
                    <a:pt x="769" y="93"/>
                  </a:lnTo>
                  <a:lnTo>
                    <a:pt x="729" y="89"/>
                  </a:lnTo>
                  <a:lnTo>
                    <a:pt x="689" y="93"/>
                  </a:lnTo>
                  <a:lnTo>
                    <a:pt x="644" y="93"/>
                  </a:lnTo>
                  <a:lnTo>
                    <a:pt x="605" y="102"/>
                  </a:lnTo>
                  <a:lnTo>
                    <a:pt x="561" y="111"/>
                  </a:lnTo>
                  <a:lnTo>
                    <a:pt x="521" y="124"/>
                  </a:lnTo>
                  <a:lnTo>
                    <a:pt x="481" y="137"/>
                  </a:lnTo>
                  <a:lnTo>
                    <a:pt x="437" y="150"/>
                  </a:lnTo>
                  <a:lnTo>
                    <a:pt x="397" y="168"/>
                  </a:lnTo>
                  <a:lnTo>
                    <a:pt x="362" y="186"/>
                  </a:lnTo>
                  <a:lnTo>
                    <a:pt x="327" y="204"/>
                  </a:lnTo>
                  <a:lnTo>
                    <a:pt x="292" y="222"/>
                  </a:lnTo>
                  <a:lnTo>
                    <a:pt x="261" y="240"/>
                  </a:lnTo>
                  <a:lnTo>
                    <a:pt x="230" y="257"/>
                  </a:lnTo>
                  <a:lnTo>
                    <a:pt x="230" y="257"/>
                  </a:lnTo>
                  <a:lnTo>
                    <a:pt x="216" y="262"/>
                  </a:lnTo>
                  <a:lnTo>
                    <a:pt x="198" y="262"/>
                  </a:lnTo>
                  <a:lnTo>
                    <a:pt x="180" y="262"/>
                  </a:lnTo>
                  <a:lnTo>
                    <a:pt x="158" y="266"/>
                  </a:lnTo>
                  <a:lnTo>
                    <a:pt x="132" y="266"/>
                  </a:lnTo>
                  <a:lnTo>
                    <a:pt x="105" y="270"/>
                  </a:lnTo>
                  <a:lnTo>
                    <a:pt x="79" y="270"/>
                  </a:lnTo>
                  <a:lnTo>
                    <a:pt x="88" y="204"/>
                  </a:lnTo>
                  <a:lnTo>
                    <a:pt x="0" y="218"/>
                  </a:lnTo>
                  <a:lnTo>
                    <a:pt x="0" y="195"/>
                  </a:lnTo>
                  <a:lnTo>
                    <a:pt x="0" y="142"/>
                  </a:lnTo>
                  <a:lnTo>
                    <a:pt x="8" y="89"/>
                  </a:lnTo>
                  <a:lnTo>
                    <a:pt x="17" y="52"/>
                  </a:lnTo>
                  <a:lnTo>
                    <a:pt x="26" y="48"/>
                  </a:lnTo>
                  <a:lnTo>
                    <a:pt x="44" y="48"/>
                  </a:lnTo>
                  <a:lnTo>
                    <a:pt x="66" y="52"/>
                  </a:lnTo>
                  <a:lnTo>
                    <a:pt x="88" y="61"/>
                  </a:lnTo>
                  <a:lnTo>
                    <a:pt x="119" y="71"/>
                  </a:lnTo>
                  <a:lnTo>
                    <a:pt x="141" y="89"/>
                  </a:lnTo>
                  <a:lnTo>
                    <a:pt x="163" y="98"/>
                  </a:lnTo>
                  <a:lnTo>
                    <a:pt x="185" y="115"/>
                  </a:lnTo>
                  <a:lnTo>
                    <a:pt x="194" y="106"/>
                  </a:lnTo>
                  <a:lnTo>
                    <a:pt x="207" y="98"/>
                  </a:lnTo>
                  <a:lnTo>
                    <a:pt x="216" y="89"/>
                  </a:lnTo>
                  <a:lnTo>
                    <a:pt x="230" y="75"/>
                  </a:lnTo>
                  <a:lnTo>
                    <a:pt x="243" y="66"/>
                  </a:lnTo>
                  <a:lnTo>
                    <a:pt x="261" y="57"/>
                  </a:lnTo>
                  <a:lnTo>
                    <a:pt x="283" y="48"/>
                  </a:lnTo>
                  <a:lnTo>
                    <a:pt x="309" y="39"/>
                  </a:lnTo>
                  <a:lnTo>
                    <a:pt x="340" y="35"/>
                  </a:lnTo>
                  <a:lnTo>
                    <a:pt x="375" y="26"/>
                  </a:lnTo>
                  <a:lnTo>
                    <a:pt x="419" y="17"/>
                  </a:lnTo>
                  <a:lnTo>
                    <a:pt x="472" y="13"/>
                  </a:lnTo>
                  <a:lnTo>
                    <a:pt x="534" y="8"/>
                  </a:lnTo>
                  <a:lnTo>
                    <a:pt x="605" y="4"/>
                  </a:lnTo>
                  <a:lnTo>
                    <a:pt x="685" y="4"/>
                  </a:lnTo>
                  <a:lnTo>
                    <a:pt x="77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428920" y="1765440"/>
              <a:ext cx="321120" cy="97200"/>
            </a:xfrm>
            <a:custGeom>
              <a:avLst/>
              <a:gdLst/>
              <a:ahLst/>
              <a:rect l="0" t="0" r="r" b="b"/>
              <a:pathLst>
                <a:path fill="none" w="892" h="270">
                  <a:moveTo>
                    <a:pt x="778" y="0"/>
                  </a:moveTo>
                  <a:lnTo>
                    <a:pt x="778" y="0"/>
                  </a:lnTo>
                  <a:lnTo>
                    <a:pt x="782" y="0"/>
                  </a:lnTo>
                  <a:lnTo>
                    <a:pt x="786" y="0"/>
                  </a:lnTo>
                  <a:lnTo>
                    <a:pt x="795" y="4"/>
                  </a:lnTo>
                  <a:lnTo>
                    <a:pt x="808" y="4"/>
                  </a:lnTo>
                  <a:lnTo>
                    <a:pt x="826" y="4"/>
                  </a:lnTo>
                  <a:lnTo>
                    <a:pt x="848" y="8"/>
                  </a:lnTo>
                  <a:lnTo>
                    <a:pt x="870" y="8"/>
                  </a:lnTo>
                  <a:lnTo>
                    <a:pt x="892" y="8"/>
                  </a:lnTo>
                  <a:lnTo>
                    <a:pt x="892" y="8"/>
                  </a:lnTo>
                  <a:lnTo>
                    <a:pt x="892" y="17"/>
                  </a:lnTo>
                  <a:lnTo>
                    <a:pt x="879" y="39"/>
                  </a:lnTo>
                  <a:lnTo>
                    <a:pt x="870" y="71"/>
                  </a:lnTo>
                  <a:lnTo>
                    <a:pt x="853" y="106"/>
                  </a:lnTo>
                  <a:lnTo>
                    <a:pt x="853" y="106"/>
                  </a:lnTo>
                  <a:lnTo>
                    <a:pt x="813" y="98"/>
                  </a:lnTo>
                  <a:lnTo>
                    <a:pt x="769" y="93"/>
                  </a:lnTo>
                  <a:lnTo>
                    <a:pt x="729" y="89"/>
                  </a:lnTo>
                  <a:lnTo>
                    <a:pt x="689" y="93"/>
                  </a:lnTo>
                  <a:lnTo>
                    <a:pt x="644" y="93"/>
                  </a:lnTo>
                  <a:lnTo>
                    <a:pt x="605" y="102"/>
                  </a:lnTo>
                  <a:lnTo>
                    <a:pt x="561" y="111"/>
                  </a:lnTo>
                  <a:lnTo>
                    <a:pt x="521" y="124"/>
                  </a:lnTo>
                  <a:lnTo>
                    <a:pt x="481" y="137"/>
                  </a:lnTo>
                  <a:lnTo>
                    <a:pt x="437" y="150"/>
                  </a:lnTo>
                  <a:lnTo>
                    <a:pt x="397" y="168"/>
                  </a:lnTo>
                  <a:lnTo>
                    <a:pt x="362" y="186"/>
                  </a:lnTo>
                  <a:lnTo>
                    <a:pt x="327" y="204"/>
                  </a:lnTo>
                  <a:lnTo>
                    <a:pt x="292" y="222"/>
                  </a:lnTo>
                  <a:lnTo>
                    <a:pt x="261" y="240"/>
                  </a:lnTo>
                  <a:lnTo>
                    <a:pt x="230" y="257"/>
                  </a:lnTo>
                  <a:lnTo>
                    <a:pt x="230" y="257"/>
                  </a:lnTo>
                  <a:lnTo>
                    <a:pt x="230" y="257"/>
                  </a:lnTo>
                  <a:lnTo>
                    <a:pt x="216" y="262"/>
                  </a:lnTo>
                  <a:lnTo>
                    <a:pt x="198" y="262"/>
                  </a:lnTo>
                  <a:lnTo>
                    <a:pt x="180" y="262"/>
                  </a:lnTo>
                  <a:lnTo>
                    <a:pt x="158" y="266"/>
                  </a:lnTo>
                  <a:lnTo>
                    <a:pt x="132" y="266"/>
                  </a:lnTo>
                  <a:lnTo>
                    <a:pt x="105" y="270"/>
                  </a:lnTo>
                  <a:lnTo>
                    <a:pt x="79" y="270"/>
                  </a:lnTo>
                  <a:lnTo>
                    <a:pt x="88" y="204"/>
                  </a:lnTo>
                  <a:lnTo>
                    <a:pt x="0" y="218"/>
                  </a:lnTo>
                  <a:lnTo>
                    <a:pt x="0" y="218"/>
                  </a:lnTo>
                  <a:lnTo>
                    <a:pt x="0" y="195"/>
                  </a:lnTo>
                  <a:lnTo>
                    <a:pt x="0" y="142"/>
                  </a:lnTo>
                  <a:lnTo>
                    <a:pt x="8" y="89"/>
                  </a:lnTo>
                  <a:lnTo>
                    <a:pt x="17" y="52"/>
                  </a:lnTo>
                  <a:lnTo>
                    <a:pt x="17" y="52"/>
                  </a:lnTo>
                  <a:lnTo>
                    <a:pt x="26" y="48"/>
                  </a:lnTo>
                  <a:lnTo>
                    <a:pt x="44" y="48"/>
                  </a:lnTo>
                  <a:lnTo>
                    <a:pt x="66" y="52"/>
                  </a:lnTo>
                  <a:lnTo>
                    <a:pt x="88" y="61"/>
                  </a:lnTo>
                  <a:lnTo>
                    <a:pt x="119" y="71"/>
                  </a:lnTo>
                  <a:lnTo>
                    <a:pt x="141" y="89"/>
                  </a:lnTo>
                  <a:lnTo>
                    <a:pt x="163" y="98"/>
                  </a:lnTo>
                  <a:lnTo>
                    <a:pt x="185" y="115"/>
                  </a:lnTo>
                  <a:lnTo>
                    <a:pt x="185" y="115"/>
                  </a:lnTo>
                  <a:lnTo>
                    <a:pt x="194" y="106"/>
                  </a:lnTo>
                  <a:lnTo>
                    <a:pt x="207" y="98"/>
                  </a:lnTo>
                  <a:lnTo>
                    <a:pt x="216" y="89"/>
                  </a:lnTo>
                  <a:lnTo>
                    <a:pt x="230" y="75"/>
                  </a:lnTo>
                  <a:lnTo>
                    <a:pt x="243" y="66"/>
                  </a:lnTo>
                  <a:lnTo>
                    <a:pt x="261" y="57"/>
                  </a:lnTo>
                  <a:lnTo>
                    <a:pt x="283" y="48"/>
                  </a:lnTo>
                  <a:lnTo>
                    <a:pt x="309" y="39"/>
                  </a:lnTo>
                  <a:lnTo>
                    <a:pt x="340" y="35"/>
                  </a:lnTo>
                  <a:lnTo>
                    <a:pt x="375" y="26"/>
                  </a:lnTo>
                  <a:lnTo>
                    <a:pt x="419" y="17"/>
                  </a:lnTo>
                  <a:lnTo>
                    <a:pt x="472" y="13"/>
                  </a:lnTo>
                  <a:lnTo>
                    <a:pt x="534" y="8"/>
                  </a:lnTo>
                  <a:lnTo>
                    <a:pt x="605" y="4"/>
                  </a:lnTo>
                  <a:lnTo>
                    <a:pt x="685" y="4"/>
                  </a:lnTo>
                  <a:lnTo>
                    <a:pt x="778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46080" bIns="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2193840" y="2050920"/>
              <a:ext cx="225720" cy="405000"/>
            </a:xfrm>
            <a:custGeom>
              <a:avLst/>
              <a:gdLst/>
              <a:ahLst/>
              <a:rect l="0" t="0" r="r" b="b"/>
              <a:pathLst>
                <a:path w="627" h="1125">
                  <a:moveTo>
                    <a:pt x="477" y="1125"/>
                  </a:moveTo>
                  <a:lnTo>
                    <a:pt x="468" y="1103"/>
                  </a:lnTo>
                  <a:lnTo>
                    <a:pt x="459" y="1085"/>
                  </a:lnTo>
                  <a:lnTo>
                    <a:pt x="441" y="1059"/>
                  </a:lnTo>
                  <a:lnTo>
                    <a:pt x="424" y="1037"/>
                  </a:lnTo>
                  <a:lnTo>
                    <a:pt x="402" y="1010"/>
                  </a:lnTo>
                  <a:lnTo>
                    <a:pt x="375" y="984"/>
                  </a:lnTo>
                  <a:lnTo>
                    <a:pt x="349" y="957"/>
                  </a:lnTo>
                  <a:lnTo>
                    <a:pt x="318" y="935"/>
                  </a:lnTo>
                  <a:lnTo>
                    <a:pt x="282" y="909"/>
                  </a:lnTo>
                  <a:lnTo>
                    <a:pt x="246" y="887"/>
                  </a:lnTo>
                  <a:lnTo>
                    <a:pt x="207" y="865"/>
                  </a:lnTo>
                  <a:lnTo>
                    <a:pt x="167" y="847"/>
                  </a:lnTo>
                  <a:lnTo>
                    <a:pt x="127" y="830"/>
                  </a:lnTo>
                  <a:lnTo>
                    <a:pt x="83" y="816"/>
                  </a:lnTo>
                  <a:lnTo>
                    <a:pt x="44" y="807"/>
                  </a:lnTo>
                  <a:lnTo>
                    <a:pt x="0" y="799"/>
                  </a:lnTo>
                  <a:lnTo>
                    <a:pt x="0" y="768"/>
                  </a:lnTo>
                  <a:lnTo>
                    <a:pt x="4" y="728"/>
                  </a:lnTo>
                  <a:lnTo>
                    <a:pt x="17" y="675"/>
                  </a:lnTo>
                  <a:lnTo>
                    <a:pt x="35" y="622"/>
                  </a:lnTo>
                  <a:lnTo>
                    <a:pt x="48" y="565"/>
                  </a:lnTo>
                  <a:lnTo>
                    <a:pt x="61" y="511"/>
                  </a:lnTo>
                  <a:lnTo>
                    <a:pt x="74" y="467"/>
                  </a:lnTo>
                  <a:lnTo>
                    <a:pt x="83" y="436"/>
                  </a:lnTo>
                  <a:lnTo>
                    <a:pt x="167" y="436"/>
                  </a:lnTo>
                  <a:lnTo>
                    <a:pt x="149" y="405"/>
                  </a:lnTo>
                  <a:lnTo>
                    <a:pt x="132" y="383"/>
                  </a:lnTo>
                  <a:lnTo>
                    <a:pt x="119" y="361"/>
                  </a:lnTo>
                  <a:lnTo>
                    <a:pt x="114" y="352"/>
                  </a:lnTo>
                  <a:lnTo>
                    <a:pt x="132" y="308"/>
                  </a:lnTo>
                  <a:lnTo>
                    <a:pt x="163" y="255"/>
                  </a:lnTo>
                  <a:lnTo>
                    <a:pt x="194" y="194"/>
                  </a:lnTo>
                  <a:lnTo>
                    <a:pt x="224" y="136"/>
                  </a:lnTo>
                  <a:lnTo>
                    <a:pt x="255" y="83"/>
                  </a:lnTo>
                  <a:lnTo>
                    <a:pt x="282" y="39"/>
                  </a:lnTo>
                  <a:lnTo>
                    <a:pt x="299" y="8"/>
                  </a:lnTo>
                  <a:lnTo>
                    <a:pt x="304" y="0"/>
                  </a:lnTo>
                  <a:lnTo>
                    <a:pt x="340" y="0"/>
                  </a:lnTo>
                  <a:lnTo>
                    <a:pt x="384" y="4"/>
                  </a:lnTo>
                  <a:lnTo>
                    <a:pt x="428" y="8"/>
                  </a:lnTo>
                  <a:lnTo>
                    <a:pt x="468" y="13"/>
                  </a:lnTo>
                  <a:lnTo>
                    <a:pt x="512" y="22"/>
                  </a:lnTo>
                  <a:lnTo>
                    <a:pt x="543" y="22"/>
                  </a:lnTo>
                  <a:lnTo>
                    <a:pt x="565" y="26"/>
                  </a:lnTo>
                  <a:lnTo>
                    <a:pt x="574" y="26"/>
                  </a:lnTo>
                  <a:lnTo>
                    <a:pt x="543" y="83"/>
                  </a:lnTo>
                  <a:lnTo>
                    <a:pt x="512" y="167"/>
                  </a:lnTo>
                  <a:lnTo>
                    <a:pt x="477" y="264"/>
                  </a:lnTo>
                  <a:lnTo>
                    <a:pt x="441" y="370"/>
                  </a:lnTo>
                  <a:lnTo>
                    <a:pt x="406" y="471"/>
                  </a:lnTo>
                  <a:lnTo>
                    <a:pt x="375" y="555"/>
                  </a:lnTo>
                  <a:lnTo>
                    <a:pt x="358" y="613"/>
                  </a:lnTo>
                  <a:lnTo>
                    <a:pt x="353" y="640"/>
                  </a:lnTo>
                  <a:lnTo>
                    <a:pt x="402" y="688"/>
                  </a:lnTo>
                  <a:lnTo>
                    <a:pt x="446" y="755"/>
                  </a:lnTo>
                  <a:lnTo>
                    <a:pt x="494" y="830"/>
                  </a:lnTo>
                  <a:lnTo>
                    <a:pt x="534" y="904"/>
                  </a:lnTo>
                  <a:lnTo>
                    <a:pt x="569" y="979"/>
                  </a:lnTo>
                  <a:lnTo>
                    <a:pt x="600" y="1046"/>
                  </a:lnTo>
                  <a:lnTo>
                    <a:pt x="618" y="1099"/>
                  </a:lnTo>
                  <a:lnTo>
                    <a:pt x="627" y="1125"/>
                  </a:lnTo>
                  <a:lnTo>
                    <a:pt x="477" y="112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2189160" y="2333520"/>
              <a:ext cx="179640" cy="124200"/>
            </a:xfrm>
            <a:custGeom>
              <a:avLst/>
              <a:gdLst/>
              <a:ahLst/>
              <a:rect l="0" t="0" r="r" b="b"/>
              <a:pathLst>
                <a:path w="499" h="345">
                  <a:moveTo>
                    <a:pt x="22" y="13"/>
                  </a:moveTo>
                  <a:lnTo>
                    <a:pt x="13" y="0"/>
                  </a:lnTo>
                  <a:lnTo>
                    <a:pt x="57" y="8"/>
                  </a:lnTo>
                  <a:lnTo>
                    <a:pt x="101" y="17"/>
                  </a:lnTo>
                  <a:lnTo>
                    <a:pt x="145" y="30"/>
                  </a:lnTo>
                  <a:lnTo>
                    <a:pt x="185" y="52"/>
                  </a:lnTo>
                  <a:lnTo>
                    <a:pt x="224" y="70"/>
                  </a:lnTo>
                  <a:lnTo>
                    <a:pt x="265" y="93"/>
                  </a:lnTo>
                  <a:lnTo>
                    <a:pt x="305" y="115"/>
                  </a:lnTo>
                  <a:lnTo>
                    <a:pt x="336" y="137"/>
                  </a:lnTo>
                  <a:lnTo>
                    <a:pt x="367" y="164"/>
                  </a:lnTo>
                  <a:lnTo>
                    <a:pt x="397" y="190"/>
                  </a:lnTo>
                  <a:lnTo>
                    <a:pt x="424" y="221"/>
                  </a:lnTo>
                  <a:lnTo>
                    <a:pt x="446" y="243"/>
                  </a:lnTo>
                  <a:lnTo>
                    <a:pt x="464" y="266"/>
                  </a:lnTo>
                  <a:lnTo>
                    <a:pt x="481" y="297"/>
                  </a:lnTo>
                  <a:lnTo>
                    <a:pt x="494" y="315"/>
                  </a:lnTo>
                  <a:lnTo>
                    <a:pt x="499" y="337"/>
                  </a:lnTo>
                  <a:lnTo>
                    <a:pt x="477" y="345"/>
                  </a:lnTo>
                  <a:lnTo>
                    <a:pt x="468" y="328"/>
                  </a:lnTo>
                  <a:lnTo>
                    <a:pt x="459" y="306"/>
                  </a:lnTo>
                  <a:lnTo>
                    <a:pt x="446" y="284"/>
                  </a:lnTo>
                  <a:lnTo>
                    <a:pt x="424" y="262"/>
                  </a:lnTo>
                  <a:lnTo>
                    <a:pt x="406" y="234"/>
                  </a:lnTo>
                  <a:lnTo>
                    <a:pt x="384" y="208"/>
                  </a:lnTo>
                  <a:lnTo>
                    <a:pt x="353" y="186"/>
                  </a:lnTo>
                  <a:lnTo>
                    <a:pt x="322" y="159"/>
                  </a:lnTo>
                  <a:lnTo>
                    <a:pt x="292" y="133"/>
                  </a:lnTo>
                  <a:lnTo>
                    <a:pt x="256" y="111"/>
                  </a:lnTo>
                  <a:lnTo>
                    <a:pt x="216" y="93"/>
                  </a:lnTo>
                  <a:lnTo>
                    <a:pt x="176" y="70"/>
                  </a:lnTo>
                  <a:lnTo>
                    <a:pt x="141" y="57"/>
                  </a:lnTo>
                  <a:lnTo>
                    <a:pt x="97" y="44"/>
                  </a:lnTo>
                  <a:lnTo>
                    <a:pt x="52" y="35"/>
                  </a:lnTo>
                  <a:lnTo>
                    <a:pt x="13" y="26"/>
                  </a:lnTo>
                  <a:lnTo>
                    <a:pt x="0" y="13"/>
                  </a:lnTo>
                  <a:lnTo>
                    <a:pt x="13" y="26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4" y="4"/>
                  </a:lnTo>
                  <a:lnTo>
                    <a:pt x="13" y="0"/>
                  </a:lnTo>
                  <a:lnTo>
                    <a:pt x="2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189160" y="2203560"/>
              <a:ext cx="39960" cy="135360"/>
            </a:xfrm>
            <a:custGeom>
              <a:avLst/>
              <a:gdLst/>
              <a:ahLst/>
              <a:rect l="0" t="0" r="r" b="b"/>
              <a:pathLst>
                <a:path w="111" h="376">
                  <a:moveTo>
                    <a:pt x="98" y="22"/>
                  </a:moveTo>
                  <a:lnTo>
                    <a:pt x="111" y="13"/>
                  </a:lnTo>
                  <a:lnTo>
                    <a:pt x="102" y="44"/>
                  </a:lnTo>
                  <a:lnTo>
                    <a:pt x="89" y="92"/>
                  </a:lnTo>
                  <a:lnTo>
                    <a:pt x="75" y="146"/>
                  </a:lnTo>
                  <a:lnTo>
                    <a:pt x="58" y="199"/>
                  </a:lnTo>
                  <a:lnTo>
                    <a:pt x="44" y="256"/>
                  </a:lnTo>
                  <a:lnTo>
                    <a:pt x="30" y="306"/>
                  </a:lnTo>
                  <a:lnTo>
                    <a:pt x="22" y="345"/>
                  </a:lnTo>
                  <a:lnTo>
                    <a:pt x="22" y="376"/>
                  </a:lnTo>
                  <a:lnTo>
                    <a:pt x="0" y="376"/>
                  </a:lnTo>
                  <a:lnTo>
                    <a:pt x="0" y="345"/>
                  </a:lnTo>
                  <a:lnTo>
                    <a:pt x="4" y="301"/>
                  </a:lnTo>
                  <a:lnTo>
                    <a:pt x="17" y="252"/>
                  </a:lnTo>
                  <a:lnTo>
                    <a:pt x="35" y="195"/>
                  </a:lnTo>
                  <a:lnTo>
                    <a:pt x="48" y="142"/>
                  </a:lnTo>
                  <a:lnTo>
                    <a:pt x="62" y="88"/>
                  </a:lnTo>
                  <a:lnTo>
                    <a:pt x="75" y="39"/>
                  </a:lnTo>
                  <a:lnTo>
                    <a:pt x="89" y="8"/>
                  </a:lnTo>
                  <a:lnTo>
                    <a:pt x="98" y="0"/>
                  </a:lnTo>
                  <a:lnTo>
                    <a:pt x="89" y="8"/>
                  </a:lnTo>
                  <a:lnTo>
                    <a:pt x="93" y="0"/>
                  </a:lnTo>
                  <a:lnTo>
                    <a:pt x="102" y="0"/>
                  </a:lnTo>
                  <a:lnTo>
                    <a:pt x="111" y="4"/>
                  </a:lnTo>
                  <a:lnTo>
                    <a:pt x="111" y="13"/>
                  </a:lnTo>
                  <a:lnTo>
                    <a:pt x="98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224080" y="2206800"/>
              <a:ext cx="33840" cy="25920"/>
            </a:xfrm>
            <a:custGeom>
              <a:avLst/>
              <a:gdLst/>
              <a:ahLst/>
              <a:rect l="0" t="0" r="r" b="b"/>
              <a:pathLst>
                <a:path w="94" h="72">
                  <a:moveTo>
                    <a:pt x="94" y="13"/>
                  </a:moveTo>
                  <a:lnTo>
                    <a:pt x="85" y="72"/>
                  </a:lnTo>
                  <a:lnTo>
                    <a:pt x="0" y="72"/>
                  </a:lnTo>
                  <a:lnTo>
                    <a:pt x="0" y="0"/>
                  </a:lnTo>
                  <a:lnTo>
                    <a:pt x="85" y="0"/>
                  </a:lnTo>
                  <a:lnTo>
                    <a:pt x="72" y="53"/>
                  </a:lnTo>
                  <a:lnTo>
                    <a:pt x="85" y="0"/>
                  </a:lnTo>
                  <a:lnTo>
                    <a:pt x="90" y="13"/>
                  </a:lnTo>
                  <a:lnTo>
                    <a:pt x="94" y="40"/>
                  </a:lnTo>
                  <a:lnTo>
                    <a:pt x="90" y="53"/>
                  </a:lnTo>
                  <a:lnTo>
                    <a:pt x="85" y="72"/>
                  </a:lnTo>
                  <a:lnTo>
                    <a:pt x="94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30560" y="2173320"/>
              <a:ext cx="27360" cy="36720"/>
            </a:xfrm>
            <a:custGeom>
              <a:avLst/>
              <a:gdLst/>
              <a:ahLst/>
              <a:rect l="0" t="0" r="r" b="b"/>
              <a:pathLst>
                <a:path w="76" h="102">
                  <a:moveTo>
                    <a:pt x="27" y="17"/>
                  </a:moveTo>
                  <a:lnTo>
                    <a:pt x="23" y="8"/>
                  </a:lnTo>
                  <a:lnTo>
                    <a:pt x="27" y="13"/>
                  </a:lnTo>
                  <a:lnTo>
                    <a:pt x="45" y="35"/>
                  </a:lnTo>
                  <a:lnTo>
                    <a:pt x="63" y="62"/>
                  </a:lnTo>
                  <a:lnTo>
                    <a:pt x="76" y="89"/>
                  </a:lnTo>
                  <a:lnTo>
                    <a:pt x="53" y="102"/>
                  </a:lnTo>
                  <a:lnTo>
                    <a:pt x="40" y="71"/>
                  </a:lnTo>
                  <a:lnTo>
                    <a:pt x="23" y="48"/>
                  </a:lnTo>
                  <a:lnTo>
                    <a:pt x="8" y="30"/>
                  </a:lnTo>
                  <a:lnTo>
                    <a:pt x="0" y="22"/>
                  </a:lnTo>
                  <a:lnTo>
                    <a:pt x="0" y="8"/>
                  </a:lnTo>
                  <a:lnTo>
                    <a:pt x="0" y="22"/>
                  </a:lnTo>
                  <a:lnTo>
                    <a:pt x="0" y="13"/>
                  </a:lnTo>
                  <a:lnTo>
                    <a:pt x="4" y="4"/>
                  </a:lnTo>
                  <a:lnTo>
                    <a:pt x="13" y="0"/>
                  </a:lnTo>
                  <a:lnTo>
                    <a:pt x="23" y="8"/>
                  </a:lnTo>
                  <a:lnTo>
                    <a:pt x="2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230560" y="2046240"/>
              <a:ext cx="78120" cy="133560"/>
            </a:xfrm>
            <a:custGeom>
              <a:avLst/>
              <a:gdLst/>
              <a:ahLst/>
              <a:rect l="0" t="0" r="r" b="b"/>
              <a:pathLst>
                <a:path w="217" h="371">
                  <a:moveTo>
                    <a:pt x="203" y="26"/>
                  </a:moveTo>
                  <a:lnTo>
                    <a:pt x="217" y="17"/>
                  </a:lnTo>
                  <a:lnTo>
                    <a:pt x="208" y="26"/>
                  </a:lnTo>
                  <a:lnTo>
                    <a:pt x="190" y="57"/>
                  </a:lnTo>
                  <a:lnTo>
                    <a:pt x="164" y="105"/>
                  </a:lnTo>
                  <a:lnTo>
                    <a:pt x="137" y="158"/>
                  </a:lnTo>
                  <a:lnTo>
                    <a:pt x="101" y="217"/>
                  </a:lnTo>
                  <a:lnTo>
                    <a:pt x="70" y="274"/>
                  </a:lnTo>
                  <a:lnTo>
                    <a:pt x="44" y="327"/>
                  </a:lnTo>
                  <a:lnTo>
                    <a:pt x="26" y="371"/>
                  </a:lnTo>
                  <a:lnTo>
                    <a:pt x="0" y="362"/>
                  </a:lnTo>
                  <a:lnTo>
                    <a:pt x="22" y="318"/>
                  </a:lnTo>
                  <a:lnTo>
                    <a:pt x="52" y="261"/>
                  </a:lnTo>
                  <a:lnTo>
                    <a:pt x="83" y="203"/>
                  </a:lnTo>
                  <a:lnTo>
                    <a:pt x="115" y="145"/>
                  </a:lnTo>
                  <a:lnTo>
                    <a:pt x="146" y="92"/>
                  </a:lnTo>
                  <a:lnTo>
                    <a:pt x="172" y="48"/>
                  </a:lnTo>
                  <a:lnTo>
                    <a:pt x="186" y="17"/>
                  </a:lnTo>
                  <a:lnTo>
                    <a:pt x="195" y="8"/>
                  </a:lnTo>
                  <a:lnTo>
                    <a:pt x="203" y="0"/>
                  </a:lnTo>
                  <a:lnTo>
                    <a:pt x="195" y="8"/>
                  </a:lnTo>
                  <a:lnTo>
                    <a:pt x="199" y="4"/>
                  </a:lnTo>
                  <a:lnTo>
                    <a:pt x="208" y="4"/>
                  </a:lnTo>
                  <a:lnTo>
                    <a:pt x="217" y="13"/>
                  </a:lnTo>
                  <a:lnTo>
                    <a:pt x="217" y="17"/>
                  </a:lnTo>
                  <a:lnTo>
                    <a:pt x="203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2303640" y="2046240"/>
              <a:ext cx="100440" cy="25920"/>
            </a:xfrm>
            <a:custGeom>
              <a:avLst/>
              <a:gdLst/>
              <a:ahLst/>
              <a:rect l="0" t="0" r="r" b="b"/>
              <a:pathLst>
                <a:path w="279" h="72">
                  <a:moveTo>
                    <a:pt x="257" y="49"/>
                  </a:moveTo>
                  <a:lnTo>
                    <a:pt x="270" y="72"/>
                  </a:lnTo>
                  <a:lnTo>
                    <a:pt x="262" y="72"/>
                  </a:lnTo>
                  <a:lnTo>
                    <a:pt x="240" y="68"/>
                  </a:lnTo>
                  <a:lnTo>
                    <a:pt x="208" y="59"/>
                  </a:lnTo>
                  <a:lnTo>
                    <a:pt x="164" y="53"/>
                  </a:lnTo>
                  <a:lnTo>
                    <a:pt x="124" y="49"/>
                  </a:lnTo>
                  <a:lnTo>
                    <a:pt x="80" y="40"/>
                  </a:lnTo>
                  <a:lnTo>
                    <a:pt x="35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35" y="0"/>
                  </a:lnTo>
                  <a:lnTo>
                    <a:pt x="80" y="4"/>
                  </a:lnTo>
                  <a:lnTo>
                    <a:pt x="124" y="13"/>
                  </a:lnTo>
                  <a:lnTo>
                    <a:pt x="164" y="17"/>
                  </a:lnTo>
                  <a:lnTo>
                    <a:pt x="208" y="31"/>
                  </a:lnTo>
                  <a:lnTo>
                    <a:pt x="240" y="31"/>
                  </a:lnTo>
                  <a:lnTo>
                    <a:pt x="262" y="36"/>
                  </a:lnTo>
                  <a:lnTo>
                    <a:pt x="270" y="36"/>
                  </a:lnTo>
                  <a:lnTo>
                    <a:pt x="279" y="59"/>
                  </a:lnTo>
                  <a:lnTo>
                    <a:pt x="270" y="36"/>
                  </a:lnTo>
                  <a:lnTo>
                    <a:pt x="275" y="49"/>
                  </a:lnTo>
                  <a:lnTo>
                    <a:pt x="279" y="53"/>
                  </a:lnTo>
                  <a:lnTo>
                    <a:pt x="275" y="68"/>
                  </a:lnTo>
                  <a:lnTo>
                    <a:pt x="270" y="72"/>
                  </a:lnTo>
                  <a:lnTo>
                    <a:pt x="25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316240" y="2058840"/>
              <a:ext cx="87840" cy="225720"/>
            </a:xfrm>
            <a:custGeom>
              <a:avLst/>
              <a:gdLst/>
              <a:ahLst/>
              <a:rect l="0" t="0" r="r" b="b"/>
              <a:pathLst>
                <a:path w="244" h="627">
                  <a:moveTo>
                    <a:pt x="4" y="627"/>
                  </a:moveTo>
                  <a:lnTo>
                    <a:pt x="0" y="613"/>
                  </a:lnTo>
                  <a:lnTo>
                    <a:pt x="8" y="591"/>
                  </a:lnTo>
                  <a:lnTo>
                    <a:pt x="26" y="534"/>
                  </a:lnTo>
                  <a:lnTo>
                    <a:pt x="52" y="446"/>
                  </a:lnTo>
                  <a:lnTo>
                    <a:pt x="89" y="349"/>
                  </a:lnTo>
                  <a:lnTo>
                    <a:pt x="124" y="242"/>
                  </a:lnTo>
                  <a:lnTo>
                    <a:pt x="159" y="145"/>
                  </a:lnTo>
                  <a:lnTo>
                    <a:pt x="196" y="57"/>
                  </a:lnTo>
                  <a:lnTo>
                    <a:pt x="222" y="0"/>
                  </a:lnTo>
                  <a:lnTo>
                    <a:pt x="244" y="8"/>
                  </a:lnTo>
                  <a:lnTo>
                    <a:pt x="218" y="66"/>
                  </a:lnTo>
                  <a:lnTo>
                    <a:pt x="187" y="149"/>
                  </a:lnTo>
                  <a:lnTo>
                    <a:pt x="150" y="246"/>
                  </a:lnTo>
                  <a:lnTo>
                    <a:pt x="111" y="353"/>
                  </a:lnTo>
                  <a:lnTo>
                    <a:pt x="80" y="455"/>
                  </a:lnTo>
                  <a:lnTo>
                    <a:pt x="48" y="538"/>
                  </a:lnTo>
                  <a:lnTo>
                    <a:pt x="30" y="596"/>
                  </a:lnTo>
                  <a:lnTo>
                    <a:pt x="26" y="618"/>
                  </a:lnTo>
                  <a:lnTo>
                    <a:pt x="17" y="605"/>
                  </a:lnTo>
                  <a:lnTo>
                    <a:pt x="26" y="618"/>
                  </a:lnTo>
                  <a:lnTo>
                    <a:pt x="17" y="627"/>
                  </a:lnTo>
                  <a:lnTo>
                    <a:pt x="8" y="627"/>
                  </a:lnTo>
                  <a:lnTo>
                    <a:pt x="0" y="622"/>
                  </a:lnTo>
                  <a:lnTo>
                    <a:pt x="0" y="613"/>
                  </a:lnTo>
                  <a:lnTo>
                    <a:pt x="4" y="6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2317680" y="2276640"/>
              <a:ext cx="106560" cy="184680"/>
            </a:xfrm>
            <a:custGeom>
              <a:avLst/>
              <a:gdLst/>
              <a:ahLst/>
              <a:rect l="0" t="0" r="r" b="b"/>
              <a:pathLst>
                <a:path w="296" h="513">
                  <a:moveTo>
                    <a:pt x="283" y="487"/>
                  </a:moveTo>
                  <a:lnTo>
                    <a:pt x="269" y="500"/>
                  </a:lnTo>
                  <a:lnTo>
                    <a:pt x="261" y="473"/>
                  </a:lnTo>
                  <a:lnTo>
                    <a:pt x="243" y="425"/>
                  </a:lnTo>
                  <a:lnTo>
                    <a:pt x="217" y="358"/>
                  </a:lnTo>
                  <a:lnTo>
                    <a:pt x="181" y="287"/>
                  </a:lnTo>
                  <a:lnTo>
                    <a:pt x="136" y="208"/>
                  </a:lnTo>
                  <a:lnTo>
                    <a:pt x="92" y="133"/>
                  </a:lnTo>
                  <a:lnTo>
                    <a:pt x="44" y="70"/>
                  </a:lnTo>
                  <a:lnTo>
                    <a:pt x="0" y="22"/>
                  </a:lnTo>
                  <a:lnTo>
                    <a:pt x="13" y="0"/>
                  </a:lnTo>
                  <a:lnTo>
                    <a:pt x="66" y="52"/>
                  </a:lnTo>
                  <a:lnTo>
                    <a:pt x="114" y="119"/>
                  </a:lnTo>
                  <a:lnTo>
                    <a:pt x="159" y="199"/>
                  </a:lnTo>
                  <a:lnTo>
                    <a:pt x="199" y="274"/>
                  </a:lnTo>
                  <a:lnTo>
                    <a:pt x="234" y="349"/>
                  </a:lnTo>
                  <a:lnTo>
                    <a:pt x="269" y="416"/>
                  </a:lnTo>
                  <a:lnTo>
                    <a:pt x="287" y="469"/>
                  </a:lnTo>
                  <a:lnTo>
                    <a:pt x="296" y="500"/>
                  </a:lnTo>
                  <a:lnTo>
                    <a:pt x="283" y="513"/>
                  </a:lnTo>
                  <a:lnTo>
                    <a:pt x="296" y="500"/>
                  </a:lnTo>
                  <a:lnTo>
                    <a:pt x="287" y="509"/>
                  </a:lnTo>
                  <a:lnTo>
                    <a:pt x="283" y="509"/>
                  </a:lnTo>
                  <a:lnTo>
                    <a:pt x="274" y="509"/>
                  </a:lnTo>
                  <a:lnTo>
                    <a:pt x="269" y="500"/>
                  </a:lnTo>
                  <a:lnTo>
                    <a:pt x="283" y="4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360520" y="2451240"/>
              <a:ext cx="59040" cy="25920"/>
            </a:xfrm>
            <a:custGeom>
              <a:avLst/>
              <a:gdLst/>
              <a:ahLst/>
              <a:rect l="0" t="0" r="r" b="b"/>
              <a:pathLst>
                <a:path w="164" h="72">
                  <a:moveTo>
                    <a:pt x="22" y="23"/>
                  </a:moveTo>
                  <a:lnTo>
                    <a:pt x="13" y="0"/>
                  </a:lnTo>
                  <a:lnTo>
                    <a:pt x="164" y="0"/>
                  </a:lnTo>
                  <a:lnTo>
                    <a:pt x="164" y="72"/>
                  </a:lnTo>
                  <a:lnTo>
                    <a:pt x="13" y="72"/>
                  </a:lnTo>
                  <a:lnTo>
                    <a:pt x="0" y="49"/>
                  </a:lnTo>
                  <a:lnTo>
                    <a:pt x="13" y="72"/>
                  </a:lnTo>
                  <a:lnTo>
                    <a:pt x="4" y="59"/>
                  </a:lnTo>
                  <a:lnTo>
                    <a:pt x="0" y="36"/>
                  </a:lnTo>
                  <a:lnTo>
                    <a:pt x="4" y="13"/>
                  </a:lnTo>
                  <a:lnTo>
                    <a:pt x="1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62040" y="1165320"/>
              <a:ext cx="370080" cy="484560"/>
            </a:xfrm>
            <a:custGeom>
              <a:avLst/>
              <a:gdLst/>
              <a:ahLst/>
              <a:rect l="0" t="0" r="r" b="b"/>
              <a:pathLst>
                <a:path w="1028" h="1346">
                  <a:moveTo>
                    <a:pt x="1028" y="1191"/>
                  </a:moveTo>
                  <a:lnTo>
                    <a:pt x="990" y="1142"/>
                  </a:lnTo>
                  <a:lnTo>
                    <a:pt x="970" y="1098"/>
                  </a:lnTo>
                  <a:lnTo>
                    <a:pt x="970" y="1054"/>
                  </a:lnTo>
                  <a:lnTo>
                    <a:pt x="970" y="1008"/>
                  </a:lnTo>
                  <a:lnTo>
                    <a:pt x="970" y="964"/>
                  </a:lnTo>
                  <a:lnTo>
                    <a:pt x="961" y="919"/>
                  </a:lnTo>
                  <a:lnTo>
                    <a:pt x="932" y="879"/>
                  </a:lnTo>
                  <a:lnTo>
                    <a:pt x="884" y="835"/>
                  </a:lnTo>
                  <a:lnTo>
                    <a:pt x="850" y="813"/>
                  </a:lnTo>
                  <a:lnTo>
                    <a:pt x="822" y="786"/>
                  </a:lnTo>
                  <a:lnTo>
                    <a:pt x="788" y="755"/>
                  </a:lnTo>
                  <a:lnTo>
                    <a:pt x="754" y="720"/>
                  </a:lnTo>
                  <a:lnTo>
                    <a:pt x="730" y="689"/>
                  </a:lnTo>
                  <a:lnTo>
                    <a:pt x="706" y="657"/>
                  </a:lnTo>
                  <a:lnTo>
                    <a:pt x="692" y="640"/>
                  </a:lnTo>
                  <a:lnTo>
                    <a:pt x="687" y="626"/>
                  </a:lnTo>
                  <a:lnTo>
                    <a:pt x="663" y="644"/>
                  </a:lnTo>
                  <a:lnTo>
                    <a:pt x="649" y="666"/>
                  </a:lnTo>
                  <a:lnTo>
                    <a:pt x="639" y="684"/>
                  </a:lnTo>
                  <a:lnTo>
                    <a:pt x="644" y="706"/>
                  </a:lnTo>
                  <a:lnTo>
                    <a:pt x="625" y="689"/>
                  </a:lnTo>
                  <a:lnTo>
                    <a:pt x="596" y="662"/>
                  </a:lnTo>
                  <a:lnTo>
                    <a:pt x="562" y="622"/>
                  </a:lnTo>
                  <a:lnTo>
                    <a:pt x="513" y="569"/>
                  </a:lnTo>
                  <a:lnTo>
                    <a:pt x="465" y="515"/>
                  </a:lnTo>
                  <a:lnTo>
                    <a:pt x="412" y="458"/>
                  </a:lnTo>
                  <a:lnTo>
                    <a:pt x="355" y="391"/>
                  </a:lnTo>
                  <a:lnTo>
                    <a:pt x="302" y="328"/>
                  </a:lnTo>
                  <a:lnTo>
                    <a:pt x="244" y="266"/>
                  </a:lnTo>
                  <a:lnTo>
                    <a:pt x="187" y="204"/>
                  </a:lnTo>
                  <a:lnTo>
                    <a:pt x="134" y="146"/>
                  </a:lnTo>
                  <a:lnTo>
                    <a:pt x="91" y="97"/>
                  </a:lnTo>
                  <a:lnTo>
                    <a:pt x="52" y="57"/>
                  </a:lnTo>
                  <a:lnTo>
                    <a:pt x="24" y="22"/>
                  </a:lnTo>
                  <a:lnTo>
                    <a:pt x="4" y="4"/>
                  </a:lnTo>
                  <a:lnTo>
                    <a:pt x="0" y="0"/>
                  </a:lnTo>
                  <a:lnTo>
                    <a:pt x="591" y="724"/>
                  </a:lnTo>
                  <a:lnTo>
                    <a:pt x="567" y="720"/>
                  </a:lnTo>
                  <a:lnTo>
                    <a:pt x="543" y="720"/>
                  </a:lnTo>
                  <a:lnTo>
                    <a:pt x="513" y="720"/>
                  </a:lnTo>
                  <a:lnTo>
                    <a:pt x="494" y="720"/>
                  </a:lnTo>
                  <a:lnTo>
                    <a:pt x="475" y="724"/>
                  </a:lnTo>
                  <a:lnTo>
                    <a:pt x="460" y="737"/>
                  </a:lnTo>
                  <a:lnTo>
                    <a:pt x="451" y="751"/>
                  </a:lnTo>
                  <a:lnTo>
                    <a:pt x="446" y="773"/>
                  </a:lnTo>
                  <a:lnTo>
                    <a:pt x="446" y="804"/>
                  </a:lnTo>
                  <a:lnTo>
                    <a:pt x="451" y="822"/>
                  </a:lnTo>
                  <a:lnTo>
                    <a:pt x="460" y="826"/>
                  </a:lnTo>
                  <a:lnTo>
                    <a:pt x="475" y="831"/>
                  </a:lnTo>
                  <a:lnTo>
                    <a:pt x="460" y="862"/>
                  </a:lnTo>
                  <a:lnTo>
                    <a:pt x="456" y="906"/>
                  </a:lnTo>
                  <a:lnTo>
                    <a:pt x="465" y="950"/>
                  </a:lnTo>
                  <a:lnTo>
                    <a:pt x="484" y="973"/>
                  </a:lnTo>
                  <a:lnTo>
                    <a:pt x="465" y="995"/>
                  </a:lnTo>
                  <a:lnTo>
                    <a:pt x="460" y="1027"/>
                  </a:lnTo>
                  <a:lnTo>
                    <a:pt x="465" y="1054"/>
                  </a:lnTo>
                  <a:lnTo>
                    <a:pt x="489" y="1071"/>
                  </a:lnTo>
                  <a:lnTo>
                    <a:pt x="524" y="1076"/>
                  </a:lnTo>
                  <a:lnTo>
                    <a:pt x="533" y="1071"/>
                  </a:lnTo>
                  <a:lnTo>
                    <a:pt x="529" y="1067"/>
                  </a:lnTo>
                  <a:lnTo>
                    <a:pt x="508" y="1071"/>
                  </a:lnTo>
                  <a:lnTo>
                    <a:pt x="494" y="1080"/>
                  </a:lnTo>
                  <a:lnTo>
                    <a:pt x="489" y="1089"/>
                  </a:lnTo>
                  <a:lnTo>
                    <a:pt x="489" y="1107"/>
                  </a:lnTo>
                  <a:lnTo>
                    <a:pt x="494" y="1125"/>
                  </a:lnTo>
                  <a:lnTo>
                    <a:pt x="508" y="1147"/>
                  </a:lnTo>
                  <a:lnTo>
                    <a:pt x="529" y="1164"/>
                  </a:lnTo>
                  <a:lnTo>
                    <a:pt x="557" y="1178"/>
                  </a:lnTo>
                  <a:lnTo>
                    <a:pt x="591" y="1191"/>
                  </a:lnTo>
                  <a:lnTo>
                    <a:pt x="601" y="1209"/>
                  </a:lnTo>
                  <a:lnTo>
                    <a:pt x="610" y="1222"/>
                  </a:lnTo>
                  <a:lnTo>
                    <a:pt x="625" y="1235"/>
                  </a:lnTo>
                  <a:lnTo>
                    <a:pt x="644" y="1253"/>
                  </a:lnTo>
                  <a:lnTo>
                    <a:pt x="663" y="1267"/>
                  </a:lnTo>
                  <a:lnTo>
                    <a:pt x="682" y="1275"/>
                  </a:lnTo>
                  <a:lnTo>
                    <a:pt x="701" y="1284"/>
                  </a:lnTo>
                  <a:lnTo>
                    <a:pt x="725" y="1289"/>
                  </a:lnTo>
                  <a:lnTo>
                    <a:pt x="740" y="1293"/>
                  </a:lnTo>
                  <a:lnTo>
                    <a:pt x="754" y="1302"/>
                  </a:lnTo>
                  <a:lnTo>
                    <a:pt x="773" y="1311"/>
                  </a:lnTo>
                  <a:lnTo>
                    <a:pt x="788" y="1320"/>
                  </a:lnTo>
                  <a:lnTo>
                    <a:pt x="802" y="1329"/>
                  </a:lnTo>
                  <a:lnTo>
                    <a:pt x="812" y="1338"/>
                  </a:lnTo>
                  <a:lnTo>
                    <a:pt x="817" y="1342"/>
                  </a:lnTo>
                  <a:lnTo>
                    <a:pt x="822" y="1346"/>
                  </a:lnTo>
                  <a:lnTo>
                    <a:pt x="1028" y="1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820880" y="1579680"/>
              <a:ext cx="138600" cy="146520"/>
            </a:xfrm>
            <a:custGeom>
              <a:avLst/>
              <a:gdLst/>
              <a:ahLst/>
              <a:rect l="0" t="0" r="r" b="b"/>
              <a:pathLst>
                <a:path w="385" h="407">
                  <a:moveTo>
                    <a:pt x="0" y="256"/>
                  </a:moveTo>
                  <a:lnTo>
                    <a:pt x="186" y="407"/>
                  </a:lnTo>
                  <a:lnTo>
                    <a:pt x="385" y="101"/>
                  </a:lnTo>
                  <a:lnTo>
                    <a:pt x="301" y="0"/>
                  </a:lnTo>
                  <a:lnTo>
                    <a:pt x="0" y="25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17640" y="1668600"/>
              <a:ext cx="74880" cy="62280"/>
            </a:xfrm>
            <a:custGeom>
              <a:avLst/>
              <a:gdLst/>
              <a:ahLst/>
              <a:rect l="0" t="0" r="r" b="b"/>
              <a:pathLst>
                <a:path w="208" h="173">
                  <a:moveTo>
                    <a:pt x="203" y="165"/>
                  </a:moveTo>
                  <a:lnTo>
                    <a:pt x="186" y="173"/>
                  </a:lnTo>
                  <a:lnTo>
                    <a:pt x="0" y="17"/>
                  </a:lnTo>
                  <a:lnTo>
                    <a:pt x="13" y="0"/>
                  </a:lnTo>
                  <a:lnTo>
                    <a:pt x="203" y="151"/>
                  </a:lnTo>
                  <a:lnTo>
                    <a:pt x="186" y="156"/>
                  </a:lnTo>
                  <a:lnTo>
                    <a:pt x="203" y="151"/>
                  </a:lnTo>
                  <a:lnTo>
                    <a:pt x="208" y="160"/>
                  </a:lnTo>
                  <a:lnTo>
                    <a:pt x="203" y="169"/>
                  </a:lnTo>
                  <a:lnTo>
                    <a:pt x="195" y="173"/>
                  </a:lnTo>
                  <a:lnTo>
                    <a:pt x="186" y="173"/>
                  </a:lnTo>
                  <a:lnTo>
                    <a:pt x="203" y="1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1884240" y="1612800"/>
              <a:ext cx="78120" cy="114840"/>
            </a:xfrm>
            <a:custGeom>
              <a:avLst/>
              <a:gdLst/>
              <a:ahLst/>
              <a:rect l="0" t="0" r="r" b="b"/>
              <a:pathLst>
                <a:path w="217" h="319">
                  <a:moveTo>
                    <a:pt x="217" y="0"/>
                  </a:moveTo>
                  <a:lnTo>
                    <a:pt x="217" y="13"/>
                  </a:lnTo>
                  <a:lnTo>
                    <a:pt x="17" y="319"/>
                  </a:lnTo>
                  <a:lnTo>
                    <a:pt x="0" y="310"/>
                  </a:lnTo>
                  <a:lnTo>
                    <a:pt x="195" y="4"/>
                  </a:lnTo>
                  <a:lnTo>
                    <a:pt x="195" y="17"/>
                  </a:lnTo>
                  <a:lnTo>
                    <a:pt x="195" y="4"/>
                  </a:lnTo>
                  <a:lnTo>
                    <a:pt x="203" y="0"/>
                  </a:lnTo>
                  <a:lnTo>
                    <a:pt x="208" y="0"/>
                  </a:lnTo>
                  <a:lnTo>
                    <a:pt x="217" y="4"/>
                  </a:lnTo>
                  <a:lnTo>
                    <a:pt x="217" y="13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924200" y="1574640"/>
              <a:ext cx="38520" cy="44640"/>
            </a:xfrm>
            <a:custGeom>
              <a:avLst/>
              <a:gdLst/>
              <a:ahLst/>
              <a:rect l="0" t="0" r="r" b="b"/>
              <a:pathLst>
                <a:path w="107" h="124">
                  <a:moveTo>
                    <a:pt x="4" y="4"/>
                  </a:moveTo>
                  <a:lnTo>
                    <a:pt x="22" y="4"/>
                  </a:lnTo>
                  <a:lnTo>
                    <a:pt x="107" y="106"/>
                  </a:lnTo>
                  <a:lnTo>
                    <a:pt x="85" y="124"/>
                  </a:lnTo>
                  <a:lnTo>
                    <a:pt x="4" y="22"/>
                  </a:lnTo>
                  <a:lnTo>
                    <a:pt x="22" y="22"/>
                  </a:lnTo>
                  <a:lnTo>
                    <a:pt x="4" y="22"/>
                  </a:lnTo>
                  <a:lnTo>
                    <a:pt x="0" y="8"/>
                  </a:lnTo>
                  <a:lnTo>
                    <a:pt x="4" y="4"/>
                  </a:lnTo>
                  <a:lnTo>
                    <a:pt x="13" y="0"/>
                  </a:lnTo>
                  <a:lnTo>
                    <a:pt x="22" y="4"/>
                  </a:lnTo>
                  <a:lnTo>
                    <a:pt x="4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1816200" y="1576440"/>
              <a:ext cx="116280" cy="100440"/>
            </a:xfrm>
            <a:custGeom>
              <a:avLst/>
              <a:gdLst/>
              <a:ahLst/>
              <a:rect l="0" t="0" r="r" b="b"/>
              <a:pathLst>
                <a:path w="323" h="279">
                  <a:moveTo>
                    <a:pt x="4" y="275"/>
                  </a:moveTo>
                  <a:lnTo>
                    <a:pt x="4" y="257"/>
                  </a:lnTo>
                  <a:lnTo>
                    <a:pt x="306" y="0"/>
                  </a:lnTo>
                  <a:lnTo>
                    <a:pt x="323" y="17"/>
                  </a:lnTo>
                  <a:lnTo>
                    <a:pt x="17" y="275"/>
                  </a:lnTo>
                  <a:lnTo>
                    <a:pt x="17" y="257"/>
                  </a:lnTo>
                  <a:lnTo>
                    <a:pt x="17" y="275"/>
                  </a:lnTo>
                  <a:lnTo>
                    <a:pt x="8" y="279"/>
                  </a:lnTo>
                  <a:lnTo>
                    <a:pt x="0" y="275"/>
                  </a:lnTo>
                  <a:lnTo>
                    <a:pt x="0" y="266"/>
                  </a:lnTo>
                  <a:lnTo>
                    <a:pt x="4" y="257"/>
                  </a:lnTo>
                  <a:lnTo>
                    <a:pt x="4" y="2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760400" y="1935000"/>
              <a:ext cx="100440" cy="143280"/>
            </a:xfrm>
            <a:custGeom>
              <a:avLst/>
              <a:gdLst/>
              <a:ahLst/>
              <a:rect l="0" t="0" r="r" b="b"/>
              <a:pathLst>
                <a:path w="279" h="398">
                  <a:moveTo>
                    <a:pt x="199" y="0"/>
                  </a:moveTo>
                  <a:lnTo>
                    <a:pt x="279" y="88"/>
                  </a:lnTo>
                  <a:lnTo>
                    <a:pt x="128" y="398"/>
                  </a:lnTo>
                  <a:lnTo>
                    <a:pt x="0" y="337"/>
                  </a:lnTo>
                  <a:lnTo>
                    <a:pt x="13" y="306"/>
                  </a:lnTo>
                  <a:lnTo>
                    <a:pt x="35" y="261"/>
                  </a:lnTo>
                  <a:lnTo>
                    <a:pt x="61" y="212"/>
                  </a:lnTo>
                  <a:lnTo>
                    <a:pt x="93" y="164"/>
                  </a:lnTo>
                  <a:lnTo>
                    <a:pt x="124" y="111"/>
                  </a:lnTo>
                  <a:lnTo>
                    <a:pt x="150" y="61"/>
                  </a:lnTo>
                  <a:lnTo>
                    <a:pt x="177" y="26"/>
                  </a:lnTo>
                  <a:lnTo>
                    <a:pt x="1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1827360" y="1933560"/>
              <a:ext cx="38520" cy="38520"/>
            </a:xfrm>
            <a:custGeom>
              <a:avLst/>
              <a:gdLst/>
              <a:ahLst/>
              <a:rect l="0" t="0" r="r" b="b"/>
              <a:pathLst>
                <a:path w="107" h="107">
                  <a:moveTo>
                    <a:pt x="85" y="90"/>
                  </a:moveTo>
                  <a:lnTo>
                    <a:pt x="85" y="103"/>
                  </a:lnTo>
                  <a:lnTo>
                    <a:pt x="0" y="13"/>
                  </a:lnTo>
                  <a:lnTo>
                    <a:pt x="22" y="0"/>
                  </a:lnTo>
                  <a:lnTo>
                    <a:pt x="103" y="85"/>
                  </a:lnTo>
                  <a:lnTo>
                    <a:pt x="103" y="99"/>
                  </a:lnTo>
                  <a:lnTo>
                    <a:pt x="103" y="85"/>
                  </a:lnTo>
                  <a:lnTo>
                    <a:pt x="107" y="99"/>
                  </a:lnTo>
                  <a:lnTo>
                    <a:pt x="99" y="103"/>
                  </a:lnTo>
                  <a:lnTo>
                    <a:pt x="90" y="107"/>
                  </a:lnTo>
                  <a:lnTo>
                    <a:pt x="85" y="103"/>
                  </a:lnTo>
                  <a:lnTo>
                    <a:pt x="85" y="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1801800" y="1965240"/>
              <a:ext cx="62280" cy="116280"/>
            </a:xfrm>
            <a:custGeom>
              <a:avLst/>
              <a:gdLst/>
              <a:ahLst/>
              <a:rect l="0" t="0" r="r" b="b"/>
              <a:pathLst>
                <a:path w="173" h="323">
                  <a:moveTo>
                    <a:pt x="17" y="306"/>
                  </a:moveTo>
                  <a:lnTo>
                    <a:pt x="0" y="310"/>
                  </a:lnTo>
                  <a:lnTo>
                    <a:pt x="156" y="0"/>
                  </a:lnTo>
                  <a:lnTo>
                    <a:pt x="173" y="8"/>
                  </a:lnTo>
                  <a:lnTo>
                    <a:pt x="22" y="319"/>
                  </a:lnTo>
                  <a:lnTo>
                    <a:pt x="8" y="323"/>
                  </a:lnTo>
                  <a:lnTo>
                    <a:pt x="22" y="319"/>
                  </a:lnTo>
                  <a:lnTo>
                    <a:pt x="17" y="323"/>
                  </a:lnTo>
                  <a:lnTo>
                    <a:pt x="8" y="323"/>
                  </a:lnTo>
                  <a:lnTo>
                    <a:pt x="0" y="319"/>
                  </a:lnTo>
                  <a:lnTo>
                    <a:pt x="0" y="310"/>
                  </a:lnTo>
                  <a:lnTo>
                    <a:pt x="17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755720" y="2052720"/>
              <a:ext cx="52920" cy="28800"/>
            </a:xfrm>
            <a:custGeom>
              <a:avLst/>
              <a:gdLst/>
              <a:ahLst/>
              <a:rect l="0" t="0" r="r" b="b"/>
              <a:pathLst>
                <a:path w="147" h="80">
                  <a:moveTo>
                    <a:pt x="26" y="13"/>
                  </a:moveTo>
                  <a:lnTo>
                    <a:pt x="17" y="0"/>
                  </a:lnTo>
                  <a:lnTo>
                    <a:pt x="147" y="62"/>
                  </a:lnTo>
                  <a:lnTo>
                    <a:pt x="138" y="80"/>
                  </a:lnTo>
                  <a:lnTo>
                    <a:pt x="8" y="22"/>
                  </a:lnTo>
                  <a:lnTo>
                    <a:pt x="0" y="8"/>
                  </a:lnTo>
                  <a:lnTo>
                    <a:pt x="8" y="22"/>
                  </a:lnTo>
                  <a:lnTo>
                    <a:pt x="4" y="17"/>
                  </a:lnTo>
                  <a:lnTo>
                    <a:pt x="4" y="4"/>
                  </a:lnTo>
                  <a:lnTo>
                    <a:pt x="13" y="0"/>
                  </a:lnTo>
                  <a:lnTo>
                    <a:pt x="17" y="0"/>
                  </a:lnTo>
                  <a:lnTo>
                    <a:pt x="26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16200" bIns="-16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1755720" y="1932120"/>
              <a:ext cx="79560" cy="125640"/>
            </a:xfrm>
            <a:custGeom>
              <a:avLst/>
              <a:gdLst/>
              <a:ahLst/>
              <a:rect l="0" t="0" r="r" b="b"/>
              <a:pathLst>
                <a:path w="221" h="349">
                  <a:moveTo>
                    <a:pt x="199" y="17"/>
                  </a:moveTo>
                  <a:lnTo>
                    <a:pt x="217" y="17"/>
                  </a:lnTo>
                  <a:lnTo>
                    <a:pt x="199" y="44"/>
                  </a:lnTo>
                  <a:lnTo>
                    <a:pt x="177" y="79"/>
                  </a:lnTo>
                  <a:lnTo>
                    <a:pt x="146" y="123"/>
                  </a:lnTo>
                  <a:lnTo>
                    <a:pt x="115" y="177"/>
                  </a:lnTo>
                  <a:lnTo>
                    <a:pt x="83" y="225"/>
                  </a:lnTo>
                  <a:lnTo>
                    <a:pt x="57" y="278"/>
                  </a:lnTo>
                  <a:lnTo>
                    <a:pt x="35" y="318"/>
                  </a:lnTo>
                  <a:lnTo>
                    <a:pt x="26" y="349"/>
                  </a:lnTo>
                  <a:lnTo>
                    <a:pt x="0" y="344"/>
                  </a:lnTo>
                  <a:lnTo>
                    <a:pt x="17" y="309"/>
                  </a:lnTo>
                  <a:lnTo>
                    <a:pt x="39" y="265"/>
                  </a:lnTo>
                  <a:lnTo>
                    <a:pt x="66" y="217"/>
                  </a:lnTo>
                  <a:lnTo>
                    <a:pt x="92" y="167"/>
                  </a:lnTo>
                  <a:lnTo>
                    <a:pt x="124" y="114"/>
                  </a:lnTo>
                  <a:lnTo>
                    <a:pt x="155" y="66"/>
                  </a:lnTo>
                  <a:lnTo>
                    <a:pt x="181" y="26"/>
                  </a:lnTo>
                  <a:lnTo>
                    <a:pt x="203" y="4"/>
                  </a:lnTo>
                  <a:lnTo>
                    <a:pt x="221" y="4"/>
                  </a:lnTo>
                  <a:lnTo>
                    <a:pt x="203" y="4"/>
                  </a:lnTo>
                  <a:lnTo>
                    <a:pt x="212" y="0"/>
                  </a:lnTo>
                  <a:lnTo>
                    <a:pt x="217" y="4"/>
                  </a:lnTo>
                  <a:lnTo>
                    <a:pt x="221" y="8"/>
                  </a:lnTo>
                  <a:lnTo>
                    <a:pt x="217" y="17"/>
                  </a:lnTo>
                  <a:lnTo>
                    <a:pt x="199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1584360" y="1843200"/>
              <a:ext cx="235440" cy="174960"/>
            </a:xfrm>
            <a:custGeom>
              <a:avLst/>
              <a:gdLst/>
              <a:ahLst/>
              <a:rect l="0" t="0" r="r" b="b"/>
              <a:pathLst>
                <a:path w="654" h="486">
                  <a:moveTo>
                    <a:pt x="88" y="70"/>
                  </a:moveTo>
                  <a:lnTo>
                    <a:pt x="52" y="52"/>
                  </a:lnTo>
                  <a:lnTo>
                    <a:pt x="30" y="66"/>
                  </a:lnTo>
                  <a:lnTo>
                    <a:pt x="30" y="88"/>
                  </a:lnTo>
                  <a:lnTo>
                    <a:pt x="44" y="110"/>
                  </a:lnTo>
                  <a:lnTo>
                    <a:pt x="66" y="123"/>
                  </a:lnTo>
                  <a:lnTo>
                    <a:pt x="88" y="141"/>
                  </a:lnTo>
                  <a:lnTo>
                    <a:pt x="110" y="154"/>
                  </a:lnTo>
                  <a:lnTo>
                    <a:pt x="141" y="167"/>
                  </a:lnTo>
                  <a:lnTo>
                    <a:pt x="168" y="185"/>
                  </a:lnTo>
                  <a:lnTo>
                    <a:pt x="199" y="198"/>
                  </a:lnTo>
                  <a:lnTo>
                    <a:pt x="234" y="216"/>
                  </a:lnTo>
                  <a:lnTo>
                    <a:pt x="269" y="229"/>
                  </a:lnTo>
                  <a:lnTo>
                    <a:pt x="247" y="224"/>
                  </a:lnTo>
                  <a:lnTo>
                    <a:pt x="208" y="216"/>
                  </a:lnTo>
                  <a:lnTo>
                    <a:pt x="164" y="207"/>
                  </a:lnTo>
                  <a:lnTo>
                    <a:pt x="119" y="198"/>
                  </a:lnTo>
                  <a:lnTo>
                    <a:pt x="74" y="189"/>
                  </a:lnTo>
                  <a:lnTo>
                    <a:pt x="39" y="185"/>
                  </a:lnTo>
                  <a:lnTo>
                    <a:pt x="17" y="180"/>
                  </a:lnTo>
                  <a:lnTo>
                    <a:pt x="8" y="176"/>
                  </a:lnTo>
                  <a:lnTo>
                    <a:pt x="0" y="189"/>
                  </a:lnTo>
                  <a:lnTo>
                    <a:pt x="0" y="207"/>
                  </a:lnTo>
                  <a:lnTo>
                    <a:pt x="13" y="224"/>
                  </a:lnTo>
                  <a:lnTo>
                    <a:pt x="39" y="242"/>
                  </a:lnTo>
                  <a:lnTo>
                    <a:pt x="74" y="261"/>
                  </a:lnTo>
                  <a:lnTo>
                    <a:pt x="127" y="274"/>
                  </a:lnTo>
                  <a:lnTo>
                    <a:pt x="190" y="292"/>
                  </a:lnTo>
                  <a:lnTo>
                    <a:pt x="269" y="300"/>
                  </a:lnTo>
                  <a:lnTo>
                    <a:pt x="239" y="300"/>
                  </a:lnTo>
                  <a:lnTo>
                    <a:pt x="199" y="300"/>
                  </a:lnTo>
                  <a:lnTo>
                    <a:pt x="158" y="300"/>
                  </a:lnTo>
                  <a:lnTo>
                    <a:pt x="119" y="309"/>
                  </a:lnTo>
                  <a:lnTo>
                    <a:pt x="83" y="309"/>
                  </a:lnTo>
                  <a:lnTo>
                    <a:pt x="52" y="314"/>
                  </a:lnTo>
                  <a:lnTo>
                    <a:pt x="30" y="318"/>
                  </a:lnTo>
                  <a:lnTo>
                    <a:pt x="26" y="318"/>
                  </a:lnTo>
                  <a:lnTo>
                    <a:pt x="30" y="344"/>
                  </a:lnTo>
                  <a:lnTo>
                    <a:pt x="39" y="358"/>
                  </a:lnTo>
                  <a:lnTo>
                    <a:pt x="52" y="367"/>
                  </a:lnTo>
                  <a:lnTo>
                    <a:pt x="74" y="367"/>
                  </a:lnTo>
                  <a:lnTo>
                    <a:pt x="105" y="367"/>
                  </a:lnTo>
                  <a:lnTo>
                    <a:pt x="145" y="371"/>
                  </a:lnTo>
                  <a:lnTo>
                    <a:pt x="199" y="375"/>
                  </a:lnTo>
                  <a:lnTo>
                    <a:pt x="265" y="384"/>
                  </a:lnTo>
                  <a:lnTo>
                    <a:pt x="243" y="389"/>
                  </a:lnTo>
                  <a:lnTo>
                    <a:pt x="221" y="389"/>
                  </a:lnTo>
                  <a:lnTo>
                    <a:pt x="199" y="397"/>
                  </a:lnTo>
                  <a:lnTo>
                    <a:pt x="172" y="402"/>
                  </a:lnTo>
                  <a:lnTo>
                    <a:pt x="149" y="406"/>
                  </a:lnTo>
                  <a:lnTo>
                    <a:pt x="123" y="415"/>
                  </a:lnTo>
                  <a:lnTo>
                    <a:pt x="101" y="419"/>
                  </a:lnTo>
                  <a:lnTo>
                    <a:pt x="79" y="424"/>
                  </a:lnTo>
                  <a:lnTo>
                    <a:pt x="92" y="446"/>
                  </a:lnTo>
                  <a:lnTo>
                    <a:pt x="105" y="459"/>
                  </a:lnTo>
                  <a:lnTo>
                    <a:pt x="119" y="468"/>
                  </a:lnTo>
                  <a:lnTo>
                    <a:pt x="136" y="468"/>
                  </a:lnTo>
                  <a:lnTo>
                    <a:pt x="158" y="464"/>
                  </a:lnTo>
                  <a:lnTo>
                    <a:pt x="186" y="459"/>
                  </a:lnTo>
                  <a:lnTo>
                    <a:pt x="221" y="446"/>
                  </a:lnTo>
                  <a:lnTo>
                    <a:pt x="269" y="437"/>
                  </a:lnTo>
                  <a:lnTo>
                    <a:pt x="305" y="455"/>
                  </a:lnTo>
                  <a:lnTo>
                    <a:pt x="331" y="464"/>
                  </a:lnTo>
                  <a:lnTo>
                    <a:pt x="367" y="472"/>
                  </a:lnTo>
                  <a:lnTo>
                    <a:pt x="397" y="481"/>
                  </a:lnTo>
                  <a:lnTo>
                    <a:pt x="433" y="486"/>
                  </a:lnTo>
                  <a:lnTo>
                    <a:pt x="468" y="486"/>
                  </a:lnTo>
                  <a:lnTo>
                    <a:pt x="504" y="486"/>
                  </a:lnTo>
                  <a:lnTo>
                    <a:pt x="535" y="486"/>
                  </a:lnTo>
                  <a:lnTo>
                    <a:pt x="654" y="305"/>
                  </a:lnTo>
                  <a:lnTo>
                    <a:pt x="645" y="287"/>
                  </a:lnTo>
                  <a:lnTo>
                    <a:pt x="641" y="261"/>
                  </a:lnTo>
                  <a:lnTo>
                    <a:pt x="637" y="238"/>
                  </a:lnTo>
                  <a:lnTo>
                    <a:pt x="623" y="216"/>
                  </a:lnTo>
                  <a:lnTo>
                    <a:pt x="606" y="198"/>
                  </a:lnTo>
                  <a:lnTo>
                    <a:pt x="584" y="171"/>
                  </a:lnTo>
                  <a:lnTo>
                    <a:pt x="553" y="149"/>
                  </a:lnTo>
                  <a:lnTo>
                    <a:pt x="513" y="132"/>
                  </a:lnTo>
                  <a:lnTo>
                    <a:pt x="472" y="110"/>
                  </a:lnTo>
                  <a:lnTo>
                    <a:pt x="433" y="92"/>
                  </a:lnTo>
                  <a:lnTo>
                    <a:pt x="397" y="70"/>
                  </a:lnTo>
                  <a:lnTo>
                    <a:pt x="367" y="52"/>
                  </a:lnTo>
                  <a:lnTo>
                    <a:pt x="344" y="35"/>
                  </a:lnTo>
                  <a:lnTo>
                    <a:pt x="322" y="17"/>
                  </a:lnTo>
                  <a:lnTo>
                    <a:pt x="309" y="4"/>
                  </a:lnTo>
                  <a:lnTo>
                    <a:pt x="305" y="0"/>
                  </a:lnTo>
                  <a:lnTo>
                    <a:pt x="292" y="30"/>
                  </a:lnTo>
                  <a:lnTo>
                    <a:pt x="292" y="66"/>
                  </a:lnTo>
                  <a:lnTo>
                    <a:pt x="309" y="97"/>
                  </a:lnTo>
                  <a:lnTo>
                    <a:pt x="340" y="123"/>
                  </a:lnTo>
                  <a:lnTo>
                    <a:pt x="371" y="136"/>
                  </a:lnTo>
                  <a:lnTo>
                    <a:pt x="380" y="149"/>
                  </a:lnTo>
                  <a:lnTo>
                    <a:pt x="375" y="154"/>
                  </a:lnTo>
                  <a:lnTo>
                    <a:pt x="362" y="163"/>
                  </a:lnTo>
                  <a:lnTo>
                    <a:pt x="349" y="163"/>
                  </a:lnTo>
                  <a:lnTo>
                    <a:pt x="327" y="158"/>
                  </a:lnTo>
                  <a:lnTo>
                    <a:pt x="292" y="149"/>
                  </a:lnTo>
                  <a:lnTo>
                    <a:pt x="252" y="136"/>
                  </a:lnTo>
                  <a:lnTo>
                    <a:pt x="212" y="123"/>
                  </a:lnTo>
                  <a:lnTo>
                    <a:pt x="164" y="105"/>
                  </a:lnTo>
                  <a:lnTo>
                    <a:pt x="123" y="88"/>
                  </a:lnTo>
                  <a:lnTo>
                    <a:pt x="88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1800360" y="1603440"/>
              <a:ext cx="1041840" cy="852840"/>
            </a:xfrm>
            <a:custGeom>
              <a:avLst/>
              <a:gdLst/>
              <a:ahLst/>
              <a:rect l="0" t="0" r="r" b="b"/>
              <a:pathLst>
                <a:path w="2894" h="2369">
                  <a:moveTo>
                    <a:pt x="1570" y="2369"/>
                  </a:moveTo>
                  <a:lnTo>
                    <a:pt x="1562" y="2346"/>
                  </a:lnTo>
                  <a:lnTo>
                    <a:pt x="1553" y="2329"/>
                  </a:lnTo>
                  <a:lnTo>
                    <a:pt x="1535" y="2302"/>
                  </a:lnTo>
                  <a:lnTo>
                    <a:pt x="1517" y="2280"/>
                  </a:lnTo>
                  <a:lnTo>
                    <a:pt x="1495" y="2254"/>
                  </a:lnTo>
                  <a:lnTo>
                    <a:pt x="1469" y="2227"/>
                  </a:lnTo>
                  <a:lnTo>
                    <a:pt x="1442" y="2201"/>
                  </a:lnTo>
                  <a:lnTo>
                    <a:pt x="1412" y="2179"/>
                  </a:lnTo>
                  <a:lnTo>
                    <a:pt x="1376" y="2152"/>
                  </a:lnTo>
                  <a:lnTo>
                    <a:pt x="1341" y="2130"/>
                  </a:lnTo>
                  <a:lnTo>
                    <a:pt x="1301" y="2108"/>
                  </a:lnTo>
                  <a:lnTo>
                    <a:pt x="1262" y="2091"/>
                  </a:lnTo>
                  <a:lnTo>
                    <a:pt x="1222" y="2073"/>
                  </a:lnTo>
                  <a:lnTo>
                    <a:pt x="1178" y="2060"/>
                  </a:lnTo>
                  <a:lnTo>
                    <a:pt x="1138" y="2051"/>
                  </a:lnTo>
                  <a:lnTo>
                    <a:pt x="1094" y="2042"/>
                  </a:lnTo>
                  <a:lnTo>
                    <a:pt x="1094" y="2011"/>
                  </a:lnTo>
                  <a:lnTo>
                    <a:pt x="1099" y="1972"/>
                  </a:lnTo>
                  <a:lnTo>
                    <a:pt x="1112" y="1919"/>
                  </a:lnTo>
                  <a:lnTo>
                    <a:pt x="1129" y="1866"/>
                  </a:lnTo>
                  <a:lnTo>
                    <a:pt x="1143" y="1808"/>
                  </a:lnTo>
                  <a:lnTo>
                    <a:pt x="1156" y="1756"/>
                  </a:lnTo>
                  <a:lnTo>
                    <a:pt x="1169" y="1711"/>
                  </a:lnTo>
                  <a:lnTo>
                    <a:pt x="1178" y="1681"/>
                  </a:lnTo>
                  <a:lnTo>
                    <a:pt x="1262" y="1681"/>
                  </a:lnTo>
                  <a:lnTo>
                    <a:pt x="1244" y="1650"/>
                  </a:lnTo>
                  <a:lnTo>
                    <a:pt x="1226" y="1628"/>
                  </a:lnTo>
                  <a:lnTo>
                    <a:pt x="1213" y="1606"/>
                  </a:lnTo>
                  <a:lnTo>
                    <a:pt x="1209" y="1597"/>
                  </a:lnTo>
                  <a:lnTo>
                    <a:pt x="1226" y="1553"/>
                  </a:lnTo>
                  <a:lnTo>
                    <a:pt x="1257" y="1500"/>
                  </a:lnTo>
                  <a:lnTo>
                    <a:pt x="1288" y="1438"/>
                  </a:lnTo>
                  <a:lnTo>
                    <a:pt x="1319" y="1381"/>
                  </a:lnTo>
                  <a:lnTo>
                    <a:pt x="1350" y="1328"/>
                  </a:lnTo>
                  <a:lnTo>
                    <a:pt x="1376" y="1284"/>
                  </a:lnTo>
                  <a:lnTo>
                    <a:pt x="1394" y="1253"/>
                  </a:lnTo>
                  <a:lnTo>
                    <a:pt x="1398" y="1244"/>
                  </a:lnTo>
                  <a:lnTo>
                    <a:pt x="1434" y="1244"/>
                  </a:lnTo>
                  <a:lnTo>
                    <a:pt x="1478" y="1248"/>
                  </a:lnTo>
                  <a:lnTo>
                    <a:pt x="1522" y="1253"/>
                  </a:lnTo>
                  <a:lnTo>
                    <a:pt x="1562" y="1257"/>
                  </a:lnTo>
                  <a:lnTo>
                    <a:pt x="1606" y="1266"/>
                  </a:lnTo>
                  <a:lnTo>
                    <a:pt x="1637" y="1266"/>
                  </a:lnTo>
                  <a:lnTo>
                    <a:pt x="1659" y="1271"/>
                  </a:lnTo>
                  <a:lnTo>
                    <a:pt x="1667" y="1271"/>
                  </a:lnTo>
                  <a:lnTo>
                    <a:pt x="1637" y="1328"/>
                  </a:lnTo>
                  <a:lnTo>
                    <a:pt x="1606" y="1412"/>
                  </a:lnTo>
                  <a:lnTo>
                    <a:pt x="1570" y="1509"/>
                  </a:lnTo>
                  <a:lnTo>
                    <a:pt x="1535" y="1614"/>
                  </a:lnTo>
                  <a:lnTo>
                    <a:pt x="1500" y="1716"/>
                  </a:lnTo>
                  <a:lnTo>
                    <a:pt x="1469" y="1800"/>
                  </a:lnTo>
                  <a:lnTo>
                    <a:pt x="1451" y="1857"/>
                  </a:lnTo>
                  <a:lnTo>
                    <a:pt x="1447" y="1883"/>
                  </a:lnTo>
                  <a:lnTo>
                    <a:pt x="1495" y="1932"/>
                  </a:lnTo>
                  <a:lnTo>
                    <a:pt x="1539" y="1998"/>
                  </a:lnTo>
                  <a:lnTo>
                    <a:pt x="1588" y="2073"/>
                  </a:lnTo>
                  <a:lnTo>
                    <a:pt x="1628" y="2148"/>
                  </a:lnTo>
                  <a:lnTo>
                    <a:pt x="1663" y="2223"/>
                  </a:lnTo>
                  <a:lnTo>
                    <a:pt x="1694" y="2289"/>
                  </a:lnTo>
                  <a:lnTo>
                    <a:pt x="1711" y="2342"/>
                  </a:lnTo>
                  <a:lnTo>
                    <a:pt x="1720" y="2369"/>
                  </a:lnTo>
                  <a:lnTo>
                    <a:pt x="1738" y="2369"/>
                  </a:lnTo>
                  <a:lnTo>
                    <a:pt x="1773" y="2369"/>
                  </a:lnTo>
                  <a:lnTo>
                    <a:pt x="1817" y="2369"/>
                  </a:lnTo>
                  <a:lnTo>
                    <a:pt x="1870" y="2369"/>
                  </a:lnTo>
                  <a:lnTo>
                    <a:pt x="1936" y="2369"/>
                  </a:lnTo>
                  <a:lnTo>
                    <a:pt x="1998" y="2369"/>
                  </a:lnTo>
                  <a:lnTo>
                    <a:pt x="2069" y="2369"/>
                  </a:lnTo>
                  <a:lnTo>
                    <a:pt x="2139" y="2369"/>
                  </a:lnTo>
                  <a:lnTo>
                    <a:pt x="2211" y="2369"/>
                  </a:lnTo>
                  <a:lnTo>
                    <a:pt x="2277" y="2369"/>
                  </a:lnTo>
                  <a:lnTo>
                    <a:pt x="2339" y="2369"/>
                  </a:lnTo>
                  <a:lnTo>
                    <a:pt x="2396" y="2369"/>
                  </a:lnTo>
                  <a:lnTo>
                    <a:pt x="2440" y="2369"/>
                  </a:lnTo>
                  <a:lnTo>
                    <a:pt x="2475" y="2369"/>
                  </a:lnTo>
                  <a:lnTo>
                    <a:pt x="2497" y="2369"/>
                  </a:lnTo>
                  <a:lnTo>
                    <a:pt x="2506" y="2369"/>
                  </a:lnTo>
                  <a:lnTo>
                    <a:pt x="2506" y="2338"/>
                  </a:lnTo>
                  <a:lnTo>
                    <a:pt x="2502" y="2298"/>
                  </a:lnTo>
                  <a:lnTo>
                    <a:pt x="2497" y="2254"/>
                  </a:lnTo>
                  <a:lnTo>
                    <a:pt x="2489" y="2201"/>
                  </a:lnTo>
                  <a:lnTo>
                    <a:pt x="2475" y="2152"/>
                  </a:lnTo>
                  <a:lnTo>
                    <a:pt x="2458" y="2104"/>
                  </a:lnTo>
                  <a:lnTo>
                    <a:pt x="2436" y="2051"/>
                  </a:lnTo>
                  <a:lnTo>
                    <a:pt x="2409" y="2007"/>
                  </a:lnTo>
                  <a:lnTo>
                    <a:pt x="2418" y="1967"/>
                  </a:lnTo>
                  <a:lnTo>
                    <a:pt x="2431" y="1906"/>
                  </a:lnTo>
                  <a:lnTo>
                    <a:pt x="2440" y="1835"/>
                  </a:lnTo>
                  <a:lnTo>
                    <a:pt x="2453" y="1760"/>
                  </a:lnTo>
                  <a:lnTo>
                    <a:pt x="2471" y="1681"/>
                  </a:lnTo>
                  <a:lnTo>
                    <a:pt x="2489" y="1610"/>
                  </a:lnTo>
                  <a:lnTo>
                    <a:pt x="2506" y="1548"/>
                  </a:lnTo>
                  <a:lnTo>
                    <a:pt x="2524" y="1509"/>
                  </a:lnTo>
                  <a:lnTo>
                    <a:pt x="2555" y="1478"/>
                  </a:lnTo>
                  <a:lnTo>
                    <a:pt x="2603" y="1438"/>
                  </a:lnTo>
                  <a:lnTo>
                    <a:pt x="2665" y="1394"/>
                  </a:lnTo>
                  <a:lnTo>
                    <a:pt x="2731" y="1341"/>
                  </a:lnTo>
                  <a:lnTo>
                    <a:pt x="2793" y="1275"/>
                  </a:lnTo>
                  <a:lnTo>
                    <a:pt x="2846" y="1196"/>
                  </a:lnTo>
                  <a:lnTo>
                    <a:pt x="2881" y="1106"/>
                  </a:lnTo>
                  <a:lnTo>
                    <a:pt x="2894" y="996"/>
                  </a:lnTo>
                  <a:lnTo>
                    <a:pt x="2890" y="899"/>
                  </a:lnTo>
                  <a:lnTo>
                    <a:pt x="2868" y="829"/>
                  </a:lnTo>
                  <a:lnTo>
                    <a:pt x="2841" y="780"/>
                  </a:lnTo>
                  <a:lnTo>
                    <a:pt x="2806" y="754"/>
                  </a:lnTo>
                  <a:lnTo>
                    <a:pt x="2771" y="740"/>
                  </a:lnTo>
                  <a:lnTo>
                    <a:pt x="2740" y="736"/>
                  </a:lnTo>
                  <a:lnTo>
                    <a:pt x="2709" y="732"/>
                  </a:lnTo>
                  <a:lnTo>
                    <a:pt x="2691" y="723"/>
                  </a:lnTo>
                  <a:lnTo>
                    <a:pt x="2709" y="705"/>
                  </a:lnTo>
                  <a:lnTo>
                    <a:pt x="2722" y="687"/>
                  </a:lnTo>
                  <a:lnTo>
                    <a:pt x="2731" y="674"/>
                  </a:lnTo>
                  <a:lnTo>
                    <a:pt x="2736" y="670"/>
                  </a:lnTo>
                  <a:lnTo>
                    <a:pt x="2731" y="665"/>
                  </a:lnTo>
                  <a:lnTo>
                    <a:pt x="2722" y="657"/>
                  </a:lnTo>
                  <a:lnTo>
                    <a:pt x="2709" y="643"/>
                  </a:lnTo>
                  <a:lnTo>
                    <a:pt x="2687" y="626"/>
                  </a:lnTo>
                  <a:lnTo>
                    <a:pt x="2665" y="604"/>
                  </a:lnTo>
                  <a:lnTo>
                    <a:pt x="2643" y="586"/>
                  </a:lnTo>
                  <a:lnTo>
                    <a:pt x="2616" y="568"/>
                  </a:lnTo>
                  <a:lnTo>
                    <a:pt x="2599" y="555"/>
                  </a:lnTo>
                  <a:lnTo>
                    <a:pt x="2559" y="546"/>
                  </a:lnTo>
                  <a:lnTo>
                    <a:pt x="2515" y="542"/>
                  </a:lnTo>
                  <a:lnTo>
                    <a:pt x="2475" y="537"/>
                  </a:lnTo>
                  <a:lnTo>
                    <a:pt x="2436" y="542"/>
                  </a:lnTo>
                  <a:lnTo>
                    <a:pt x="2392" y="542"/>
                  </a:lnTo>
                  <a:lnTo>
                    <a:pt x="2352" y="551"/>
                  </a:lnTo>
                  <a:lnTo>
                    <a:pt x="2308" y="560"/>
                  </a:lnTo>
                  <a:lnTo>
                    <a:pt x="2268" y="573"/>
                  </a:lnTo>
                  <a:lnTo>
                    <a:pt x="2228" y="586"/>
                  </a:lnTo>
                  <a:lnTo>
                    <a:pt x="2184" y="599"/>
                  </a:lnTo>
                  <a:lnTo>
                    <a:pt x="2144" y="617"/>
                  </a:lnTo>
                  <a:lnTo>
                    <a:pt x="2108" y="635"/>
                  </a:lnTo>
                  <a:lnTo>
                    <a:pt x="2073" y="652"/>
                  </a:lnTo>
                  <a:lnTo>
                    <a:pt x="2038" y="670"/>
                  </a:lnTo>
                  <a:lnTo>
                    <a:pt x="2007" y="687"/>
                  </a:lnTo>
                  <a:lnTo>
                    <a:pt x="1976" y="705"/>
                  </a:lnTo>
                  <a:lnTo>
                    <a:pt x="1976" y="705"/>
                  </a:lnTo>
                  <a:lnTo>
                    <a:pt x="1963" y="709"/>
                  </a:lnTo>
                  <a:lnTo>
                    <a:pt x="1945" y="709"/>
                  </a:lnTo>
                  <a:lnTo>
                    <a:pt x="1928" y="709"/>
                  </a:lnTo>
                  <a:lnTo>
                    <a:pt x="1906" y="714"/>
                  </a:lnTo>
                  <a:lnTo>
                    <a:pt x="1879" y="714"/>
                  </a:lnTo>
                  <a:lnTo>
                    <a:pt x="1853" y="718"/>
                  </a:lnTo>
                  <a:lnTo>
                    <a:pt x="1826" y="718"/>
                  </a:lnTo>
                  <a:lnTo>
                    <a:pt x="1791" y="718"/>
                  </a:lnTo>
                  <a:lnTo>
                    <a:pt x="1747" y="723"/>
                  </a:lnTo>
                  <a:lnTo>
                    <a:pt x="1689" y="732"/>
                  </a:lnTo>
                  <a:lnTo>
                    <a:pt x="1632" y="736"/>
                  </a:lnTo>
                  <a:lnTo>
                    <a:pt x="1575" y="740"/>
                  </a:lnTo>
                  <a:lnTo>
                    <a:pt x="1517" y="745"/>
                  </a:lnTo>
                  <a:lnTo>
                    <a:pt x="1473" y="754"/>
                  </a:lnTo>
                  <a:lnTo>
                    <a:pt x="1438" y="754"/>
                  </a:lnTo>
                  <a:lnTo>
                    <a:pt x="1416" y="749"/>
                  </a:lnTo>
                  <a:lnTo>
                    <a:pt x="1407" y="740"/>
                  </a:lnTo>
                  <a:lnTo>
                    <a:pt x="1407" y="732"/>
                  </a:lnTo>
                  <a:lnTo>
                    <a:pt x="1407" y="718"/>
                  </a:lnTo>
                  <a:lnTo>
                    <a:pt x="1407" y="709"/>
                  </a:lnTo>
                  <a:lnTo>
                    <a:pt x="1398" y="701"/>
                  </a:lnTo>
                  <a:lnTo>
                    <a:pt x="1381" y="692"/>
                  </a:lnTo>
                  <a:lnTo>
                    <a:pt x="1350" y="687"/>
                  </a:lnTo>
                  <a:lnTo>
                    <a:pt x="1323" y="683"/>
                  </a:lnTo>
                  <a:lnTo>
                    <a:pt x="1284" y="661"/>
                  </a:lnTo>
                  <a:lnTo>
                    <a:pt x="1240" y="630"/>
                  </a:lnTo>
                  <a:lnTo>
                    <a:pt x="1187" y="590"/>
                  </a:lnTo>
                  <a:lnTo>
                    <a:pt x="1125" y="542"/>
                  </a:lnTo>
                  <a:lnTo>
                    <a:pt x="1059" y="489"/>
                  </a:lnTo>
                  <a:lnTo>
                    <a:pt x="988" y="427"/>
                  </a:lnTo>
                  <a:lnTo>
                    <a:pt x="918" y="366"/>
                  </a:lnTo>
                  <a:lnTo>
                    <a:pt x="847" y="304"/>
                  </a:lnTo>
                  <a:lnTo>
                    <a:pt x="777" y="246"/>
                  </a:lnTo>
                  <a:lnTo>
                    <a:pt x="709" y="189"/>
                  </a:lnTo>
                  <a:lnTo>
                    <a:pt x="643" y="136"/>
                  </a:lnTo>
                  <a:lnTo>
                    <a:pt x="586" y="88"/>
                  </a:lnTo>
                  <a:lnTo>
                    <a:pt x="537" y="48"/>
                  </a:lnTo>
                  <a:lnTo>
                    <a:pt x="498" y="17"/>
                  </a:lnTo>
                  <a:lnTo>
                    <a:pt x="467" y="0"/>
                  </a:lnTo>
                  <a:lnTo>
                    <a:pt x="445" y="35"/>
                  </a:lnTo>
                  <a:lnTo>
                    <a:pt x="410" y="83"/>
                  </a:lnTo>
                  <a:lnTo>
                    <a:pt x="374" y="141"/>
                  </a:lnTo>
                  <a:lnTo>
                    <a:pt x="335" y="198"/>
                  </a:lnTo>
                  <a:lnTo>
                    <a:pt x="295" y="255"/>
                  </a:lnTo>
                  <a:lnTo>
                    <a:pt x="255" y="304"/>
                  </a:lnTo>
                  <a:lnTo>
                    <a:pt x="229" y="339"/>
                  </a:lnTo>
                  <a:lnTo>
                    <a:pt x="207" y="352"/>
                  </a:lnTo>
                  <a:lnTo>
                    <a:pt x="233" y="379"/>
                  </a:lnTo>
                  <a:lnTo>
                    <a:pt x="273" y="418"/>
                  </a:lnTo>
                  <a:lnTo>
                    <a:pt x="326" y="471"/>
                  </a:lnTo>
                  <a:lnTo>
                    <a:pt x="388" y="533"/>
                  </a:lnTo>
                  <a:lnTo>
                    <a:pt x="463" y="604"/>
                  </a:lnTo>
                  <a:lnTo>
                    <a:pt x="537" y="679"/>
                  </a:lnTo>
                  <a:lnTo>
                    <a:pt x="621" y="758"/>
                  </a:lnTo>
                  <a:lnTo>
                    <a:pt x="709" y="833"/>
                  </a:lnTo>
                  <a:lnTo>
                    <a:pt x="794" y="912"/>
                  </a:lnTo>
                  <a:lnTo>
                    <a:pt x="878" y="983"/>
                  </a:lnTo>
                  <a:lnTo>
                    <a:pt x="957" y="1053"/>
                  </a:lnTo>
                  <a:lnTo>
                    <a:pt x="1032" y="1111"/>
                  </a:lnTo>
                  <a:lnTo>
                    <a:pt x="1099" y="1159"/>
                  </a:lnTo>
                  <a:lnTo>
                    <a:pt x="1156" y="1196"/>
                  </a:lnTo>
                  <a:lnTo>
                    <a:pt x="1204" y="1218"/>
                  </a:lnTo>
                  <a:lnTo>
                    <a:pt x="1231" y="1218"/>
                  </a:lnTo>
                  <a:lnTo>
                    <a:pt x="1196" y="1226"/>
                  </a:lnTo>
                  <a:lnTo>
                    <a:pt x="1147" y="1231"/>
                  </a:lnTo>
                  <a:lnTo>
                    <a:pt x="1085" y="1235"/>
                  </a:lnTo>
                  <a:lnTo>
                    <a:pt x="1024" y="1235"/>
                  </a:lnTo>
                  <a:lnTo>
                    <a:pt x="957" y="1235"/>
                  </a:lnTo>
                  <a:lnTo>
                    <a:pt x="904" y="1235"/>
                  </a:lnTo>
                  <a:lnTo>
                    <a:pt x="865" y="1240"/>
                  </a:lnTo>
                  <a:lnTo>
                    <a:pt x="838" y="1244"/>
                  </a:lnTo>
                  <a:lnTo>
                    <a:pt x="830" y="1235"/>
                  </a:lnTo>
                  <a:lnTo>
                    <a:pt x="807" y="1226"/>
                  </a:lnTo>
                  <a:lnTo>
                    <a:pt x="777" y="1213"/>
                  </a:lnTo>
                  <a:lnTo>
                    <a:pt x="737" y="1196"/>
                  </a:lnTo>
                  <a:lnTo>
                    <a:pt x="692" y="1177"/>
                  </a:lnTo>
                  <a:lnTo>
                    <a:pt x="643" y="1155"/>
                  </a:lnTo>
                  <a:lnTo>
                    <a:pt x="590" y="1128"/>
                  </a:lnTo>
                  <a:lnTo>
                    <a:pt x="533" y="1106"/>
                  </a:lnTo>
                  <a:lnTo>
                    <a:pt x="476" y="1084"/>
                  </a:lnTo>
                  <a:lnTo>
                    <a:pt x="423" y="1062"/>
                  </a:lnTo>
                  <a:lnTo>
                    <a:pt x="370" y="1036"/>
                  </a:lnTo>
                  <a:lnTo>
                    <a:pt x="321" y="1018"/>
                  </a:lnTo>
                  <a:lnTo>
                    <a:pt x="277" y="996"/>
                  </a:lnTo>
                  <a:lnTo>
                    <a:pt x="242" y="978"/>
                  </a:lnTo>
                  <a:lnTo>
                    <a:pt x="216" y="965"/>
                  </a:lnTo>
                  <a:lnTo>
                    <a:pt x="202" y="952"/>
                  </a:lnTo>
                  <a:lnTo>
                    <a:pt x="180" y="983"/>
                  </a:lnTo>
                  <a:lnTo>
                    <a:pt x="149" y="1023"/>
                  </a:lnTo>
                  <a:lnTo>
                    <a:pt x="114" y="1071"/>
                  </a:lnTo>
                  <a:lnTo>
                    <a:pt x="83" y="1128"/>
                  </a:lnTo>
                  <a:lnTo>
                    <a:pt x="52" y="1191"/>
                  </a:lnTo>
                  <a:lnTo>
                    <a:pt x="26" y="1253"/>
                  </a:lnTo>
                  <a:lnTo>
                    <a:pt x="4" y="1315"/>
                  </a:lnTo>
                  <a:lnTo>
                    <a:pt x="0" y="1372"/>
                  </a:lnTo>
                  <a:lnTo>
                    <a:pt x="26" y="1390"/>
                  </a:lnTo>
                  <a:lnTo>
                    <a:pt x="61" y="1403"/>
                  </a:lnTo>
                  <a:lnTo>
                    <a:pt x="97" y="1425"/>
                  </a:lnTo>
                  <a:lnTo>
                    <a:pt x="141" y="1447"/>
                  </a:lnTo>
                  <a:lnTo>
                    <a:pt x="185" y="1469"/>
                  </a:lnTo>
                  <a:lnTo>
                    <a:pt x="233" y="1491"/>
                  </a:lnTo>
                  <a:lnTo>
                    <a:pt x="282" y="1509"/>
                  </a:lnTo>
                  <a:lnTo>
                    <a:pt x="330" y="1535"/>
                  </a:lnTo>
                  <a:lnTo>
                    <a:pt x="379" y="1553"/>
                  </a:lnTo>
                  <a:lnTo>
                    <a:pt x="423" y="1575"/>
                  </a:lnTo>
                  <a:lnTo>
                    <a:pt x="471" y="1592"/>
                  </a:lnTo>
                  <a:lnTo>
                    <a:pt x="511" y="1614"/>
                  </a:lnTo>
                  <a:lnTo>
                    <a:pt x="546" y="1632"/>
                  </a:lnTo>
                  <a:lnTo>
                    <a:pt x="573" y="1645"/>
                  </a:lnTo>
                  <a:lnTo>
                    <a:pt x="599" y="1659"/>
                  </a:lnTo>
                  <a:lnTo>
                    <a:pt x="617" y="1672"/>
                  </a:lnTo>
                  <a:lnTo>
                    <a:pt x="652" y="1689"/>
                  </a:lnTo>
                  <a:lnTo>
                    <a:pt x="701" y="1698"/>
                  </a:lnTo>
                  <a:lnTo>
                    <a:pt x="763" y="1703"/>
                  </a:lnTo>
                  <a:lnTo>
                    <a:pt x="825" y="1707"/>
                  </a:lnTo>
                  <a:lnTo>
                    <a:pt x="882" y="1703"/>
                  </a:lnTo>
                  <a:lnTo>
                    <a:pt x="940" y="1703"/>
                  </a:lnTo>
                  <a:lnTo>
                    <a:pt x="984" y="1698"/>
                  </a:lnTo>
                  <a:lnTo>
                    <a:pt x="1015" y="1689"/>
                  </a:lnTo>
                  <a:lnTo>
                    <a:pt x="993" y="1725"/>
                  </a:lnTo>
                  <a:lnTo>
                    <a:pt x="971" y="1773"/>
                  </a:lnTo>
                  <a:lnTo>
                    <a:pt x="949" y="1826"/>
                  </a:lnTo>
                  <a:lnTo>
                    <a:pt x="922" y="1879"/>
                  </a:lnTo>
                  <a:lnTo>
                    <a:pt x="904" y="1928"/>
                  </a:lnTo>
                  <a:lnTo>
                    <a:pt x="896" y="1976"/>
                  </a:lnTo>
                  <a:lnTo>
                    <a:pt x="882" y="2016"/>
                  </a:lnTo>
                  <a:lnTo>
                    <a:pt x="882" y="2042"/>
                  </a:lnTo>
                  <a:lnTo>
                    <a:pt x="909" y="2055"/>
                  </a:lnTo>
                  <a:lnTo>
                    <a:pt x="940" y="2077"/>
                  </a:lnTo>
                  <a:lnTo>
                    <a:pt x="971" y="2100"/>
                  </a:lnTo>
                  <a:lnTo>
                    <a:pt x="997" y="2117"/>
                  </a:lnTo>
                  <a:lnTo>
                    <a:pt x="1019" y="2135"/>
                  </a:lnTo>
                  <a:lnTo>
                    <a:pt x="1041" y="2148"/>
                  </a:lnTo>
                  <a:lnTo>
                    <a:pt x="1050" y="2161"/>
                  </a:lnTo>
                  <a:lnTo>
                    <a:pt x="1059" y="2166"/>
                  </a:lnTo>
                  <a:lnTo>
                    <a:pt x="1028" y="2236"/>
                  </a:lnTo>
                  <a:lnTo>
                    <a:pt x="1006" y="2302"/>
                  </a:lnTo>
                  <a:lnTo>
                    <a:pt x="1002" y="2351"/>
                  </a:lnTo>
                  <a:lnTo>
                    <a:pt x="997" y="2369"/>
                  </a:lnTo>
                  <a:lnTo>
                    <a:pt x="1570" y="2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2486160" y="1554120"/>
              <a:ext cx="33840" cy="71640"/>
            </a:xfrm>
            <a:custGeom>
              <a:avLst/>
              <a:gdLst/>
              <a:ahLst/>
              <a:rect l="0" t="0" r="r" b="b"/>
              <a:pathLst>
                <a:path w="94" h="199">
                  <a:moveTo>
                    <a:pt x="27" y="199"/>
                  </a:moveTo>
                  <a:lnTo>
                    <a:pt x="13" y="190"/>
                  </a:lnTo>
                  <a:lnTo>
                    <a:pt x="0" y="164"/>
                  </a:lnTo>
                  <a:lnTo>
                    <a:pt x="0" y="133"/>
                  </a:lnTo>
                  <a:lnTo>
                    <a:pt x="0" y="92"/>
                  </a:lnTo>
                  <a:lnTo>
                    <a:pt x="13" y="52"/>
                  </a:lnTo>
                  <a:lnTo>
                    <a:pt x="31" y="26"/>
                  </a:lnTo>
                  <a:lnTo>
                    <a:pt x="49" y="4"/>
                  </a:lnTo>
                  <a:lnTo>
                    <a:pt x="67" y="0"/>
                  </a:lnTo>
                  <a:lnTo>
                    <a:pt x="81" y="8"/>
                  </a:lnTo>
                  <a:lnTo>
                    <a:pt x="90" y="35"/>
                  </a:lnTo>
                  <a:lnTo>
                    <a:pt x="94" y="66"/>
                  </a:lnTo>
                  <a:lnTo>
                    <a:pt x="90" y="111"/>
                  </a:lnTo>
                  <a:lnTo>
                    <a:pt x="81" y="146"/>
                  </a:lnTo>
                  <a:lnTo>
                    <a:pt x="67" y="177"/>
                  </a:lnTo>
                  <a:lnTo>
                    <a:pt x="49" y="195"/>
                  </a:lnTo>
                  <a:lnTo>
                    <a:pt x="27" y="1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473200" y="158580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72" y="72"/>
                  </a:moveTo>
                  <a:lnTo>
                    <a:pt x="27" y="59"/>
                  </a:lnTo>
                  <a:lnTo>
                    <a:pt x="0" y="36"/>
                  </a:lnTo>
                  <a:lnTo>
                    <a:pt x="27" y="13"/>
                  </a:lnTo>
                  <a:lnTo>
                    <a:pt x="72" y="0"/>
                  </a:lnTo>
                  <a:lnTo>
                    <a:pt x="72" y="7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2503440" y="1585800"/>
              <a:ext cx="51120" cy="181440"/>
            </a:xfrm>
            <a:custGeom>
              <a:avLst/>
              <a:gdLst/>
              <a:ahLst/>
              <a:rect l="0" t="0" r="r" b="b"/>
              <a:pathLst>
                <a:path w="142" h="504">
                  <a:moveTo>
                    <a:pt x="137" y="504"/>
                  </a:moveTo>
                  <a:lnTo>
                    <a:pt x="98" y="469"/>
                  </a:lnTo>
                  <a:lnTo>
                    <a:pt x="80" y="407"/>
                  </a:lnTo>
                  <a:lnTo>
                    <a:pt x="80" y="331"/>
                  </a:lnTo>
                  <a:lnTo>
                    <a:pt x="84" y="247"/>
                  </a:lnTo>
                  <a:lnTo>
                    <a:pt x="84" y="168"/>
                  </a:lnTo>
                  <a:lnTo>
                    <a:pt x="75" y="92"/>
                  </a:lnTo>
                  <a:lnTo>
                    <a:pt x="48" y="48"/>
                  </a:lnTo>
                  <a:lnTo>
                    <a:pt x="0" y="26"/>
                  </a:lnTo>
                  <a:lnTo>
                    <a:pt x="0" y="0"/>
                  </a:lnTo>
                  <a:lnTo>
                    <a:pt x="61" y="26"/>
                  </a:lnTo>
                  <a:lnTo>
                    <a:pt x="98" y="88"/>
                  </a:lnTo>
                  <a:lnTo>
                    <a:pt x="111" y="168"/>
                  </a:lnTo>
                  <a:lnTo>
                    <a:pt x="111" y="247"/>
                  </a:lnTo>
                  <a:lnTo>
                    <a:pt x="102" y="331"/>
                  </a:lnTo>
                  <a:lnTo>
                    <a:pt x="102" y="407"/>
                  </a:lnTo>
                  <a:lnTo>
                    <a:pt x="115" y="460"/>
                  </a:lnTo>
                  <a:lnTo>
                    <a:pt x="142" y="478"/>
                  </a:lnTo>
                  <a:lnTo>
                    <a:pt x="137" y="5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2527200" y="1757520"/>
              <a:ext cx="25920" cy="25920"/>
            </a:xfrm>
            <a:custGeom>
              <a:avLst/>
              <a:gdLst/>
              <a:ahLst/>
              <a:rect l="0" t="0" r="r" b="b"/>
              <a:pathLst>
                <a:path w="72" h="72">
                  <a:moveTo>
                    <a:pt x="27" y="0"/>
                  </a:moveTo>
                  <a:lnTo>
                    <a:pt x="72" y="13"/>
                  </a:lnTo>
                  <a:lnTo>
                    <a:pt x="72" y="49"/>
                  </a:lnTo>
                  <a:lnTo>
                    <a:pt x="49" y="59"/>
                  </a:lnTo>
                  <a:lnTo>
                    <a:pt x="0" y="72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9080" bIns="-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1" name=""/>
          <p:cNvSpPr/>
          <p:nvPr/>
        </p:nvSpPr>
        <p:spPr>
          <a:xfrm>
            <a:off x="4981680" y="3730680"/>
            <a:ext cx="3654720" cy="2053080"/>
          </a:xfrm>
          <a:custGeom>
            <a:avLst/>
            <a:gdLst/>
            <a:ahLst/>
            <a:rect l="0" t="0" r="r" b="b"/>
            <a:pathLst>
              <a:path w="10152" h="5703">
                <a:moveTo>
                  <a:pt x="3073" y="5381"/>
                </a:moveTo>
                <a:lnTo>
                  <a:pt x="3038" y="5549"/>
                </a:lnTo>
                <a:lnTo>
                  <a:pt x="3060" y="5615"/>
                </a:lnTo>
                <a:lnTo>
                  <a:pt x="3095" y="5659"/>
                </a:lnTo>
                <a:lnTo>
                  <a:pt x="3219" y="5703"/>
                </a:lnTo>
                <a:lnTo>
                  <a:pt x="3373" y="5646"/>
                </a:lnTo>
                <a:lnTo>
                  <a:pt x="3479" y="5575"/>
                </a:lnTo>
                <a:lnTo>
                  <a:pt x="3580" y="5500"/>
                </a:lnTo>
                <a:lnTo>
                  <a:pt x="3686" y="5425"/>
                </a:lnTo>
                <a:lnTo>
                  <a:pt x="3787" y="5346"/>
                </a:lnTo>
                <a:lnTo>
                  <a:pt x="3893" y="5267"/>
                </a:lnTo>
                <a:lnTo>
                  <a:pt x="3999" y="5183"/>
                </a:lnTo>
                <a:lnTo>
                  <a:pt x="4105" y="5108"/>
                </a:lnTo>
                <a:lnTo>
                  <a:pt x="4211" y="5029"/>
                </a:lnTo>
                <a:lnTo>
                  <a:pt x="4317" y="4954"/>
                </a:lnTo>
                <a:lnTo>
                  <a:pt x="4427" y="4883"/>
                </a:lnTo>
                <a:lnTo>
                  <a:pt x="4537" y="4817"/>
                </a:lnTo>
                <a:lnTo>
                  <a:pt x="4652" y="4751"/>
                </a:lnTo>
                <a:lnTo>
                  <a:pt x="4766" y="4698"/>
                </a:lnTo>
                <a:lnTo>
                  <a:pt x="4885" y="4645"/>
                </a:lnTo>
                <a:lnTo>
                  <a:pt x="5133" y="4574"/>
                </a:lnTo>
                <a:lnTo>
                  <a:pt x="5495" y="4499"/>
                </a:lnTo>
                <a:lnTo>
                  <a:pt x="5874" y="4429"/>
                </a:lnTo>
                <a:lnTo>
                  <a:pt x="6267" y="4354"/>
                </a:lnTo>
                <a:lnTo>
                  <a:pt x="6672" y="4274"/>
                </a:lnTo>
                <a:lnTo>
                  <a:pt x="7078" y="4181"/>
                </a:lnTo>
                <a:lnTo>
                  <a:pt x="7484" y="4079"/>
                </a:lnTo>
                <a:lnTo>
                  <a:pt x="7682" y="4018"/>
                </a:lnTo>
                <a:lnTo>
                  <a:pt x="7876" y="3956"/>
                </a:lnTo>
                <a:lnTo>
                  <a:pt x="8070" y="3885"/>
                </a:lnTo>
                <a:lnTo>
                  <a:pt x="8260" y="3811"/>
                </a:lnTo>
                <a:lnTo>
                  <a:pt x="8445" y="3731"/>
                </a:lnTo>
                <a:lnTo>
                  <a:pt x="8622" y="3647"/>
                </a:lnTo>
                <a:lnTo>
                  <a:pt x="8793" y="3550"/>
                </a:lnTo>
                <a:lnTo>
                  <a:pt x="8961" y="3449"/>
                </a:lnTo>
                <a:lnTo>
                  <a:pt x="9120" y="3343"/>
                </a:lnTo>
                <a:lnTo>
                  <a:pt x="9195" y="3286"/>
                </a:lnTo>
                <a:lnTo>
                  <a:pt x="9270" y="3224"/>
                </a:lnTo>
                <a:lnTo>
                  <a:pt x="9340" y="3158"/>
                </a:lnTo>
                <a:lnTo>
                  <a:pt x="9406" y="3096"/>
                </a:lnTo>
                <a:lnTo>
                  <a:pt x="9477" y="3026"/>
                </a:lnTo>
                <a:lnTo>
                  <a:pt x="9539" y="2959"/>
                </a:lnTo>
                <a:lnTo>
                  <a:pt x="9658" y="2814"/>
                </a:lnTo>
                <a:lnTo>
                  <a:pt x="9772" y="2655"/>
                </a:lnTo>
                <a:lnTo>
                  <a:pt x="9865" y="2492"/>
                </a:lnTo>
                <a:lnTo>
                  <a:pt x="9949" y="2311"/>
                </a:lnTo>
                <a:lnTo>
                  <a:pt x="10019" y="2122"/>
                </a:lnTo>
                <a:lnTo>
                  <a:pt x="10077" y="1923"/>
                </a:lnTo>
                <a:lnTo>
                  <a:pt x="10152" y="1482"/>
                </a:lnTo>
                <a:lnTo>
                  <a:pt x="10125" y="1089"/>
                </a:lnTo>
                <a:lnTo>
                  <a:pt x="10077" y="895"/>
                </a:lnTo>
                <a:lnTo>
                  <a:pt x="10006" y="705"/>
                </a:lnTo>
                <a:lnTo>
                  <a:pt x="9962" y="617"/>
                </a:lnTo>
                <a:lnTo>
                  <a:pt x="9914" y="524"/>
                </a:lnTo>
                <a:lnTo>
                  <a:pt x="9861" y="432"/>
                </a:lnTo>
                <a:lnTo>
                  <a:pt x="9803" y="343"/>
                </a:lnTo>
                <a:lnTo>
                  <a:pt x="9742" y="255"/>
                </a:lnTo>
                <a:lnTo>
                  <a:pt x="9684" y="167"/>
                </a:lnTo>
                <a:lnTo>
                  <a:pt x="9618" y="83"/>
                </a:lnTo>
                <a:lnTo>
                  <a:pt x="9552" y="0"/>
                </a:lnTo>
                <a:lnTo>
                  <a:pt x="1243" y="352"/>
                </a:lnTo>
                <a:lnTo>
                  <a:pt x="1111" y="458"/>
                </a:lnTo>
                <a:lnTo>
                  <a:pt x="987" y="573"/>
                </a:lnTo>
                <a:lnTo>
                  <a:pt x="868" y="679"/>
                </a:lnTo>
                <a:lnTo>
                  <a:pt x="762" y="789"/>
                </a:lnTo>
                <a:lnTo>
                  <a:pt x="661" y="899"/>
                </a:lnTo>
                <a:lnTo>
                  <a:pt x="568" y="1009"/>
                </a:lnTo>
                <a:lnTo>
                  <a:pt x="485" y="1120"/>
                </a:lnTo>
                <a:lnTo>
                  <a:pt x="405" y="1230"/>
                </a:lnTo>
                <a:lnTo>
                  <a:pt x="335" y="1336"/>
                </a:lnTo>
                <a:lnTo>
                  <a:pt x="268" y="1447"/>
                </a:lnTo>
                <a:lnTo>
                  <a:pt x="163" y="1659"/>
                </a:lnTo>
                <a:lnTo>
                  <a:pt x="30" y="2077"/>
                </a:lnTo>
                <a:lnTo>
                  <a:pt x="0" y="2483"/>
                </a:lnTo>
                <a:lnTo>
                  <a:pt x="17" y="2673"/>
                </a:lnTo>
                <a:lnTo>
                  <a:pt x="61" y="2862"/>
                </a:lnTo>
                <a:lnTo>
                  <a:pt x="123" y="3039"/>
                </a:lnTo>
                <a:lnTo>
                  <a:pt x="163" y="3123"/>
                </a:lnTo>
                <a:lnTo>
                  <a:pt x="207" y="3211"/>
                </a:lnTo>
                <a:lnTo>
                  <a:pt x="255" y="3295"/>
                </a:lnTo>
                <a:lnTo>
                  <a:pt x="308" y="3374"/>
                </a:lnTo>
                <a:lnTo>
                  <a:pt x="366" y="3453"/>
                </a:lnTo>
                <a:lnTo>
                  <a:pt x="427" y="3528"/>
                </a:lnTo>
                <a:lnTo>
                  <a:pt x="498" y="3603"/>
                </a:lnTo>
                <a:lnTo>
                  <a:pt x="568" y="3674"/>
                </a:lnTo>
                <a:lnTo>
                  <a:pt x="643" y="3740"/>
                </a:lnTo>
                <a:lnTo>
                  <a:pt x="723" y="3806"/>
                </a:lnTo>
                <a:lnTo>
                  <a:pt x="806" y="3868"/>
                </a:lnTo>
                <a:lnTo>
                  <a:pt x="895" y="3925"/>
                </a:lnTo>
                <a:lnTo>
                  <a:pt x="983" y="3982"/>
                </a:lnTo>
                <a:lnTo>
                  <a:pt x="1075" y="4035"/>
                </a:lnTo>
                <a:lnTo>
                  <a:pt x="1278" y="4132"/>
                </a:lnTo>
                <a:lnTo>
                  <a:pt x="1486" y="4216"/>
                </a:lnTo>
                <a:lnTo>
                  <a:pt x="1710" y="4288"/>
                </a:lnTo>
                <a:lnTo>
                  <a:pt x="1940" y="4345"/>
                </a:lnTo>
                <a:lnTo>
                  <a:pt x="2434" y="4407"/>
                </a:lnTo>
                <a:lnTo>
                  <a:pt x="2958" y="4398"/>
                </a:lnTo>
                <a:lnTo>
                  <a:pt x="3505" y="4319"/>
                </a:lnTo>
                <a:lnTo>
                  <a:pt x="3783" y="4251"/>
                </a:lnTo>
                <a:lnTo>
                  <a:pt x="4065" y="4163"/>
                </a:lnTo>
                <a:lnTo>
                  <a:pt x="3981" y="4305"/>
                </a:lnTo>
                <a:lnTo>
                  <a:pt x="3933" y="4380"/>
                </a:lnTo>
                <a:lnTo>
                  <a:pt x="3884" y="4464"/>
                </a:lnTo>
                <a:lnTo>
                  <a:pt x="3073" y="5381"/>
                </a:lnTo>
                <a:close/>
              </a:path>
            </a:pathLst>
          </a:custGeom>
          <a:solidFill>
            <a:srgbClr val="e5e5e5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373640" y="6480"/>
            <a:ext cx="3445200" cy="1945080"/>
          </a:xfrm>
          <a:custGeom>
            <a:avLst/>
            <a:gdLst/>
            <a:ahLst/>
            <a:rect l="0" t="0" r="r" b="b"/>
            <a:pathLst>
              <a:path w="9570" h="5403">
                <a:moveTo>
                  <a:pt x="1278" y="1036"/>
                </a:moveTo>
                <a:lnTo>
                  <a:pt x="4180" y="61"/>
                </a:lnTo>
                <a:lnTo>
                  <a:pt x="7087" y="0"/>
                </a:lnTo>
                <a:lnTo>
                  <a:pt x="8701" y="634"/>
                </a:lnTo>
                <a:lnTo>
                  <a:pt x="9570" y="1994"/>
                </a:lnTo>
                <a:lnTo>
                  <a:pt x="9018" y="3458"/>
                </a:lnTo>
                <a:lnTo>
                  <a:pt x="8106" y="4349"/>
                </a:lnTo>
                <a:lnTo>
                  <a:pt x="5327" y="5179"/>
                </a:lnTo>
                <a:lnTo>
                  <a:pt x="3682" y="5403"/>
                </a:lnTo>
                <a:lnTo>
                  <a:pt x="2412" y="5231"/>
                </a:lnTo>
                <a:lnTo>
                  <a:pt x="1481" y="5148"/>
                </a:lnTo>
                <a:lnTo>
                  <a:pt x="635" y="4768"/>
                </a:lnTo>
                <a:lnTo>
                  <a:pt x="44" y="4049"/>
                </a:lnTo>
                <a:lnTo>
                  <a:pt x="0" y="2735"/>
                </a:lnTo>
                <a:lnTo>
                  <a:pt x="507" y="1844"/>
                </a:lnTo>
                <a:lnTo>
                  <a:pt x="1278" y="1036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4952880" y="1954080"/>
            <a:ext cx="3651480" cy="2456280"/>
          </a:xfrm>
          <a:custGeom>
            <a:avLst/>
            <a:gdLst/>
            <a:ahLst/>
            <a:rect l="0" t="0" r="r" b="b"/>
            <a:pathLst>
              <a:path w="10143" h="6823">
                <a:moveTo>
                  <a:pt x="4078" y="5276"/>
                </a:moveTo>
                <a:lnTo>
                  <a:pt x="3792" y="5368"/>
                </a:lnTo>
                <a:lnTo>
                  <a:pt x="3514" y="5439"/>
                </a:lnTo>
                <a:lnTo>
                  <a:pt x="3236" y="5487"/>
                </a:lnTo>
                <a:lnTo>
                  <a:pt x="2967" y="5518"/>
                </a:lnTo>
                <a:lnTo>
                  <a:pt x="2438" y="5522"/>
                </a:lnTo>
                <a:lnTo>
                  <a:pt x="1944" y="5465"/>
                </a:lnTo>
                <a:lnTo>
                  <a:pt x="1490" y="5342"/>
                </a:lnTo>
                <a:lnTo>
                  <a:pt x="1274" y="5258"/>
                </a:lnTo>
                <a:lnTo>
                  <a:pt x="1075" y="5161"/>
                </a:lnTo>
                <a:lnTo>
                  <a:pt x="890" y="5050"/>
                </a:lnTo>
                <a:lnTo>
                  <a:pt x="802" y="4992"/>
                </a:lnTo>
                <a:lnTo>
                  <a:pt x="718" y="4926"/>
                </a:lnTo>
                <a:lnTo>
                  <a:pt x="639" y="4864"/>
                </a:lnTo>
                <a:lnTo>
                  <a:pt x="564" y="4794"/>
                </a:lnTo>
                <a:lnTo>
                  <a:pt x="489" y="4723"/>
                </a:lnTo>
                <a:lnTo>
                  <a:pt x="423" y="4653"/>
                </a:lnTo>
                <a:lnTo>
                  <a:pt x="299" y="4498"/>
                </a:lnTo>
                <a:lnTo>
                  <a:pt x="198" y="4335"/>
                </a:lnTo>
                <a:lnTo>
                  <a:pt x="114" y="4163"/>
                </a:lnTo>
                <a:lnTo>
                  <a:pt x="52" y="3982"/>
                </a:lnTo>
                <a:lnTo>
                  <a:pt x="0" y="3603"/>
                </a:lnTo>
                <a:lnTo>
                  <a:pt x="22" y="3202"/>
                </a:lnTo>
                <a:lnTo>
                  <a:pt x="74" y="2995"/>
                </a:lnTo>
                <a:lnTo>
                  <a:pt x="110" y="2884"/>
                </a:lnTo>
                <a:lnTo>
                  <a:pt x="154" y="2783"/>
                </a:lnTo>
                <a:lnTo>
                  <a:pt x="202" y="2673"/>
                </a:lnTo>
                <a:lnTo>
                  <a:pt x="255" y="2567"/>
                </a:lnTo>
                <a:lnTo>
                  <a:pt x="321" y="2457"/>
                </a:lnTo>
                <a:lnTo>
                  <a:pt x="392" y="2346"/>
                </a:lnTo>
                <a:lnTo>
                  <a:pt x="471" y="2241"/>
                </a:lnTo>
                <a:lnTo>
                  <a:pt x="560" y="2130"/>
                </a:lnTo>
                <a:lnTo>
                  <a:pt x="652" y="2020"/>
                </a:lnTo>
                <a:lnTo>
                  <a:pt x="701" y="1967"/>
                </a:lnTo>
                <a:lnTo>
                  <a:pt x="754" y="1910"/>
                </a:lnTo>
                <a:lnTo>
                  <a:pt x="802" y="1857"/>
                </a:lnTo>
                <a:lnTo>
                  <a:pt x="859" y="1804"/>
                </a:lnTo>
                <a:lnTo>
                  <a:pt x="917" y="1747"/>
                </a:lnTo>
                <a:lnTo>
                  <a:pt x="974" y="1688"/>
                </a:lnTo>
                <a:lnTo>
                  <a:pt x="1036" y="1636"/>
                </a:lnTo>
                <a:lnTo>
                  <a:pt x="1102" y="1583"/>
                </a:lnTo>
                <a:lnTo>
                  <a:pt x="1164" y="1530"/>
                </a:lnTo>
                <a:lnTo>
                  <a:pt x="1234" y="1472"/>
                </a:lnTo>
                <a:lnTo>
                  <a:pt x="1318" y="1406"/>
                </a:lnTo>
                <a:lnTo>
                  <a:pt x="1411" y="1340"/>
                </a:lnTo>
                <a:lnTo>
                  <a:pt x="1503" y="1278"/>
                </a:lnTo>
                <a:lnTo>
                  <a:pt x="1600" y="1212"/>
                </a:lnTo>
                <a:lnTo>
                  <a:pt x="1706" y="1150"/>
                </a:lnTo>
                <a:lnTo>
                  <a:pt x="1812" y="1093"/>
                </a:lnTo>
                <a:lnTo>
                  <a:pt x="1918" y="1031"/>
                </a:lnTo>
                <a:lnTo>
                  <a:pt x="2032" y="970"/>
                </a:lnTo>
                <a:lnTo>
                  <a:pt x="2147" y="912"/>
                </a:lnTo>
                <a:lnTo>
                  <a:pt x="2271" y="859"/>
                </a:lnTo>
                <a:lnTo>
                  <a:pt x="2394" y="802"/>
                </a:lnTo>
                <a:lnTo>
                  <a:pt x="2517" y="749"/>
                </a:lnTo>
                <a:lnTo>
                  <a:pt x="2778" y="643"/>
                </a:lnTo>
                <a:lnTo>
                  <a:pt x="3051" y="546"/>
                </a:lnTo>
                <a:lnTo>
                  <a:pt x="3333" y="454"/>
                </a:lnTo>
                <a:lnTo>
                  <a:pt x="3620" y="374"/>
                </a:lnTo>
                <a:lnTo>
                  <a:pt x="3915" y="295"/>
                </a:lnTo>
                <a:lnTo>
                  <a:pt x="4215" y="229"/>
                </a:lnTo>
                <a:lnTo>
                  <a:pt x="4519" y="167"/>
                </a:lnTo>
                <a:lnTo>
                  <a:pt x="4824" y="114"/>
                </a:lnTo>
                <a:lnTo>
                  <a:pt x="5447" y="39"/>
                </a:lnTo>
                <a:lnTo>
                  <a:pt x="6064" y="0"/>
                </a:lnTo>
                <a:lnTo>
                  <a:pt x="6668" y="4"/>
                </a:lnTo>
                <a:lnTo>
                  <a:pt x="7810" y="158"/>
                </a:lnTo>
                <a:lnTo>
                  <a:pt x="8075" y="224"/>
                </a:lnTo>
                <a:lnTo>
                  <a:pt x="8326" y="308"/>
                </a:lnTo>
                <a:lnTo>
                  <a:pt x="8564" y="405"/>
                </a:lnTo>
                <a:lnTo>
                  <a:pt x="8793" y="520"/>
                </a:lnTo>
                <a:lnTo>
                  <a:pt x="8899" y="582"/>
                </a:lnTo>
                <a:lnTo>
                  <a:pt x="9001" y="648"/>
                </a:lnTo>
                <a:lnTo>
                  <a:pt x="9102" y="714"/>
                </a:lnTo>
                <a:lnTo>
                  <a:pt x="9199" y="784"/>
                </a:lnTo>
                <a:lnTo>
                  <a:pt x="9292" y="864"/>
                </a:lnTo>
                <a:lnTo>
                  <a:pt x="9380" y="948"/>
                </a:lnTo>
                <a:lnTo>
                  <a:pt x="9464" y="1031"/>
                </a:lnTo>
                <a:lnTo>
                  <a:pt x="9543" y="1120"/>
                </a:lnTo>
                <a:lnTo>
                  <a:pt x="9609" y="1203"/>
                </a:lnTo>
                <a:lnTo>
                  <a:pt x="9675" y="1287"/>
                </a:lnTo>
                <a:lnTo>
                  <a:pt x="9733" y="1375"/>
                </a:lnTo>
                <a:lnTo>
                  <a:pt x="9794" y="1464"/>
                </a:lnTo>
                <a:lnTo>
                  <a:pt x="9852" y="1552"/>
                </a:lnTo>
                <a:lnTo>
                  <a:pt x="9905" y="1644"/>
                </a:lnTo>
                <a:lnTo>
                  <a:pt x="9997" y="1831"/>
                </a:lnTo>
                <a:lnTo>
                  <a:pt x="10116" y="2210"/>
                </a:lnTo>
                <a:lnTo>
                  <a:pt x="10143" y="2602"/>
                </a:lnTo>
                <a:lnTo>
                  <a:pt x="10112" y="2827"/>
                </a:lnTo>
                <a:lnTo>
                  <a:pt x="10068" y="3043"/>
                </a:lnTo>
                <a:lnTo>
                  <a:pt x="10011" y="3242"/>
                </a:lnTo>
                <a:lnTo>
                  <a:pt x="9940" y="3431"/>
                </a:lnTo>
                <a:lnTo>
                  <a:pt x="9900" y="3524"/>
                </a:lnTo>
                <a:lnTo>
                  <a:pt x="9856" y="3612"/>
                </a:lnTo>
                <a:lnTo>
                  <a:pt x="9808" y="3696"/>
                </a:lnTo>
                <a:lnTo>
                  <a:pt x="9759" y="3775"/>
                </a:lnTo>
                <a:lnTo>
                  <a:pt x="9706" y="3859"/>
                </a:lnTo>
                <a:lnTo>
                  <a:pt x="9649" y="3934"/>
                </a:lnTo>
                <a:lnTo>
                  <a:pt x="9592" y="4009"/>
                </a:lnTo>
                <a:lnTo>
                  <a:pt x="9525" y="4079"/>
                </a:lnTo>
                <a:lnTo>
                  <a:pt x="9468" y="4150"/>
                </a:lnTo>
                <a:lnTo>
                  <a:pt x="9398" y="4216"/>
                </a:lnTo>
                <a:lnTo>
                  <a:pt x="9331" y="4282"/>
                </a:lnTo>
                <a:lnTo>
                  <a:pt x="9261" y="4344"/>
                </a:lnTo>
                <a:lnTo>
                  <a:pt x="9186" y="4401"/>
                </a:lnTo>
                <a:lnTo>
                  <a:pt x="9111" y="4459"/>
                </a:lnTo>
                <a:lnTo>
                  <a:pt x="9027" y="4516"/>
                </a:lnTo>
                <a:lnTo>
                  <a:pt x="8952" y="4569"/>
                </a:lnTo>
                <a:lnTo>
                  <a:pt x="8785" y="4670"/>
                </a:lnTo>
                <a:lnTo>
                  <a:pt x="8613" y="4767"/>
                </a:lnTo>
                <a:lnTo>
                  <a:pt x="8436" y="4851"/>
                </a:lnTo>
                <a:lnTo>
                  <a:pt x="8251" y="4931"/>
                </a:lnTo>
                <a:lnTo>
                  <a:pt x="8061" y="5006"/>
                </a:lnTo>
                <a:lnTo>
                  <a:pt x="7872" y="5072"/>
                </a:lnTo>
                <a:lnTo>
                  <a:pt x="7673" y="5139"/>
                </a:lnTo>
                <a:lnTo>
                  <a:pt x="7475" y="5196"/>
                </a:lnTo>
                <a:lnTo>
                  <a:pt x="7268" y="5253"/>
                </a:lnTo>
                <a:lnTo>
                  <a:pt x="7069" y="5306"/>
                </a:lnTo>
                <a:lnTo>
                  <a:pt x="6664" y="5395"/>
                </a:lnTo>
                <a:lnTo>
                  <a:pt x="6258" y="5474"/>
                </a:lnTo>
                <a:lnTo>
                  <a:pt x="5865" y="5549"/>
                </a:lnTo>
                <a:lnTo>
                  <a:pt x="5486" y="5619"/>
                </a:lnTo>
                <a:lnTo>
                  <a:pt x="5129" y="5694"/>
                </a:lnTo>
                <a:lnTo>
                  <a:pt x="4877" y="5765"/>
                </a:lnTo>
                <a:lnTo>
                  <a:pt x="4643" y="5871"/>
                </a:lnTo>
                <a:lnTo>
                  <a:pt x="4528" y="5933"/>
                </a:lnTo>
                <a:lnTo>
                  <a:pt x="4418" y="6003"/>
                </a:lnTo>
                <a:lnTo>
                  <a:pt x="4308" y="6074"/>
                </a:lnTo>
                <a:lnTo>
                  <a:pt x="4202" y="6149"/>
                </a:lnTo>
                <a:lnTo>
                  <a:pt x="4092" y="6224"/>
                </a:lnTo>
                <a:lnTo>
                  <a:pt x="3986" y="6307"/>
                </a:lnTo>
                <a:lnTo>
                  <a:pt x="3884" y="6382"/>
                </a:lnTo>
                <a:lnTo>
                  <a:pt x="3779" y="6466"/>
                </a:lnTo>
                <a:lnTo>
                  <a:pt x="3673" y="6546"/>
                </a:lnTo>
                <a:lnTo>
                  <a:pt x="3571" y="6620"/>
                </a:lnTo>
                <a:lnTo>
                  <a:pt x="3470" y="6695"/>
                </a:lnTo>
                <a:lnTo>
                  <a:pt x="3364" y="6762"/>
                </a:lnTo>
                <a:lnTo>
                  <a:pt x="3210" y="6823"/>
                </a:lnTo>
                <a:lnTo>
                  <a:pt x="3086" y="6779"/>
                </a:lnTo>
                <a:lnTo>
                  <a:pt x="3029" y="6669"/>
                </a:lnTo>
                <a:lnTo>
                  <a:pt x="3064" y="6501"/>
                </a:lnTo>
                <a:lnTo>
                  <a:pt x="3113" y="6426"/>
                </a:lnTo>
                <a:lnTo>
                  <a:pt x="3197" y="6312"/>
                </a:lnTo>
                <a:lnTo>
                  <a:pt x="3307" y="6180"/>
                </a:lnTo>
                <a:lnTo>
                  <a:pt x="3430" y="6034"/>
                </a:lnTo>
                <a:lnTo>
                  <a:pt x="3558" y="5893"/>
                </a:lnTo>
                <a:lnTo>
                  <a:pt x="3615" y="5831"/>
                </a:lnTo>
                <a:lnTo>
                  <a:pt x="3673" y="5769"/>
                </a:lnTo>
                <a:lnTo>
                  <a:pt x="3774" y="5668"/>
                </a:lnTo>
                <a:lnTo>
                  <a:pt x="3849" y="5602"/>
                </a:lnTo>
                <a:lnTo>
                  <a:pt x="3968" y="5558"/>
                </a:lnTo>
                <a:lnTo>
                  <a:pt x="4056" y="5611"/>
                </a:lnTo>
                <a:lnTo>
                  <a:pt x="4083" y="5708"/>
                </a:lnTo>
                <a:lnTo>
                  <a:pt x="4070" y="5756"/>
                </a:lnTo>
                <a:lnTo>
                  <a:pt x="4030" y="5796"/>
                </a:lnTo>
                <a:lnTo>
                  <a:pt x="4158" y="5730"/>
                </a:lnTo>
                <a:lnTo>
                  <a:pt x="4290" y="5659"/>
                </a:lnTo>
                <a:lnTo>
                  <a:pt x="4422" y="5597"/>
                </a:lnTo>
                <a:lnTo>
                  <a:pt x="4555" y="5545"/>
                </a:lnTo>
                <a:lnTo>
                  <a:pt x="4691" y="5492"/>
                </a:lnTo>
                <a:lnTo>
                  <a:pt x="4833" y="5443"/>
                </a:lnTo>
                <a:lnTo>
                  <a:pt x="5111" y="5355"/>
                </a:lnTo>
                <a:lnTo>
                  <a:pt x="5398" y="5276"/>
                </a:lnTo>
                <a:lnTo>
                  <a:pt x="5689" y="5205"/>
                </a:lnTo>
                <a:lnTo>
                  <a:pt x="5980" y="5139"/>
                </a:lnTo>
                <a:lnTo>
                  <a:pt x="6276" y="5072"/>
                </a:lnTo>
                <a:lnTo>
                  <a:pt x="6575" y="5001"/>
                </a:lnTo>
                <a:lnTo>
                  <a:pt x="6866" y="4926"/>
                </a:lnTo>
                <a:lnTo>
                  <a:pt x="7162" y="4847"/>
                </a:lnTo>
                <a:lnTo>
                  <a:pt x="7444" y="4750"/>
                </a:lnTo>
                <a:lnTo>
                  <a:pt x="7731" y="4644"/>
                </a:lnTo>
                <a:lnTo>
                  <a:pt x="7872" y="4582"/>
                </a:lnTo>
                <a:lnTo>
                  <a:pt x="8009" y="4516"/>
                </a:lnTo>
                <a:lnTo>
                  <a:pt x="8141" y="4446"/>
                </a:lnTo>
                <a:lnTo>
                  <a:pt x="8278" y="4371"/>
                </a:lnTo>
                <a:lnTo>
                  <a:pt x="8410" y="4291"/>
                </a:lnTo>
                <a:lnTo>
                  <a:pt x="8538" y="4203"/>
                </a:lnTo>
                <a:lnTo>
                  <a:pt x="8644" y="4128"/>
                </a:lnTo>
                <a:lnTo>
                  <a:pt x="8745" y="4053"/>
                </a:lnTo>
                <a:lnTo>
                  <a:pt x="8842" y="3974"/>
                </a:lnTo>
                <a:lnTo>
                  <a:pt x="8939" y="3890"/>
                </a:lnTo>
                <a:lnTo>
                  <a:pt x="9027" y="3811"/>
                </a:lnTo>
                <a:lnTo>
                  <a:pt x="9111" y="3722"/>
                </a:lnTo>
                <a:lnTo>
                  <a:pt x="9190" y="3634"/>
                </a:lnTo>
                <a:lnTo>
                  <a:pt x="9265" y="3542"/>
                </a:lnTo>
                <a:lnTo>
                  <a:pt x="9336" y="3449"/>
                </a:lnTo>
                <a:lnTo>
                  <a:pt x="9393" y="3352"/>
                </a:lnTo>
                <a:lnTo>
                  <a:pt x="9499" y="3140"/>
                </a:lnTo>
                <a:lnTo>
                  <a:pt x="9614" y="2651"/>
                </a:lnTo>
                <a:lnTo>
                  <a:pt x="9600" y="2342"/>
                </a:lnTo>
                <a:lnTo>
                  <a:pt x="9570" y="2183"/>
                </a:lnTo>
                <a:lnTo>
                  <a:pt x="9517" y="2020"/>
                </a:lnTo>
                <a:lnTo>
                  <a:pt x="9451" y="1861"/>
                </a:lnTo>
                <a:lnTo>
                  <a:pt x="9371" y="1707"/>
                </a:lnTo>
                <a:lnTo>
                  <a:pt x="9327" y="1631"/>
                </a:lnTo>
                <a:lnTo>
                  <a:pt x="9279" y="1561"/>
                </a:lnTo>
                <a:lnTo>
                  <a:pt x="9182" y="1428"/>
                </a:lnTo>
                <a:lnTo>
                  <a:pt x="9071" y="1300"/>
                </a:lnTo>
                <a:lnTo>
                  <a:pt x="9010" y="1243"/>
                </a:lnTo>
                <a:lnTo>
                  <a:pt x="8943" y="1186"/>
                </a:lnTo>
                <a:lnTo>
                  <a:pt x="8882" y="1137"/>
                </a:lnTo>
                <a:lnTo>
                  <a:pt x="8811" y="1080"/>
                </a:lnTo>
                <a:lnTo>
                  <a:pt x="8666" y="987"/>
                </a:lnTo>
                <a:lnTo>
                  <a:pt x="8516" y="903"/>
                </a:lnTo>
                <a:lnTo>
                  <a:pt x="8353" y="824"/>
                </a:lnTo>
                <a:lnTo>
                  <a:pt x="8185" y="758"/>
                </a:lnTo>
                <a:lnTo>
                  <a:pt x="8004" y="696"/>
                </a:lnTo>
                <a:lnTo>
                  <a:pt x="7823" y="643"/>
                </a:lnTo>
                <a:lnTo>
                  <a:pt x="7634" y="599"/>
                </a:lnTo>
                <a:lnTo>
                  <a:pt x="7237" y="537"/>
                </a:lnTo>
                <a:lnTo>
                  <a:pt x="6412" y="480"/>
                </a:lnTo>
                <a:lnTo>
                  <a:pt x="5566" y="511"/>
                </a:lnTo>
                <a:lnTo>
                  <a:pt x="4744" y="612"/>
                </a:lnTo>
                <a:lnTo>
                  <a:pt x="4356" y="674"/>
                </a:lnTo>
                <a:lnTo>
                  <a:pt x="3995" y="754"/>
                </a:lnTo>
                <a:lnTo>
                  <a:pt x="3660" y="833"/>
                </a:lnTo>
                <a:lnTo>
                  <a:pt x="3355" y="917"/>
                </a:lnTo>
                <a:lnTo>
                  <a:pt x="3130" y="992"/>
                </a:lnTo>
                <a:lnTo>
                  <a:pt x="2910" y="1080"/>
                </a:lnTo>
                <a:lnTo>
                  <a:pt x="2689" y="1181"/>
                </a:lnTo>
                <a:lnTo>
                  <a:pt x="2473" y="1287"/>
                </a:lnTo>
                <a:lnTo>
                  <a:pt x="2368" y="1344"/>
                </a:lnTo>
                <a:lnTo>
                  <a:pt x="2266" y="1406"/>
                </a:lnTo>
                <a:lnTo>
                  <a:pt x="2165" y="1468"/>
                </a:lnTo>
                <a:lnTo>
                  <a:pt x="2059" y="1530"/>
                </a:lnTo>
                <a:lnTo>
                  <a:pt x="1962" y="1600"/>
                </a:lnTo>
                <a:lnTo>
                  <a:pt x="1869" y="1666"/>
                </a:lnTo>
                <a:lnTo>
                  <a:pt x="1772" y="1734"/>
                </a:lnTo>
                <a:lnTo>
                  <a:pt x="1680" y="1808"/>
                </a:lnTo>
                <a:lnTo>
                  <a:pt x="1591" y="1879"/>
                </a:lnTo>
                <a:lnTo>
                  <a:pt x="1503" y="1954"/>
                </a:lnTo>
                <a:lnTo>
                  <a:pt x="1415" y="2029"/>
                </a:lnTo>
                <a:lnTo>
                  <a:pt x="1331" y="2108"/>
                </a:lnTo>
                <a:lnTo>
                  <a:pt x="1252" y="2188"/>
                </a:lnTo>
                <a:lnTo>
                  <a:pt x="1177" y="2267"/>
                </a:lnTo>
                <a:lnTo>
                  <a:pt x="1102" y="2346"/>
                </a:lnTo>
                <a:lnTo>
                  <a:pt x="1031" y="2426"/>
                </a:lnTo>
                <a:lnTo>
                  <a:pt x="961" y="2505"/>
                </a:lnTo>
                <a:lnTo>
                  <a:pt x="899" y="2589"/>
                </a:lnTo>
                <a:lnTo>
                  <a:pt x="837" y="2673"/>
                </a:lnTo>
                <a:lnTo>
                  <a:pt x="780" y="2752"/>
                </a:lnTo>
                <a:lnTo>
                  <a:pt x="727" y="2840"/>
                </a:lnTo>
                <a:lnTo>
                  <a:pt x="674" y="2920"/>
                </a:lnTo>
                <a:lnTo>
                  <a:pt x="586" y="3092"/>
                </a:lnTo>
                <a:lnTo>
                  <a:pt x="515" y="3250"/>
                </a:lnTo>
                <a:lnTo>
                  <a:pt x="463" y="3418"/>
                </a:lnTo>
                <a:lnTo>
                  <a:pt x="410" y="3740"/>
                </a:lnTo>
                <a:lnTo>
                  <a:pt x="436" y="4044"/>
                </a:lnTo>
                <a:lnTo>
                  <a:pt x="485" y="4190"/>
                </a:lnTo>
                <a:lnTo>
                  <a:pt x="555" y="4326"/>
                </a:lnTo>
                <a:lnTo>
                  <a:pt x="648" y="4459"/>
                </a:lnTo>
                <a:lnTo>
                  <a:pt x="705" y="4516"/>
                </a:lnTo>
                <a:lnTo>
                  <a:pt x="767" y="4578"/>
                </a:lnTo>
                <a:lnTo>
                  <a:pt x="837" y="4635"/>
                </a:lnTo>
                <a:lnTo>
                  <a:pt x="912" y="4692"/>
                </a:lnTo>
                <a:lnTo>
                  <a:pt x="992" y="4745"/>
                </a:lnTo>
                <a:lnTo>
                  <a:pt x="1084" y="4794"/>
                </a:lnTo>
                <a:lnTo>
                  <a:pt x="1283" y="4891"/>
                </a:lnTo>
                <a:lnTo>
                  <a:pt x="1512" y="4970"/>
                </a:lnTo>
                <a:lnTo>
                  <a:pt x="1768" y="5041"/>
                </a:lnTo>
                <a:lnTo>
                  <a:pt x="2054" y="5094"/>
                </a:lnTo>
                <a:lnTo>
                  <a:pt x="2557" y="5179"/>
                </a:lnTo>
                <a:lnTo>
                  <a:pt x="3038" y="5236"/>
                </a:lnTo>
                <a:lnTo>
                  <a:pt x="3523" y="5227"/>
                </a:lnTo>
                <a:lnTo>
                  <a:pt x="4017" y="5116"/>
                </a:lnTo>
                <a:lnTo>
                  <a:pt x="4078" y="5276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Rebecca Gramstrup</dc:creator>
  <dc:description/>
  <dc:language>en-US</dc:language>
  <cp:lastModifiedBy>Rebecca Gramstrup</cp:lastModifiedBy>
  <cp:revision>0</cp:revision>
  <dc:subject/>
  <dc:title>No Slide Title</dc:title>
</cp:coreProperties>
</file>