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77862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08775-E958-4F1A-9907-4C3280F405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FB07-7CBD-4899-81D8-64E9927BE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AF72E-153C-4F9F-9FD5-E44B7E96D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2B74-52D0-496B-B851-746CD7F48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B028D-C19C-48A2-B6B1-89D563A3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F0DCD-81E7-47B1-896B-440028654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360A7-ED16-4E10-BD7B-1961D90F5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0EFCE-FE9E-4056-90A5-CE34EEF4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E5FE7-3A1C-4622-905D-1C5DF089B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685AD-C9F8-43CE-8AA9-A361B7855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5DEC-6F5E-4F2A-B928-F83F1A93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03AF-999F-43E4-A0FE-07429A613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F2E57-4B1F-48C8-BB10-C9B09464D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4193B-B3ED-4CC6-B10B-D08F47E3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8117C-4191-4320-8F22-951C20F3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5156A-0B35-44F6-8C43-68C5B7BA0B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A4B86-419A-4666-8A37-BF8B0C2BF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9A2A7-99FA-4782-898F-784F1D2DF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BE0F-F1D3-4E12-A910-4233E4F5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7EA4-17F6-412C-94C0-2ADCD1F19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EC9F-5BF7-459E-B99B-F6CC3FD16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81B9-E865-46B7-BEAF-C556E4BD4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F1A3-DA45-4F16-B910-31CBF2B03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B6586-3FD6-4B2C-80A7-705064A1F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24583-09F3-4651-90B2-52BDCEF746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165800" y="76320"/>
            <a:ext cx="1913040" cy="99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760840"/>
            <a:ext cx="9151920" cy="4113000"/>
            <a:chOff x="0" y="2760840"/>
            <a:chExt cx="9151920" cy="4113000"/>
          </a:xfrm>
        </p:grpSpPr>
        <p:grpSp>
          <p:nvGrpSpPr>
            <p:cNvPr id="43" name=""/>
            <p:cNvGrpSpPr/>
            <p:nvPr/>
          </p:nvGrpSpPr>
          <p:grpSpPr>
            <a:xfrm>
              <a:off x="0" y="5797440"/>
              <a:ext cx="9151920" cy="1076400"/>
              <a:chOff x="0" y="5797440"/>
              <a:chExt cx="9151920" cy="1076400"/>
            </a:xfrm>
          </p:grpSpPr>
          <p:sp>
            <p:nvSpPr>
              <p:cNvPr id="44" name=""/>
              <p:cNvSpPr/>
              <p:nvPr/>
            </p:nvSpPr>
            <p:spPr>
              <a:xfrm>
                <a:off x="0" y="5835600"/>
                <a:ext cx="9150480" cy="1020960"/>
              </a:xfrm>
              <a:prstGeom prst="rect">
                <a:avLst/>
              </a:prstGeom>
              <a:gradFill rotWithShape="0">
                <a:gsLst>
                  <a:gs pos="0">
                    <a:srgbClr val="ff0606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0" y="5797440"/>
                <a:ext cx="9151920" cy="1076400"/>
                <a:chOff x="0" y="5797440"/>
                <a:chExt cx="9151920" cy="107640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87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139392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100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80656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3513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20048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90536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30760" y="5797440"/>
                  <a:ext cx="91944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35652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10100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82640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8577360" y="6072120"/>
                  <a:ext cx="574560" cy="801720"/>
                </a:xfrm>
                <a:custGeom>
                  <a:avLst/>
                  <a:gdLst/>
                  <a:ahLst/>
                  <a:rect l="l" t="t" r="r" b="b"/>
                  <a:pathLst>
                    <a:path w="362" h="505">
                      <a:moveTo>
                        <a:pt x="0" y="504"/>
                      </a:moveTo>
                      <a:lnTo>
                        <a:pt x="361" y="0"/>
                      </a:lnTo>
                      <a:lnTo>
                        <a:pt x="361" y="122"/>
                      </a:lnTo>
                      <a:lnTo>
                        <a:pt x="96" y="504"/>
                      </a:lnTo>
                      <a:lnTo>
                        <a:pt x="0" y="50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" name=""/>
            <p:cNvSpPr/>
            <p:nvPr/>
          </p:nvSpPr>
          <p:spPr>
            <a:xfrm>
              <a:off x="0" y="2760840"/>
              <a:ext cx="819000" cy="1449360"/>
            </a:xfrm>
            <a:custGeom>
              <a:avLst/>
              <a:gdLst/>
              <a:ahLst/>
              <a:rect l="l" t="t" r="r" b="b"/>
              <a:pathLst>
                <a:path w="516" h="913">
                  <a:moveTo>
                    <a:pt x="0" y="0"/>
                  </a:moveTo>
                  <a:lnTo>
                    <a:pt x="515" y="0"/>
                  </a:ln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f060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CE94A-D868-4BC2-B891-C8487C6028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619560" y="2514600"/>
            <a:ext cx="7966440" cy="155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MobilePoint Business Pla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81280" y="6324480"/>
            <a:ext cx="213372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685800" y="1828800"/>
            <a:ext cx="8153280" cy="281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2362320"/>
            <a:ext cx="815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38080" y="40384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33520" y="1219320"/>
            <a:ext cx="816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Revenue Plan - Summa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09480" y="2286000"/>
          <a:ext cx="7925040" cy="3073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2286000"/>
                    <a:ext cx="7925040" cy="307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0" name=""/>
          <p:cNvSpPr/>
          <p:nvPr/>
        </p:nvSpPr>
        <p:spPr>
          <a:xfrm>
            <a:off x="838080" y="1981080"/>
            <a:ext cx="8153640" cy="281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8080" y="2514600"/>
            <a:ext cx="8153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90720" y="4191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85800" y="1828800"/>
            <a:ext cx="8153280" cy="281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362320"/>
            <a:ext cx="8153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38080" y="403848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20" y="762120"/>
            <a:ext cx="816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Expense Mode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1981080"/>
            <a:ext cx="8153640" cy="281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2514600"/>
            <a:ext cx="8153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4191120"/>
            <a:ext cx="77724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2133720"/>
            <a:ext cx="8153280" cy="28191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9000" y="1752480"/>
            <a:ext cx="84103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8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1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st of Licen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0.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0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0.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0.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fessional Servic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.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3.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6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8.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echnical Suppor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0.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0.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.5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4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7.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les &amp; Marketing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5.4          12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1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4.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 &amp; Developme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.8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5.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8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2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&amp; Administrative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.2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2.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3.7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5.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otal Expens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6.3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1.9         25.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43.9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68.1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ings Before Tax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.9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0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4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15.0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3.4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38080" y="1219320"/>
            <a:ext cx="816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8080" y="2049480"/>
            <a:ext cx="7848720" cy="29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Aft>
                <a:spcPts val="451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Dependency on key employ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Aft>
                <a:spcPts val="451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Ability to attract key partn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Aft>
                <a:spcPts val="451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Microsoft confusing marketplace with FU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Aft>
                <a:spcPts val="451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Government regulatory approval for signature capture </a:t>
            </a:r>
            <a:r>
              <a:rPr b="0" lang="en-US" sz="2400" spc="-1" strike="noStrike">
                <a:solidFill>
                  <a:srgbClr val="0000ff"/>
                </a:solidFill>
                <a:latin typeface="Arial Narrow"/>
              </a:rPr>
              <a:t>(Pharmaceuti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Aft>
                <a:spcPts val="451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Aft>
                <a:spcPts val="451"/>
              </a:spcAft>
              <a:buClr>
                <a:srgbClr val="0000ff"/>
              </a:buClr>
              <a:buFont typeface="Arial"/>
              <a:buChar char="•"/>
              <a:tabLst>
                <a:tab algn="l" pos="45720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1042920" y="971640"/>
            <a:ext cx="7058160" cy="491472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2233440" y="1643040"/>
            <a:ext cx="467712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838080" y="1371600"/>
            <a:ext cx="816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Sales Force Automation - The Proble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85800" y="2438280"/>
            <a:ext cx="7924680" cy="348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Aft>
                <a:spcPts val="1400"/>
              </a:spcAft>
              <a:buClr>
                <a:srgbClr val="0000ff"/>
              </a:buClr>
              <a:buFont typeface="Arial"/>
              <a:buChar char="•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Corporations must increase revenues and margins by helping their sales professional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 more qualified prosp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n more ord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65120">
              <a:lnSpc>
                <a:spcPct val="100000"/>
              </a:lnSpc>
              <a:spcAft>
                <a:spcPts val="1749"/>
              </a:spcAft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ep more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How to use technology to do thi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buClr>
                <a:srgbClr val="0000ff"/>
              </a:buClr>
              <a:buFont typeface="Arial"/>
              <a:buChar char="•"/>
              <a:tabLst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st SFA systems are ineffective face-to-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38080" y="1371600"/>
            <a:ext cx="816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Sales Force Automation - The Solu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2438280"/>
            <a:ext cx="7696440" cy="36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obilePoint’s product line addresses this proble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brings the knowledge and power of the enterprise to the mobile professional </a:t>
            </a:r>
            <a:r>
              <a:rPr b="0" i="1" lang="en-US" sz="2800" spc="-1" strike="noStrike">
                <a:solidFill>
                  <a:srgbClr val="0000ff"/>
                </a:solidFill>
                <a:latin typeface="Arial"/>
              </a:rPr>
              <a:t>on a real-time basis</a:t>
            </a: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 at the most critical selling moment: 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in front of the custom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669040" y="3505320"/>
            <a:ext cx="310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alesPoint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™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5334120" y="2743200"/>
            <a:ext cx="3219480" cy="22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914400" y="5105520"/>
            <a:ext cx="7391520" cy="1066680"/>
          </a:xfrm>
          <a:prstGeom prst="rect">
            <a:avLst/>
          </a:prstGeom>
          <a:solidFill>
            <a:srgbClr val="eaeaea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38080" y="1219320"/>
            <a:ext cx="816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Market Opportunit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98108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echnology Enabled Sales Market (TES or SFA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838080" y="2590920"/>
            <a:ext cx="8305920" cy="242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 is a $1.5B market in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 will grow at 50% per year through 2000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1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S is an emerging and vital part of 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1200">
              <a:lnSpc>
                <a:spcPct val="100000"/>
              </a:lnSpc>
              <a:spcAft>
                <a:spcPts val="524"/>
              </a:spcAft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2002, 40% of companies will use I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90720" y="5105520"/>
            <a:ext cx="7467480" cy="10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panies that don’t bring knowledge to the point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ling will be at a competitive disadvantage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- Gartner Grou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457200" y="2895480"/>
          <a:ext cx="3429000" cy="2075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95480"/>
                    <a:ext cx="3429000" cy="207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838080" y="1219320"/>
            <a:ext cx="816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TES, ISS and MobilePoi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3962520" y="2514600"/>
          <a:ext cx="4724280" cy="2816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62520" y="2514600"/>
                    <a:ext cx="4724280" cy="28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3581280" y="541008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bilePoint revenues &gt; $100M by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838080" y="1219320"/>
            <a:ext cx="816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MobilePoint’s Initial Target Marke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98108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Interactive Sales Systems for Direct Reps i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143000" y="3352680"/>
            <a:ext cx="83059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6 of top firms are Pharmaceutical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70,000 total direct reps in top 50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295280" y="449568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ervice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295280" y="274320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anufacturing Organiz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43000" y="5105520"/>
            <a:ext cx="8305920" cy="88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 of top 50 are Financial Services fi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"/>
              <a:buChar char="•"/>
              <a:tabLst>
                <a:tab algn="l" pos="28908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20,000 total direct reps in top 50 compan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838080" y="220968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 Narrow"/>
              <a:buChar char="•"/>
              <a:tabLst>
                <a:tab algn="l" pos="28908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License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 Narrow"/>
              <a:buChar char="•"/>
              <a:tabLst>
                <a:tab algn="l" pos="28908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fessional servic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838080" y="1066680"/>
            <a:ext cx="816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Strateg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120" y="17524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Direct Sales, Channel S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320040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Focused Plan in 1998: 5 Gold Custom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37339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epped Vertical Approa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4800600"/>
            <a:ext cx="861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Key Partnerships with Integrators, SFA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42670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 Narrow"/>
              <a:buChar char="•"/>
              <a:tabLst>
                <a:tab algn="l" pos="28908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nancial Services, Pharmaceutical Sales initi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838080" y="1066680"/>
            <a:ext cx="8161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Competi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914400" y="17524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Paper &amp; pen, traditional catalogs, etc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19320" y="220968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 Narrow"/>
              <a:buChar char="•"/>
              <a:tabLst>
                <a:tab algn="l" pos="28908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Dependent on individual rep’s knowledge of produ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 Narrow"/>
              <a:buChar char="•"/>
              <a:tabLst>
                <a:tab algn="l" pos="28908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Information is not always available when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30481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Traditional SFA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143000" y="3505320"/>
            <a:ext cx="83059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 Narrow"/>
              <a:buChar char="•"/>
              <a:tabLst>
                <a:tab algn="l" pos="28908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omplementary products - but competition for mind sh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51000" indent="-351000">
              <a:lnSpc>
                <a:spcPct val="100000"/>
              </a:lnSpc>
              <a:spcAft>
                <a:spcPts val="300"/>
              </a:spcAft>
              <a:buClr>
                <a:srgbClr val="000000"/>
              </a:buClr>
              <a:buFont typeface="Arial Narrow"/>
              <a:buChar char="•"/>
              <a:tabLst>
                <a:tab algn="l" pos="28908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OMS problem is getting information -- we can hel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441972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Structured (not dynamic) ISS software vend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71600" y="495288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28908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WC, Thinque Systems, Laptop-based configura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14400" y="5410080"/>
            <a:ext cx="8610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Arial"/>
              </a:rPr>
              <a:t>Micr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594360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1000" indent="-351000">
              <a:lnSpc>
                <a:spcPct val="100000"/>
              </a:lnSpc>
              <a:spcAft>
                <a:spcPts val="451"/>
              </a:spcAft>
              <a:buClr>
                <a:srgbClr val="000000"/>
              </a:buClr>
              <a:buFont typeface="Arial Narrow"/>
              <a:buChar char="•"/>
              <a:tabLst>
                <a:tab algn="l" pos="289080"/>
                <a:tab algn="l" pos="5176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WindowsCE PDA IS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533520" y="762120"/>
            <a:ext cx="8161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Narrow"/>
              </a:rPr>
              <a:t>Barriers to Entry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533520" y="1523880"/>
            <a:ext cx="8610480" cy="1397160"/>
            <a:chOff x="533520" y="1523880"/>
            <a:chExt cx="8610480" cy="1397160"/>
          </a:xfrm>
        </p:grpSpPr>
        <p:sp>
          <p:nvSpPr>
            <p:cNvPr id="143" name=""/>
            <p:cNvSpPr/>
            <p:nvPr/>
          </p:nvSpPr>
          <p:spPr>
            <a:xfrm>
              <a:off x="533520" y="1523880"/>
              <a:ext cx="861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49"/>
                </a:spcAft>
                <a:tabLst>
                  <a:tab algn="l" pos="0"/>
                  <a:tab algn="l" pos="517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Technology: Very Difficult to Duplicat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38080" y="2057400"/>
              <a:ext cx="77720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1000" indent="-351000">
                <a:lnSpc>
                  <a:spcPct val="10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289080"/>
                  <a:tab algn="l" pos="517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1.8 million lines of co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1000" indent="-351000">
                <a:lnSpc>
                  <a:spcPct val="10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289080"/>
                  <a:tab algn="l" pos="517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Years of complex integratio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533520" y="2895480"/>
            <a:ext cx="8305560" cy="1425600"/>
            <a:chOff x="533520" y="2895480"/>
            <a:chExt cx="8305560" cy="1425600"/>
          </a:xfrm>
        </p:grpSpPr>
        <p:sp>
          <p:nvSpPr>
            <p:cNvPr id="146" name=""/>
            <p:cNvSpPr/>
            <p:nvPr/>
          </p:nvSpPr>
          <p:spPr>
            <a:xfrm>
              <a:off x="533520" y="2895480"/>
              <a:ext cx="8305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49"/>
                </a:spcAft>
                <a:tabLst>
                  <a:tab algn="l" pos="0"/>
                  <a:tab algn="l" pos="517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Market: Very specialized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827280" y="3457440"/>
              <a:ext cx="74966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1000" indent="-351000">
                <a:lnSpc>
                  <a:spcPct val="10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289080"/>
                  <a:tab algn="l" pos="517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Big companies will 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1000" indent="-351000">
                <a:lnSpc>
                  <a:spcPct val="10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289080"/>
                  <a:tab algn="l" pos="517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Vertical focus in early years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533520" y="4343400"/>
            <a:ext cx="8610480" cy="1397160"/>
            <a:chOff x="533520" y="4343400"/>
            <a:chExt cx="8610480" cy="1397160"/>
          </a:xfrm>
        </p:grpSpPr>
        <p:sp>
          <p:nvSpPr>
            <p:cNvPr id="149" name=""/>
            <p:cNvSpPr/>
            <p:nvPr/>
          </p:nvSpPr>
          <p:spPr>
            <a:xfrm>
              <a:off x="533520" y="4343400"/>
              <a:ext cx="8610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1049"/>
                </a:spcAft>
                <a:tabLst>
                  <a:tab algn="l" pos="0"/>
                  <a:tab algn="l" pos="517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ff"/>
                  </a:solidFill>
                  <a:latin typeface="Arial"/>
                </a:rPr>
                <a:t>Customer Base: Strong and voca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38080" y="4876920"/>
              <a:ext cx="7772040" cy="8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51000" indent="-351000">
                <a:lnSpc>
                  <a:spcPct val="10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289080"/>
                  <a:tab algn="l" pos="517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World-class compani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351000" indent="-351000">
                <a:lnSpc>
                  <a:spcPct val="100000"/>
                </a:lnSpc>
                <a:spcAft>
                  <a:spcPts val="300"/>
                </a:spcAft>
                <a:buClr>
                  <a:srgbClr val="000000"/>
                </a:buClr>
                <a:buFont typeface="Arial"/>
                <a:buChar char="•"/>
                <a:tabLst>
                  <a:tab algn="l" pos="289080"/>
                  <a:tab algn="l" pos="51768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Close to 100% utilization of product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19920" y="2209680"/>
            <a:ext cx="2361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Narrow"/>
              </a:rPr>
              <a:t>Numero</a:t>
            </a:r>
            <a:r>
              <a:rPr b="1" lang="en-US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 Narrow"/>
              </a:rPr>
              <a:t>Perspe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Narrow"/>
              </a:rPr>
              <a:t>GO/EO</a:t>
            </a:r>
            <a:r>
              <a:rPr b="1" lang="en-US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 Narrow"/>
              </a:rPr>
              <a:t>Magic Scri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 Narrow"/>
              </a:rPr>
              <a:t>Gnosis</a:t>
            </a:r>
            <a:r>
              <a:rPr b="1" lang="en-US" sz="18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en-US" sz="1800" spc="-1" strike="noStrike">
                <a:solidFill>
                  <a:srgbClr val="0000ff"/>
                </a:solidFill>
                <a:latin typeface="Arial Narrow"/>
              </a:rPr>
              <a:t>Windows 9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2362320"/>
            <a:ext cx="228600" cy="6858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6960" y="5943600"/>
            <a:ext cx="721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606"/>
                </a:solidFill>
                <a:latin typeface="Arial"/>
              </a:rPr>
              <a:t>MobilePoint has a minimum 1.5 year market l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18:48Z</dcterms:created>
  <dc:creator>Rebecca Gramstrup</dc:creator>
  <dc:description/>
  <dc:language>en-US</dc:language>
  <cp:lastModifiedBy>Tanya Candia</cp:lastModifiedBy>
  <cp:lastPrinted>1997-12-18T00:47:40Z</cp:lastPrinted>
  <dcterms:modified xsi:type="dcterms:W3CDTF">1998-02-18T22:48:40Z</dcterms:modified>
  <cp:revision>158</cp:revision>
  <dc:subject/>
  <dc:title>No Slide Title</dc:title>
</cp:coreProperties>
</file>